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555-2548-411B-B6CA-35E55402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850-F6FA-4B8F-B96A-3E8CD62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127-8C82-4CCB-ADEF-C841DD45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39-6D83-4834-8DB8-00F6C20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48F-3D33-4E82-A570-3215A06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586-A98D-41F7-80EA-5F597DC2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119-70B4-437E-9BBB-0AD8A56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0B7-2066-4F29-976C-D3D85A9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FE7-8F9F-4CA0-A841-54581DC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551-959D-43C7-AC6A-86CD054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544-DB33-4D22-BDB3-67198760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BE0-DBC8-441A-9764-A63D121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B70-1DDB-4AFF-A0A2-74920DC78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beason/Desktop/Part_Two__Identities.as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(se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1643040" y="1490760"/>
            <a:ext cx="482760" cy="54612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4961" y="5234"/>
                </a:moveTo>
                <a:cubicBezTo>
                  <a:pt x="5155" y="5234"/>
                  <a:pt x="5340" y="5242"/>
                  <a:pt x="5531" y="5259"/>
                </a:cubicBezTo>
                <a:cubicBezTo>
                  <a:pt x="5610" y="5266"/>
                  <a:pt x="5829" y="5288"/>
                  <a:pt x="5755" y="5259"/>
                </a:cubicBezTo>
                <a:cubicBezTo>
                  <a:pt x="5622" y="5208"/>
                  <a:pt x="5362" y="5212"/>
                  <a:pt x="5209" y="5209"/>
                </a:cubicBezTo>
                <a:cubicBezTo>
                  <a:pt x="5093" y="5207"/>
                  <a:pt x="4978" y="5209"/>
                  <a:pt x="4862" y="5209"/>
                </a:cubicBezTo>
                <a:cubicBezTo>
                  <a:pt x="4736" y="5251"/>
                  <a:pt x="5071" y="5210"/>
                  <a:pt x="5110" y="5209"/>
                </a:cubicBezTo>
                <a:cubicBezTo>
                  <a:pt x="5282" y="5205"/>
                  <a:pt x="5463" y="5223"/>
                  <a:pt x="5631" y="5259"/>
                </a:cubicBezTo>
                <a:cubicBezTo>
                  <a:pt x="5713" y="5279"/>
                  <a:pt x="5728" y="5287"/>
                  <a:pt x="5779" y="5283"/>
                </a:cubicBezTo>
                <a:cubicBezTo>
                  <a:pt x="5637" y="5316"/>
                  <a:pt x="5505" y="5300"/>
                  <a:pt x="5358" y="5308"/>
                </a:cubicBezTo>
                <a:cubicBezTo>
                  <a:pt x="5152" y="5320"/>
                  <a:pt x="4893" y="5333"/>
                  <a:pt x="4688" y="5383"/>
                </a:cubicBezTo>
                <a:cubicBezTo>
                  <a:pt x="4671" y="5391"/>
                  <a:pt x="4655" y="5399"/>
                  <a:pt x="4638" y="5407"/>
                </a:cubicBezTo>
                <a:cubicBezTo>
                  <a:pt x="4725" y="5459"/>
                  <a:pt x="4880" y="5409"/>
                  <a:pt x="4986" y="5407"/>
                </a:cubicBezTo>
                <a:cubicBezTo>
                  <a:pt x="5217" y="5403"/>
                  <a:pt x="5453" y="5394"/>
                  <a:pt x="5680" y="5432"/>
                </a:cubicBezTo>
                <a:cubicBezTo>
                  <a:pt x="5742" y="5492"/>
                  <a:pt x="5458" y="5448"/>
                  <a:pt x="5358" y="5457"/>
                </a:cubicBezTo>
                <a:cubicBezTo>
                  <a:pt x="5167" y="5474"/>
                  <a:pt x="4970" y="5480"/>
                  <a:pt x="4787" y="5531"/>
                </a:cubicBezTo>
                <a:cubicBezTo>
                  <a:pt x="4906" y="5576"/>
                  <a:pt x="5074" y="5556"/>
                  <a:pt x="5209" y="5556"/>
                </a:cubicBezTo>
                <a:cubicBezTo>
                  <a:pt x="5410" y="5556"/>
                  <a:pt x="5582" y="5583"/>
                  <a:pt x="5779" y="5606"/>
                </a:cubicBezTo>
                <a:cubicBezTo>
                  <a:pt x="5914" y="5622"/>
                  <a:pt x="5924" y="5631"/>
                  <a:pt x="5779" y="5631"/>
                </a:cubicBezTo>
                <a:cubicBezTo>
                  <a:pt x="5579" y="5631"/>
                  <a:pt x="5381" y="5640"/>
                  <a:pt x="5184" y="5655"/>
                </a:cubicBezTo>
                <a:cubicBezTo>
                  <a:pt x="5159" y="5655"/>
                  <a:pt x="5135" y="5655"/>
                  <a:pt x="5110" y="5655"/>
                </a:cubicBezTo>
                <a:cubicBezTo>
                  <a:pt x="5267" y="5625"/>
                  <a:pt x="5423" y="5626"/>
                  <a:pt x="5581" y="5606"/>
                </a:cubicBezTo>
                <a:cubicBezTo>
                  <a:pt x="5688" y="5592"/>
                  <a:pt x="5805" y="5593"/>
                  <a:pt x="5904" y="5556"/>
                </a:cubicBezTo>
              </a:path>
              <a:path w="1341" h="1514">
                <a:moveTo>
                  <a:pt x="4986" y="4217"/>
                </a:moveTo>
                <a:cubicBezTo>
                  <a:pt x="4950" y="4287"/>
                  <a:pt x="4957" y="4396"/>
                  <a:pt x="4936" y="4316"/>
                </a:cubicBezTo>
                <a:cubicBezTo>
                  <a:pt x="4925" y="4275"/>
                  <a:pt x="4919" y="4158"/>
                  <a:pt x="4862" y="4142"/>
                </a:cubicBezTo>
                <a:cubicBezTo>
                  <a:pt x="4805" y="4126"/>
                  <a:pt x="4719" y="4201"/>
                  <a:pt x="4688" y="4242"/>
                </a:cubicBezTo>
                <a:cubicBezTo>
                  <a:pt x="4618" y="4333"/>
                  <a:pt x="4583" y="4453"/>
                  <a:pt x="4564" y="4564"/>
                </a:cubicBezTo>
                <a:cubicBezTo>
                  <a:pt x="4555" y="4619"/>
                  <a:pt x="4567" y="4715"/>
                  <a:pt x="4589" y="4762"/>
                </a:cubicBezTo>
                <a:cubicBezTo>
                  <a:pt x="4621" y="4831"/>
                  <a:pt x="4700" y="4834"/>
                  <a:pt x="4762" y="4837"/>
                </a:cubicBezTo>
                <a:cubicBezTo>
                  <a:pt x="4814" y="4837"/>
                  <a:pt x="4832" y="4835"/>
                  <a:pt x="4837" y="4787"/>
                </a:cubicBezTo>
              </a:path>
              <a:path w="1341" h="1514">
                <a:moveTo>
                  <a:pt x="5184" y="4291"/>
                </a:moveTo>
                <a:cubicBezTo>
                  <a:pt x="5209" y="4316"/>
                  <a:pt x="5217" y="4324"/>
                  <a:pt x="5234" y="4291"/>
                </a:cubicBezTo>
                <a:cubicBezTo>
                  <a:pt x="5182" y="4260"/>
                  <a:pt x="5136" y="4250"/>
                  <a:pt x="5085" y="4291"/>
                </a:cubicBezTo>
                <a:cubicBezTo>
                  <a:pt x="5018" y="4345"/>
                  <a:pt x="5011" y="4355"/>
                  <a:pt x="5035" y="4440"/>
                </a:cubicBezTo>
                <a:cubicBezTo>
                  <a:pt x="5061" y="4532"/>
                  <a:pt x="5137" y="4553"/>
                  <a:pt x="5184" y="4638"/>
                </a:cubicBezTo>
                <a:cubicBezTo>
                  <a:pt x="5228" y="4716"/>
                  <a:pt x="5258" y="4777"/>
                  <a:pt x="5209" y="4862"/>
                </a:cubicBezTo>
                <a:cubicBezTo>
                  <a:pt x="5174" y="4923"/>
                  <a:pt x="5036" y="4893"/>
                  <a:pt x="4986" y="4862"/>
                </a:cubicBezTo>
                <a:cubicBezTo>
                  <a:pt x="4952" y="4828"/>
                  <a:pt x="4943" y="4806"/>
                  <a:pt x="4961" y="4762"/>
                </a:cubicBezTo>
              </a:path>
              <a:path w="1341" h="1514">
                <a:moveTo>
                  <a:pt x="5755" y="4341"/>
                </a:moveTo>
                <a:cubicBezTo>
                  <a:pt x="5735" y="4361"/>
                  <a:pt x="5718" y="4289"/>
                  <a:pt x="5680" y="4242"/>
                </a:cubicBezTo>
                <a:cubicBezTo>
                  <a:pt x="5626" y="4295"/>
                  <a:pt x="5569" y="4329"/>
                  <a:pt x="5531" y="4390"/>
                </a:cubicBezTo>
                <a:cubicBezTo>
                  <a:pt x="5498" y="4443"/>
                  <a:pt x="5389" y="4584"/>
                  <a:pt x="5407" y="4663"/>
                </a:cubicBezTo>
                <a:cubicBezTo>
                  <a:pt x="5432" y="4774"/>
                  <a:pt x="5545" y="4762"/>
                  <a:pt x="5631" y="4762"/>
                </a:cubicBezTo>
                <a:cubicBezTo>
                  <a:pt x="5693" y="4762"/>
                  <a:pt x="5793" y="4755"/>
                  <a:pt x="5854" y="4738"/>
                </a:cubicBezTo>
                <a:cubicBezTo>
                  <a:pt x="5970" y="4706"/>
                  <a:pt x="5859" y="4692"/>
                  <a:pt x="5829" y="46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660240" y="2232000"/>
            <a:ext cx="2071800" cy="903240"/>
          </a:xfrm>
          <a:custGeom>
            <a:avLst/>
            <a:gdLst/>
            <a:ahLst/>
            <a:rect l="l" t="t" r="r" b="b"/>
            <a:pathLst>
              <a:path w="5755" h="2506">
                <a:moveTo>
                  <a:pt x="5308" y="6747"/>
                </a:moveTo>
                <a:cubicBezTo>
                  <a:pt x="5334" y="6682"/>
                  <a:pt x="5311" y="6652"/>
                  <a:pt x="5234" y="6648"/>
                </a:cubicBezTo>
                <a:cubicBezTo>
                  <a:pt x="5156" y="6644"/>
                  <a:pt x="5106" y="6741"/>
                  <a:pt x="5060" y="6796"/>
                </a:cubicBezTo>
                <a:cubicBezTo>
                  <a:pt x="5017" y="6847"/>
                  <a:pt x="4974" y="6952"/>
                  <a:pt x="4961" y="7020"/>
                </a:cubicBezTo>
                <a:cubicBezTo>
                  <a:pt x="4951" y="7073"/>
                  <a:pt x="4991" y="7162"/>
                  <a:pt x="5035" y="7193"/>
                </a:cubicBezTo>
                <a:cubicBezTo>
                  <a:pt x="5082" y="7227"/>
                  <a:pt x="5178" y="7230"/>
                  <a:pt x="5234" y="7218"/>
                </a:cubicBezTo>
                <a:cubicBezTo>
                  <a:pt x="5331" y="7197"/>
                  <a:pt x="5360" y="7160"/>
                  <a:pt x="5432" y="7094"/>
                </a:cubicBezTo>
              </a:path>
              <a:path w="5755" h="2506">
                <a:moveTo>
                  <a:pt x="5606" y="6697"/>
                </a:moveTo>
                <a:cubicBezTo>
                  <a:pt x="5565" y="6772"/>
                  <a:pt x="5523" y="6857"/>
                  <a:pt x="5507" y="6945"/>
                </a:cubicBezTo>
                <a:cubicBezTo>
                  <a:pt x="5495" y="7011"/>
                  <a:pt x="5521" y="7067"/>
                  <a:pt x="5531" y="7119"/>
                </a:cubicBezTo>
                <a:cubicBezTo>
                  <a:pt x="5549" y="7213"/>
                  <a:pt x="5582" y="7202"/>
                  <a:pt x="5655" y="7193"/>
                </a:cubicBezTo>
                <a:cubicBezTo>
                  <a:pt x="5702" y="7187"/>
                  <a:pt x="5770" y="7160"/>
                  <a:pt x="5804" y="7119"/>
                </a:cubicBezTo>
                <a:cubicBezTo>
                  <a:pt x="5875" y="7035"/>
                  <a:pt x="5889" y="6933"/>
                  <a:pt x="5879" y="6846"/>
                </a:cubicBezTo>
                <a:cubicBezTo>
                  <a:pt x="5870" y="6768"/>
                  <a:pt x="5821" y="6737"/>
                  <a:pt x="5755" y="6697"/>
                </a:cubicBezTo>
                <a:cubicBezTo>
                  <a:pt x="5703" y="6666"/>
                  <a:pt x="5664" y="6672"/>
                  <a:pt x="5606" y="6672"/>
                </a:cubicBezTo>
              </a:path>
              <a:path w="5755" h="2506">
                <a:moveTo>
                  <a:pt x="6300" y="6375"/>
                </a:moveTo>
                <a:cubicBezTo>
                  <a:pt x="6300" y="6505"/>
                  <a:pt x="6293" y="6621"/>
                  <a:pt x="6276" y="6747"/>
                </a:cubicBezTo>
                <a:cubicBezTo>
                  <a:pt x="6257" y="6892"/>
                  <a:pt x="6270" y="6961"/>
                  <a:pt x="6276" y="7094"/>
                </a:cubicBezTo>
                <a:cubicBezTo>
                  <a:pt x="6279" y="7161"/>
                  <a:pt x="6283" y="7215"/>
                  <a:pt x="6251" y="7268"/>
                </a:cubicBezTo>
              </a:path>
              <a:path w="5755" h="2506">
                <a:moveTo>
                  <a:pt x="5904" y="6921"/>
                </a:moveTo>
                <a:cubicBezTo>
                  <a:pt x="5994" y="6911"/>
                  <a:pt x="6085" y="6907"/>
                  <a:pt x="6176" y="6896"/>
                </a:cubicBezTo>
                <a:cubicBezTo>
                  <a:pt x="6301" y="6875"/>
                  <a:pt x="6328" y="6874"/>
                  <a:pt x="6400" y="6846"/>
                </a:cubicBezTo>
              </a:path>
              <a:path w="5755" h="2506">
                <a:moveTo>
                  <a:pt x="6548" y="6276"/>
                </a:moveTo>
                <a:cubicBezTo>
                  <a:pt x="6653" y="6229"/>
                  <a:pt x="6737" y="6159"/>
                  <a:pt x="6846" y="6226"/>
                </a:cubicBezTo>
                <a:cubicBezTo>
                  <a:pt x="6941" y="6285"/>
                  <a:pt x="6835" y="6366"/>
                  <a:pt x="6796" y="6400"/>
                </a:cubicBezTo>
                <a:cubicBezTo>
                  <a:pt x="6743" y="6447"/>
                  <a:pt x="6717" y="6498"/>
                  <a:pt x="6672" y="6548"/>
                </a:cubicBezTo>
                <a:cubicBezTo>
                  <a:pt x="6664" y="6556"/>
                  <a:pt x="6656" y="6565"/>
                  <a:pt x="6648" y="6573"/>
                </a:cubicBezTo>
                <a:cubicBezTo>
                  <a:pt x="6723" y="6650"/>
                  <a:pt x="6740" y="6648"/>
                  <a:pt x="6846" y="6648"/>
                </a:cubicBezTo>
                <a:cubicBezTo>
                  <a:pt x="6896" y="6648"/>
                  <a:pt x="6912" y="6648"/>
                  <a:pt x="6945" y="6648"/>
                </a:cubicBezTo>
              </a:path>
              <a:path w="5755" h="2506">
                <a:moveTo>
                  <a:pt x="7119" y="6722"/>
                </a:moveTo>
                <a:cubicBezTo>
                  <a:pt x="7119" y="6866"/>
                  <a:pt x="7097" y="6919"/>
                  <a:pt x="7193" y="7020"/>
                </a:cubicBezTo>
                <a:cubicBezTo>
                  <a:pt x="7256" y="7086"/>
                  <a:pt x="7311" y="7129"/>
                  <a:pt x="7392" y="7169"/>
                </a:cubicBezTo>
                <a:cubicBezTo>
                  <a:pt x="7466" y="7206"/>
                  <a:pt x="7508" y="7218"/>
                  <a:pt x="7590" y="7218"/>
                </a:cubicBezTo>
              </a:path>
              <a:path w="5755" h="2506">
                <a:moveTo>
                  <a:pt x="7541" y="6697"/>
                </a:moveTo>
                <a:cubicBezTo>
                  <a:pt x="7413" y="6824"/>
                  <a:pt x="7283" y="6956"/>
                  <a:pt x="7169" y="7094"/>
                </a:cubicBezTo>
                <a:cubicBezTo>
                  <a:pt x="7104" y="7173"/>
                  <a:pt x="7043" y="7245"/>
                  <a:pt x="6970" y="7317"/>
                </a:cubicBezTo>
              </a:path>
              <a:path w="5755" h="2506">
                <a:moveTo>
                  <a:pt x="2133" y="6623"/>
                </a:moveTo>
                <a:cubicBezTo>
                  <a:pt x="2105" y="6773"/>
                  <a:pt x="2128" y="6893"/>
                  <a:pt x="2133" y="7045"/>
                </a:cubicBezTo>
                <a:cubicBezTo>
                  <a:pt x="2136" y="7119"/>
                  <a:pt x="2143" y="7197"/>
                  <a:pt x="2133" y="7243"/>
                </a:cubicBezTo>
                <a:cubicBezTo>
                  <a:pt x="2133" y="7251"/>
                  <a:pt x="2133" y="7260"/>
                  <a:pt x="2133" y="7268"/>
                </a:cubicBezTo>
              </a:path>
              <a:path w="5755" h="2506">
                <a:moveTo>
                  <a:pt x="1836" y="6821"/>
                </a:moveTo>
                <a:cubicBezTo>
                  <a:pt x="2092" y="6821"/>
                  <a:pt x="2350" y="6831"/>
                  <a:pt x="2604" y="6796"/>
                </a:cubicBezTo>
                <a:cubicBezTo>
                  <a:pt x="2629" y="6788"/>
                  <a:pt x="2654" y="6780"/>
                  <a:pt x="2679" y="6772"/>
                </a:cubicBezTo>
              </a:path>
              <a:path w="5755" h="2506">
                <a:moveTo>
                  <a:pt x="2853" y="6747"/>
                </a:moveTo>
                <a:cubicBezTo>
                  <a:pt x="2793" y="6814"/>
                  <a:pt x="2744" y="6880"/>
                  <a:pt x="2679" y="6945"/>
                </a:cubicBezTo>
                <a:cubicBezTo>
                  <a:pt x="2621" y="7002"/>
                  <a:pt x="2563" y="7093"/>
                  <a:pt x="2555" y="7169"/>
                </a:cubicBezTo>
                <a:cubicBezTo>
                  <a:pt x="2540" y="7305"/>
                  <a:pt x="2657" y="7295"/>
                  <a:pt x="2753" y="7268"/>
                </a:cubicBezTo>
                <a:cubicBezTo>
                  <a:pt x="2823" y="7248"/>
                  <a:pt x="2867" y="7203"/>
                  <a:pt x="2902" y="7144"/>
                </a:cubicBezTo>
                <a:cubicBezTo>
                  <a:pt x="2939" y="7082"/>
                  <a:pt x="2927" y="7015"/>
                  <a:pt x="2927" y="6945"/>
                </a:cubicBezTo>
                <a:cubicBezTo>
                  <a:pt x="2927" y="6929"/>
                  <a:pt x="2927" y="6912"/>
                  <a:pt x="2927" y="6896"/>
                </a:cubicBezTo>
                <a:cubicBezTo>
                  <a:pt x="2887" y="6962"/>
                  <a:pt x="2899" y="7017"/>
                  <a:pt x="2927" y="7094"/>
                </a:cubicBezTo>
                <a:cubicBezTo>
                  <a:pt x="2953" y="7166"/>
                  <a:pt x="2989" y="7270"/>
                  <a:pt x="3076" y="7293"/>
                </a:cubicBezTo>
                <a:cubicBezTo>
                  <a:pt x="3135" y="7293"/>
                  <a:pt x="3161" y="7290"/>
                  <a:pt x="3200" y="7268"/>
                </a:cubicBezTo>
              </a:path>
              <a:path w="5755" h="2506">
                <a:moveTo>
                  <a:pt x="3274" y="6871"/>
                </a:moveTo>
                <a:cubicBezTo>
                  <a:pt x="3290" y="6989"/>
                  <a:pt x="3308" y="7103"/>
                  <a:pt x="3324" y="7218"/>
                </a:cubicBezTo>
                <a:cubicBezTo>
                  <a:pt x="3324" y="7263"/>
                  <a:pt x="3321" y="7276"/>
                  <a:pt x="3349" y="7293"/>
                </a:cubicBezTo>
                <a:cubicBezTo>
                  <a:pt x="3365" y="7218"/>
                  <a:pt x="3353" y="7117"/>
                  <a:pt x="3373" y="7045"/>
                </a:cubicBezTo>
                <a:cubicBezTo>
                  <a:pt x="3391" y="6981"/>
                  <a:pt x="3421" y="6906"/>
                  <a:pt x="3448" y="6846"/>
                </a:cubicBezTo>
                <a:cubicBezTo>
                  <a:pt x="3471" y="6795"/>
                  <a:pt x="3518" y="6727"/>
                  <a:pt x="3572" y="6796"/>
                </a:cubicBezTo>
                <a:cubicBezTo>
                  <a:pt x="3610" y="6845"/>
                  <a:pt x="3636" y="6937"/>
                  <a:pt x="3646" y="6995"/>
                </a:cubicBezTo>
                <a:cubicBezTo>
                  <a:pt x="3656" y="7054"/>
                  <a:pt x="3661" y="7120"/>
                  <a:pt x="3671" y="7169"/>
                </a:cubicBezTo>
                <a:cubicBezTo>
                  <a:pt x="3671" y="7210"/>
                  <a:pt x="3671" y="7234"/>
                  <a:pt x="3671" y="7193"/>
                </a:cubicBezTo>
              </a:path>
              <a:path w="5755" h="2506">
                <a:moveTo>
                  <a:pt x="3646" y="6325"/>
                </a:moveTo>
                <a:cubicBezTo>
                  <a:pt x="3751" y="6251"/>
                  <a:pt x="3852" y="6146"/>
                  <a:pt x="3870" y="6325"/>
                </a:cubicBezTo>
                <a:cubicBezTo>
                  <a:pt x="3878" y="6404"/>
                  <a:pt x="3796" y="6471"/>
                  <a:pt x="3746" y="6524"/>
                </a:cubicBezTo>
                <a:cubicBezTo>
                  <a:pt x="3690" y="6583"/>
                  <a:pt x="3776" y="6613"/>
                  <a:pt x="3820" y="6648"/>
                </a:cubicBezTo>
              </a:path>
              <a:path w="5755" h="2506">
                <a:moveTo>
                  <a:pt x="4068" y="6871"/>
                </a:moveTo>
                <a:cubicBezTo>
                  <a:pt x="4068" y="6985"/>
                  <a:pt x="4050" y="7056"/>
                  <a:pt x="4118" y="7144"/>
                </a:cubicBezTo>
                <a:cubicBezTo>
                  <a:pt x="4158" y="7196"/>
                  <a:pt x="4258" y="7259"/>
                  <a:pt x="4316" y="7293"/>
                </a:cubicBezTo>
                <a:cubicBezTo>
                  <a:pt x="4392" y="7338"/>
                  <a:pt x="4460" y="7314"/>
                  <a:pt x="4539" y="7293"/>
                </a:cubicBezTo>
              </a:path>
              <a:path w="5755" h="2506">
                <a:moveTo>
                  <a:pt x="4440" y="6747"/>
                </a:moveTo>
                <a:cubicBezTo>
                  <a:pt x="4332" y="6886"/>
                  <a:pt x="4240" y="7018"/>
                  <a:pt x="4118" y="7144"/>
                </a:cubicBezTo>
                <a:cubicBezTo>
                  <a:pt x="4066" y="7198"/>
                  <a:pt x="4033" y="7275"/>
                  <a:pt x="3969" y="7317"/>
                </a:cubicBezTo>
                <a:cubicBezTo>
                  <a:pt x="3952" y="7325"/>
                  <a:pt x="3936" y="7334"/>
                  <a:pt x="3919" y="7342"/>
                </a:cubicBezTo>
              </a:path>
              <a:path w="5755" h="2506">
                <a:moveTo>
                  <a:pt x="2877" y="8037"/>
                </a:moveTo>
                <a:cubicBezTo>
                  <a:pt x="2787" y="7963"/>
                  <a:pt x="2755" y="8017"/>
                  <a:pt x="2654" y="8037"/>
                </a:cubicBezTo>
                <a:cubicBezTo>
                  <a:pt x="2585" y="8051"/>
                  <a:pt x="2518" y="8068"/>
                  <a:pt x="2456" y="8111"/>
                </a:cubicBezTo>
                <a:cubicBezTo>
                  <a:pt x="2376" y="8167"/>
                  <a:pt x="2486" y="8237"/>
                  <a:pt x="2530" y="8260"/>
                </a:cubicBezTo>
                <a:cubicBezTo>
                  <a:pt x="2629" y="8312"/>
                  <a:pt x="2731" y="8351"/>
                  <a:pt x="2828" y="8409"/>
                </a:cubicBezTo>
                <a:cubicBezTo>
                  <a:pt x="2911" y="8459"/>
                  <a:pt x="2955" y="8495"/>
                  <a:pt x="2977" y="8582"/>
                </a:cubicBezTo>
                <a:cubicBezTo>
                  <a:pt x="2894" y="8637"/>
                  <a:pt x="2828" y="8632"/>
                  <a:pt x="2729" y="8632"/>
                </a:cubicBezTo>
                <a:cubicBezTo>
                  <a:pt x="2648" y="8632"/>
                  <a:pt x="2569" y="8610"/>
                  <a:pt x="2505" y="8558"/>
                </a:cubicBezTo>
                <a:cubicBezTo>
                  <a:pt x="2477" y="8530"/>
                  <a:pt x="2468" y="8516"/>
                  <a:pt x="2480" y="8483"/>
                </a:cubicBezTo>
              </a:path>
              <a:path w="5755" h="2506">
                <a:moveTo>
                  <a:pt x="3175" y="8136"/>
                </a:moveTo>
                <a:cubicBezTo>
                  <a:pt x="3168" y="8258"/>
                  <a:pt x="3142" y="8368"/>
                  <a:pt x="3125" y="8483"/>
                </a:cubicBezTo>
                <a:cubicBezTo>
                  <a:pt x="3122" y="8504"/>
                  <a:pt x="3150" y="8713"/>
                  <a:pt x="3150" y="8582"/>
                </a:cubicBezTo>
              </a:path>
              <a:path w="5755" h="2506">
                <a:moveTo>
                  <a:pt x="3200" y="7764"/>
                </a:moveTo>
                <a:cubicBezTo>
                  <a:pt x="3222" y="7786"/>
                  <a:pt x="3227" y="7795"/>
                  <a:pt x="3249" y="7789"/>
                </a:cubicBezTo>
              </a:path>
              <a:path w="5755" h="2506">
                <a:moveTo>
                  <a:pt x="3398" y="8706"/>
                </a:moveTo>
                <a:cubicBezTo>
                  <a:pt x="3398" y="8594"/>
                  <a:pt x="3391" y="8491"/>
                  <a:pt x="3423" y="8384"/>
                </a:cubicBezTo>
                <a:cubicBezTo>
                  <a:pt x="3446" y="8308"/>
                  <a:pt x="3495" y="8169"/>
                  <a:pt x="3547" y="8111"/>
                </a:cubicBezTo>
                <a:cubicBezTo>
                  <a:pt x="3623" y="8027"/>
                  <a:pt x="3671" y="8079"/>
                  <a:pt x="3721" y="8136"/>
                </a:cubicBezTo>
                <a:cubicBezTo>
                  <a:pt x="3798" y="8224"/>
                  <a:pt x="3815" y="8294"/>
                  <a:pt x="3820" y="8409"/>
                </a:cubicBezTo>
                <a:cubicBezTo>
                  <a:pt x="3823" y="8479"/>
                  <a:pt x="3845" y="8534"/>
                  <a:pt x="3845" y="8607"/>
                </a:cubicBezTo>
                <a:cubicBezTo>
                  <a:pt x="3845" y="8673"/>
                  <a:pt x="3845" y="8674"/>
                  <a:pt x="3845" y="8558"/>
                </a:cubicBezTo>
              </a:path>
              <a:path w="5755" h="2506">
                <a:moveTo>
                  <a:pt x="4043" y="7665"/>
                </a:moveTo>
                <a:cubicBezTo>
                  <a:pt x="4088" y="7655"/>
                  <a:pt x="4200" y="7634"/>
                  <a:pt x="4217" y="7714"/>
                </a:cubicBezTo>
                <a:cubicBezTo>
                  <a:pt x="4241" y="7826"/>
                  <a:pt x="4191" y="7865"/>
                  <a:pt x="4118" y="7938"/>
                </a:cubicBezTo>
                <a:cubicBezTo>
                  <a:pt x="4085" y="7971"/>
                  <a:pt x="4051" y="8004"/>
                  <a:pt x="4018" y="8037"/>
                </a:cubicBezTo>
                <a:cubicBezTo>
                  <a:pt x="4096" y="8114"/>
                  <a:pt x="4186" y="8086"/>
                  <a:pt x="4291" y="8086"/>
                </a:cubicBezTo>
                <a:cubicBezTo>
                  <a:pt x="4395" y="8086"/>
                  <a:pt x="4485" y="8111"/>
                  <a:pt x="4589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901800" y="2884320"/>
            <a:ext cx="1635120" cy="741600"/>
          </a:xfrm>
          <a:custGeom>
            <a:avLst/>
            <a:gdLst/>
            <a:ahLst/>
            <a:rect l="l" t="t" r="r" b="b"/>
            <a:pathLst>
              <a:path w="4541" h="2060">
                <a:moveTo>
                  <a:pt x="2505" y="8855"/>
                </a:moveTo>
                <a:cubicBezTo>
                  <a:pt x="2699" y="8888"/>
                  <a:pt x="2904" y="8897"/>
                  <a:pt x="3101" y="8905"/>
                </a:cubicBezTo>
                <a:cubicBezTo>
                  <a:pt x="3343" y="8915"/>
                  <a:pt x="3580" y="8909"/>
                  <a:pt x="3820" y="8930"/>
                </a:cubicBezTo>
                <a:cubicBezTo>
                  <a:pt x="3885" y="8936"/>
                  <a:pt x="3953" y="8930"/>
                  <a:pt x="4018" y="8930"/>
                </a:cubicBezTo>
              </a:path>
              <a:path w="4541" h="2060">
                <a:moveTo>
                  <a:pt x="3101" y="9475"/>
                </a:moveTo>
                <a:cubicBezTo>
                  <a:pt x="3101" y="9537"/>
                  <a:pt x="3092" y="9552"/>
                  <a:pt x="3125" y="9575"/>
                </a:cubicBezTo>
                <a:cubicBezTo>
                  <a:pt x="3112" y="9455"/>
                  <a:pt x="3100" y="9413"/>
                  <a:pt x="2977" y="9401"/>
                </a:cubicBezTo>
                <a:cubicBezTo>
                  <a:pt x="2913" y="9395"/>
                  <a:pt x="2837" y="9417"/>
                  <a:pt x="2803" y="9451"/>
                </a:cubicBezTo>
                <a:cubicBezTo>
                  <a:pt x="2741" y="9513"/>
                  <a:pt x="2694" y="9639"/>
                  <a:pt x="2679" y="9723"/>
                </a:cubicBezTo>
                <a:cubicBezTo>
                  <a:pt x="2669" y="9777"/>
                  <a:pt x="2696" y="9901"/>
                  <a:pt x="2729" y="9947"/>
                </a:cubicBezTo>
                <a:cubicBezTo>
                  <a:pt x="2774" y="10010"/>
                  <a:pt x="2853" y="10044"/>
                  <a:pt x="2927" y="10046"/>
                </a:cubicBezTo>
                <a:cubicBezTo>
                  <a:pt x="3033" y="10046"/>
                  <a:pt x="3062" y="10059"/>
                  <a:pt x="3101" y="9996"/>
                </a:cubicBezTo>
              </a:path>
              <a:path w="4541" h="2060">
                <a:moveTo>
                  <a:pt x="3473" y="9525"/>
                </a:moveTo>
                <a:cubicBezTo>
                  <a:pt x="3409" y="9598"/>
                  <a:pt x="3364" y="9684"/>
                  <a:pt x="3324" y="9773"/>
                </a:cubicBezTo>
                <a:cubicBezTo>
                  <a:pt x="3293" y="9842"/>
                  <a:pt x="3277" y="9937"/>
                  <a:pt x="3324" y="9996"/>
                </a:cubicBezTo>
                <a:cubicBezTo>
                  <a:pt x="3377" y="10062"/>
                  <a:pt x="3445" y="10004"/>
                  <a:pt x="3497" y="9971"/>
                </a:cubicBezTo>
                <a:cubicBezTo>
                  <a:pt x="3583" y="9917"/>
                  <a:pt x="3660" y="9862"/>
                  <a:pt x="3646" y="9748"/>
                </a:cubicBezTo>
                <a:cubicBezTo>
                  <a:pt x="3630" y="9616"/>
                  <a:pt x="3614" y="9594"/>
                  <a:pt x="3497" y="9575"/>
                </a:cubicBezTo>
                <a:cubicBezTo>
                  <a:pt x="3439" y="9566"/>
                  <a:pt x="3422" y="9579"/>
                  <a:pt x="3373" y="9550"/>
                </a:cubicBezTo>
              </a:path>
              <a:path w="4541" h="2060">
                <a:moveTo>
                  <a:pt x="3969" y="9451"/>
                </a:moveTo>
                <a:cubicBezTo>
                  <a:pt x="3895" y="9493"/>
                  <a:pt x="3707" y="9555"/>
                  <a:pt x="3696" y="9649"/>
                </a:cubicBezTo>
                <a:cubicBezTo>
                  <a:pt x="3686" y="9731"/>
                  <a:pt x="3792" y="9793"/>
                  <a:pt x="3845" y="9847"/>
                </a:cubicBezTo>
                <a:cubicBezTo>
                  <a:pt x="3901" y="9904"/>
                  <a:pt x="3950" y="9956"/>
                  <a:pt x="3994" y="10021"/>
                </a:cubicBezTo>
                <a:cubicBezTo>
                  <a:pt x="3941" y="10074"/>
                  <a:pt x="3921" y="10071"/>
                  <a:pt x="3845" y="10071"/>
                </a:cubicBezTo>
                <a:cubicBezTo>
                  <a:pt x="3768" y="10071"/>
                  <a:pt x="3704" y="9997"/>
                  <a:pt x="3646" y="9947"/>
                </a:cubicBezTo>
              </a:path>
              <a:path w="4541" h="2060">
                <a:moveTo>
                  <a:pt x="4093" y="9252"/>
                </a:moveTo>
                <a:cubicBezTo>
                  <a:pt x="4141" y="9245"/>
                  <a:pt x="4298" y="9209"/>
                  <a:pt x="4291" y="9327"/>
                </a:cubicBezTo>
                <a:cubicBezTo>
                  <a:pt x="4286" y="9414"/>
                  <a:pt x="4172" y="9432"/>
                  <a:pt x="4118" y="9451"/>
                </a:cubicBezTo>
                <a:cubicBezTo>
                  <a:pt x="4101" y="9459"/>
                  <a:pt x="4085" y="9467"/>
                  <a:pt x="4068" y="9475"/>
                </a:cubicBezTo>
                <a:cubicBezTo>
                  <a:pt x="4186" y="9554"/>
                  <a:pt x="4193" y="9518"/>
                  <a:pt x="4316" y="9475"/>
                </a:cubicBezTo>
                <a:cubicBezTo>
                  <a:pt x="4408" y="9453"/>
                  <a:pt x="4433" y="9447"/>
                  <a:pt x="4490" y="9426"/>
                </a:cubicBezTo>
              </a:path>
              <a:path w="4541" h="2060">
                <a:moveTo>
                  <a:pt x="4911" y="8806"/>
                </a:moveTo>
                <a:cubicBezTo>
                  <a:pt x="4952" y="8806"/>
                  <a:pt x="4994" y="8806"/>
                  <a:pt x="5035" y="8806"/>
                </a:cubicBezTo>
              </a:path>
              <a:path w="4541" h="2060">
                <a:moveTo>
                  <a:pt x="5705" y="8310"/>
                </a:moveTo>
                <a:cubicBezTo>
                  <a:pt x="5607" y="8317"/>
                  <a:pt x="5541" y="8327"/>
                  <a:pt x="5457" y="8384"/>
                </a:cubicBezTo>
                <a:cubicBezTo>
                  <a:pt x="5367" y="8445"/>
                  <a:pt x="5306" y="8498"/>
                  <a:pt x="5283" y="8607"/>
                </a:cubicBezTo>
                <a:cubicBezTo>
                  <a:pt x="5265" y="8691"/>
                  <a:pt x="5285" y="8758"/>
                  <a:pt x="5358" y="8806"/>
                </a:cubicBezTo>
                <a:cubicBezTo>
                  <a:pt x="5436" y="8858"/>
                  <a:pt x="5517" y="8855"/>
                  <a:pt x="5606" y="8855"/>
                </a:cubicBezTo>
                <a:cubicBezTo>
                  <a:pt x="5684" y="8855"/>
                  <a:pt x="5733" y="8854"/>
                  <a:pt x="5804" y="8830"/>
                </a:cubicBezTo>
              </a:path>
              <a:path w="4541" h="2060">
                <a:moveTo>
                  <a:pt x="5978" y="8409"/>
                </a:moveTo>
                <a:cubicBezTo>
                  <a:pt x="5930" y="8490"/>
                  <a:pt x="5837" y="8608"/>
                  <a:pt x="5854" y="8706"/>
                </a:cubicBezTo>
                <a:cubicBezTo>
                  <a:pt x="5870" y="8795"/>
                  <a:pt x="5991" y="8781"/>
                  <a:pt x="6052" y="8781"/>
                </a:cubicBezTo>
                <a:cubicBezTo>
                  <a:pt x="6158" y="8781"/>
                  <a:pt x="6178" y="8762"/>
                  <a:pt x="6226" y="8657"/>
                </a:cubicBezTo>
                <a:cubicBezTo>
                  <a:pt x="6258" y="8586"/>
                  <a:pt x="6273" y="8477"/>
                  <a:pt x="6226" y="8409"/>
                </a:cubicBezTo>
                <a:cubicBezTo>
                  <a:pt x="6168" y="8325"/>
                  <a:pt x="6099" y="8313"/>
                  <a:pt x="6003" y="8310"/>
                </a:cubicBezTo>
                <a:cubicBezTo>
                  <a:pt x="5936" y="8308"/>
                  <a:pt x="5893" y="8326"/>
                  <a:pt x="5829" y="8334"/>
                </a:cubicBezTo>
              </a:path>
              <a:path w="4541" h="2060">
                <a:moveTo>
                  <a:pt x="6648" y="8359"/>
                </a:moveTo>
                <a:cubicBezTo>
                  <a:pt x="6605" y="8367"/>
                  <a:pt x="6378" y="8380"/>
                  <a:pt x="6350" y="8458"/>
                </a:cubicBezTo>
                <a:cubicBezTo>
                  <a:pt x="6315" y="8555"/>
                  <a:pt x="6399" y="8616"/>
                  <a:pt x="6449" y="8682"/>
                </a:cubicBezTo>
                <a:cubicBezTo>
                  <a:pt x="6469" y="8709"/>
                  <a:pt x="6600" y="8844"/>
                  <a:pt x="6598" y="8880"/>
                </a:cubicBezTo>
                <a:cubicBezTo>
                  <a:pt x="6590" y="8897"/>
                  <a:pt x="6581" y="8913"/>
                  <a:pt x="6573" y="8930"/>
                </a:cubicBezTo>
                <a:cubicBezTo>
                  <a:pt x="6492" y="8952"/>
                  <a:pt x="6468" y="8919"/>
                  <a:pt x="6400" y="8855"/>
                </a:cubicBezTo>
                <a:cubicBezTo>
                  <a:pt x="6375" y="8830"/>
                  <a:pt x="6350" y="8806"/>
                  <a:pt x="6325" y="8781"/>
                </a:cubicBezTo>
              </a:path>
              <a:path w="4541" h="2060">
                <a:moveTo>
                  <a:pt x="6697" y="8037"/>
                </a:moveTo>
                <a:cubicBezTo>
                  <a:pt x="6768" y="7994"/>
                  <a:pt x="6800" y="8023"/>
                  <a:pt x="6871" y="8062"/>
                </a:cubicBezTo>
                <a:cubicBezTo>
                  <a:pt x="6923" y="8091"/>
                  <a:pt x="7011" y="8186"/>
                  <a:pt x="6970" y="8260"/>
                </a:cubicBezTo>
                <a:cubicBezTo>
                  <a:pt x="6949" y="8297"/>
                  <a:pt x="6849" y="8297"/>
                  <a:pt x="6821" y="8310"/>
                </a:cubicBezTo>
                <a:cubicBezTo>
                  <a:pt x="6813" y="8318"/>
                  <a:pt x="6804" y="8326"/>
                  <a:pt x="6796" y="8334"/>
                </a:cubicBezTo>
                <a:cubicBezTo>
                  <a:pt x="6852" y="8366"/>
                  <a:pt x="6907" y="8401"/>
                  <a:pt x="6970" y="8409"/>
                </a:cubicBezTo>
                <a:cubicBezTo>
                  <a:pt x="6995" y="8409"/>
                  <a:pt x="7020" y="8409"/>
                  <a:pt x="7045" y="8409"/>
                </a:cubicBezTo>
              </a:path>
              <a:path w="4541" h="2060">
                <a:moveTo>
                  <a:pt x="5383" y="9054"/>
                </a:moveTo>
                <a:cubicBezTo>
                  <a:pt x="5526" y="9083"/>
                  <a:pt x="5659" y="9065"/>
                  <a:pt x="5804" y="9079"/>
                </a:cubicBezTo>
                <a:cubicBezTo>
                  <a:pt x="6053" y="9103"/>
                  <a:pt x="6299" y="9107"/>
                  <a:pt x="6548" y="9128"/>
                </a:cubicBezTo>
                <a:cubicBezTo>
                  <a:pt x="6699" y="9141"/>
                  <a:pt x="6842" y="9153"/>
                  <a:pt x="6995" y="9153"/>
                </a:cubicBezTo>
                <a:cubicBezTo>
                  <a:pt x="7040" y="9153"/>
                  <a:pt x="7060" y="9156"/>
                  <a:pt x="7020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955880" y="4197240"/>
            <a:ext cx="36360" cy="438120"/>
          </a:xfrm>
          <a:custGeom>
            <a:avLst/>
            <a:gdLst/>
            <a:ahLst/>
            <a:rect l="l" t="t" r="r" b="b"/>
            <a:pathLst>
              <a:path w="100" h="1217">
                <a:moveTo>
                  <a:pt x="5531" y="11658"/>
                </a:moveTo>
                <a:cubicBezTo>
                  <a:pt x="5489" y="11907"/>
                  <a:pt x="5444" y="12149"/>
                  <a:pt x="5432" y="12402"/>
                </a:cubicBezTo>
                <a:cubicBezTo>
                  <a:pt x="5425" y="12558"/>
                  <a:pt x="5432" y="12717"/>
                  <a:pt x="5432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009880" y="337500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5879" y="9376"/>
                </a:moveTo>
                <a:cubicBezTo>
                  <a:pt x="5753" y="9433"/>
                  <a:pt x="5676" y="9439"/>
                  <a:pt x="5606" y="9550"/>
                </a:cubicBezTo>
                <a:cubicBezTo>
                  <a:pt x="5598" y="9566"/>
                  <a:pt x="5589" y="9583"/>
                  <a:pt x="5581" y="9599"/>
                </a:cubicBezTo>
                <a:cubicBezTo>
                  <a:pt x="5631" y="9649"/>
                  <a:pt x="5695" y="9715"/>
                  <a:pt x="5755" y="9748"/>
                </a:cubicBezTo>
                <a:cubicBezTo>
                  <a:pt x="5856" y="9803"/>
                  <a:pt x="5941" y="9866"/>
                  <a:pt x="6028" y="9947"/>
                </a:cubicBezTo>
                <a:cubicBezTo>
                  <a:pt x="6088" y="10003"/>
                  <a:pt x="5997" y="10048"/>
                  <a:pt x="5953" y="10071"/>
                </a:cubicBezTo>
                <a:cubicBezTo>
                  <a:pt x="5858" y="10122"/>
                  <a:pt x="5772" y="10097"/>
                  <a:pt x="5680" y="10046"/>
                </a:cubicBezTo>
                <a:cubicBezTo>
                  <a:pt x="5619" y="10012"/>
                  <a:pt x="5627" y="9970"/>
                  <a:pt x="5655" y="9922"/>
                </a:cubicBezTo>
              </a:path>
              <a:path w="2035" h="770">
                <a:moveTo>
                  <a:pt x="6300" y="9847"/>
                </a:moveTo>
                <a:cubicBezTo>
                  <a:pt x="6300" y="9933"/>
                  <a:pt x="6331" y="10151"/>
                  <a:pt x="6300" y="10120"/>
                </a:cubicBezTo>
              </a:path>
              <a:path w="2035" h="770">
                <a:moveTo>
                  <a:pt x="6325" y="9426"/>
                </a:moveTo>
                <a:cubicBezTo>
                  <a:pt x="6350" y="9401"/>
                  <a:pt x="6358" y="9393"/>
                  <a:pt x="6375" y="9426"/>
                </a:cubicBezTo>
              </a:path>
              <a:path w="2035" h="770">
                <a:moveTo>
                  <a:pt x="6548" y="10071"/>
                </a:moveTo>
                <a:cubicBezTo>
                  <a:pt x="6548" y="10210"/>
                  <a:pt x="6548" y="9959"/>
                  <a:pt x="6548" y="9947"/>
                </a:cubicBezTo>
                <a:cubicBezTo>
                  <a:pt x="6548" y="9853"/>
                  <a:pt x="6572" y="9791"/>
                  <a:pt x="6623" y="9723"/>
                </a:cubicBezTo>
                <a:cubicBezTo>
                  <a:pt x="6648" y="9690"/>
                  <a:pt x="6672" y="9657"/>
                  <a:pt x="6697" y="9624"/>
                </a:cubicBezTo>
                <a:cubicBezTo>
                  <a:pt x="6773" y="9671"/>
                  <a:pt x="6859" y="9736"/>
                  <a:pt x="6896" y="9823"/>
                </a:cubicBezTo>
                <a:cubicBezTo>
                  <a:pt x="6922" y="9885"/>
                  <a:pt x="6980" y="10003"/>
                  <a:pt x="6995" y="10071"/>
                </a:cubicBezTo>
                <a:cubicBezTo>
                  <a:pt x="6995" y="10130"/>
                  <a:pt x="6998" y="10137"/>
                  <a:pt x="7020" y="10046"/>
                </a:cubicBezTo>
              </a:path>
              <a:path w="2035" h="770">
                <a:moveTo>
                  <a:pt x="6995" y="9376"/>
                </a:moveTo>
                <a:cubicBezTo>
                  <a:pt x="7043" y="9379"/>
                  <a:pt x="7261" y="9375"/>
                  <a:pt x="7293" y="9451"/>
                </a:cubicBezTo>
                <a:cubicBezTo>
                  <a:pt x="7323" y="9521"/>
                  <a:pt x="7287" y="9580"/>
                  <a:pt x="7243" y="9624"/>
                </a:cubicBezTo>
                <a:cubicBezTo>
                  <a:pt x="7180" y="9686"/>
                  <a:pt x="7247" y="9736"/>
                  <a:pt x="7317" y="9748"/>
                </a:cubicBezTo>
                <a:cubicBezTo>
                  <a:pt x="7418" y="9765"/>
                  <a:pt x="7511" y="9768"/>
                  <a:pt x="7615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Ink 5"/>
          <p:cNvSpPr/>
          <p:nvPr/>
        </p:nvSpPr>
        <p:spPr>
          <a:xfrm>
            <a:off x="2473200" y="1509840"/>
            <a:ext cx="1054080" cy="490320"/>
          </a:xfrm>
          <a:custGeom>
            <a:avLst/>
            <a:gdLst/>
            <a:ahLst/>
            <a:rect l="l" t="t" r="r" b="b"/>
            <a:pathLst>
              <a:path w="2928" h="1365">
                <a:moveTo>
                  <a:pt x="7342" y="5011"/>
                </a:moveTo>
                <a:cubicBezTo>
                  <a:pt x="7364" y="5054"/>
                  <a:pt x="7368" y="5066"/>
                  <a:pt x="7392" y="5085"/>
                </a:cubicBezTo>
                <a:cubicBezTo>
                  <a:pt x="7413" y="5034"/>
                  <a:pt x="7387" y="4944"/>
                  <a:pt x="7342" y="4887"/>
                </a:cubicBezTo>
                <a:cubicBezTo>
                  <a:pt x="7280" y="4809"/>
                  <a:pt x="7252" y="4778"/>
                  <a:pt x="7193" y="4787"/>
                </a:cubicBezTo>
                <a:cubicBezTo>
                  <a:pt x="7100" y="4800"/>
                  <a:pt x="7105" y="4823"/>
                  <a:pt x="7045" y="4887"/>
                </a:cubicBezTo>
                <a:cubicBezTo>
                  <a:pt x="6982" y="4954"/>
                  <a:pt x="6930" y="5023"/>
                  <a:pt x="6896" y="5110"/>
                </a:cubicBezTo>
                <a:cubicBezTo>
                  <a:pt x="6859" y="5203"/>
                  <a:pt x="6864" y="5288"/>
                  <a:pt x="6896" y="5383"/>
                </a:cubicBezTo>
                <a:cubicBezTo>
                  <a:pt x="6929" y="5481"/>
                  <a:pt x="6991" y="5482"/>
                  <a:pt x="7069" y="5507"/>
                </a:cubicBezTo>
                <a:cubicBezTo>
                  <a:pt x="7161" y="5537"/>
                  <a:pt x="7225" y="5537"/>
                  <a:pt x="7317" y="5507"/>
                </a:cubicBezTo>
                <a:cubicBezTo>
                  <a:pt x="7342" y="5499"/>
                  <a:pt x="7367" y="5490"/>
                  <a:pt x="7392" y="5482"/>
                </a:cubicBezTo>
              </a:path>
              <a:path w="2928" h="1365">
                <a:moveTo>
                  <a:pt x="7888" y="5011"/>
                </a:moveTo>
                <a:cubicBezTo>
                  <a:pt x="7867" y="5093"/>
                  <a:pt x="7804" y="5287"/>
                  <a:pt x="7813" y="5383"/>
                </a:cubicBezTo>
                <a:cubicBezTo>
                  <a:pt x="7820" y="5459"/>
                  <a:pt x="7848" y="5497"/>
                  <a:pt x="7913" y="5531"/>
                </a:cubicBezTo>
                <a:cubicBezTo>
                  <a:pt x="7982" y="5568"/>
                  <a:pt x="8048" y="5559"/>
                  <a:pt x="8111" y="5507"/>
                </a:cubicBezTo>
                <a:cubicBezTo>
                  <a:pt x="8194" y="5438"/>
                  <a:pt x="8231" y="5365"/>
                  <a:pt x="8235" y="5259"/>
                </a:cubicBezTo>
                <a:cubicBezTo>
                  <a:pt x="8238" y="5162"/>
                  <a:pt x="8243" y="5047"/>
                  <a:pt x="8186" y="4961"/>
                </a:cubicBezTo>
                <a:cubicBezTo>
                  <a:pt x="8134" y="4883"/>
                  <a:pt x="8069" y="4887"/>
                  <a:pt x="7987" y="4887"/>
                </a:cubicBezTo>
                <a:cubicBezTo>
                  <a:pt x="7905" y="4887"/>
                  <a:pt x="7850" y="4906"/>
                  <a:pt x="7789" y="4961"/>
                </a:cubicBezTo>
                <a:cubicBezTo>
                  <a:pt x="7721" y="5023"/>
                  <a:pt x="7871" y="5055"/>
                  <a:pt x="7962" y="5060"/>
                </a:cubicBezTo>
              </a:path>
              <a:path w="2928" h="1365">
                <a:moveTo>
                  <a:pt x="8632" y="4514"/>
                </a:moveTo>
                <a:cubicBezTo>
                  <a:pt x="8613" y="4646"/>
                  <a:pt x="8595" y="4780"/>
                  <a:pt x="8582" y="4911"/>
                </a:cubicBezTo>
                <a:cubicBezTo>
                  <a:pt x="8572" y="5009"/>
                  <a:pt x="8607" y="5108"/>
                  <a:pt x="8607" y="5209"/>
                </a:cubicBezTo>
                <a:cubicBezTo>
                  <a:pt x="8607" y="5262"/>
                  <a:pt x="8651" y="5424"/>
                  <a:pt x="8607" y="5383"/>
                </a:cubicBezTo>
              </a:path>
              <a:path w="2928" h="1365">
                <a:moveTo>
                  <a:pt x="8310" y="4986"/>
                </a:moveTo>
                <a:cubicBezTo>
                  <a:pt x="8379" y="5028"/>
                  <a:pt x="8473" y="5011"/>
                  <a:pt x="8558" y="5011"/>
                </a:cubicBezTo>
                <a:cubicBezTo>
                  <a:pt x="8672" y="5011"/>
                  <a:pt x="8768" y="5008"/>
                  <a:pt x="8880" y="4986"/>
                </a:cubicBezTo>
              </a:path>
              <a:path w="2928" h="1365">
                <a:moveTo>
                  <a:pt x="9426" y="4316"/>
                </a:moveTo>
                <a:cubicBezTo>
                  <a:pt x="9511" y="4239"/>
                  <a:pt x="9556" y="4198"/>
                  <a:pt x="9674" y="4192"/>
                </a:cubicBezTo>
                <a:cubicBezTo>
                  <a:pt x="9723" y="4192"/>
                  <a:pt x="9740" y="4192"/>
                  <a:pt x="9773" y="4192"/>
                </a:cubicBezTo>
                <a:cubicBezTo>
                  <a:pt x="9793" y="4272"/>
                  <a:pt x="9778" y="4297"/>
                  <a:pt x="9723" y="4366"/>
                </a:cubicBezTo>
                <a:cubicBezTo>
                  <a:pt x="9633" y="4478"/>
                  <a:pt x="9549" y="4516"/>
                  <a:pt x="9451" y="4614"/>
                </a:cubicBezTo>
                <a:cubicBezTo>
                  <a:pt x="9397" y="4668"/>
                  <a:pt x="9335" y="4730"/>
                  <a:pt x="9351" y="4812"/>
                </a:cubicBezTo>
                <a:cubicBezTo>
                  <a:pt x="9371" y="4909"/>
                  <a:pt x="9479" y="4887"/>
                  <a:pt x="9550" y="4887"/>
                </a:cubicBezTo>
                <a:cubicBezTo>
                  <a:pt x="9624" y="4887"/>
                  <a:pt x="9649" y="4887"/>
                  <a:pt x="9699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6"/>
          <p:cNvSpPr/>
          <p:nvPr/>
        </p:nvSpPr>
        <p:spPr>
          <a:xfrm>
            <a:off x="4143240" y="1527120"/>
            <a:ext cx="1384560" cy="500040"/>
          </a:xfrm>
          <a:custGeom>
            <a:avLst/>
            <a:gdLst/>
            <a:ahLst/>
            <a:rect l="l" t="t" r="r" b="b"/>
            <a:pathLst>
              <a:path w="3846" h="1390">
                <a:moveTo>
                  <a:pt x="11807" y="4242"/>
                </a:moveTo>
                <a:cubicBezTo>
                  <a:pt x="11843" y="4301"/>
                  <a:pt x="11832" y="4366"/>
                  <a:pt x="11832" y="4440"/>
                </a:cubicBezTo>
                <a:cubicBezTo>
                  <a:pt x="11832" y="4707"/>
                  <a:pt x="11837" y="4971"/>
                  <a:pt x="11857" y="5234"/>
                </a:cubicBezTo>
                <a:cubicBezTo>
                  <a:pt x="11864" y="5327"/>
                  <a:pt x="11872" y="5415"/>
                  <a:pt x="11881" y="5507"/>
                </a:cubicBezTo>
              </a:path>
              <a:path w="3846" h="1390">
                <a:moveTo>
                  <a:pt x="11509" y="5011"/>
                </a:moveTo>
                <a:cubicBezTo>
                  <a:pt x="11594" y="4962"/>
                  <a:pt x="11660" y="4961"/>
                  <a:pt x="11757" y="4961"/>
                </a:cubicBezTo>
                <a:cubicBezTo>
                  <a:pt x="11865" y="4961"/>
                  <a:pt x="11972" y="4961"/>
                  <a:pt x="12080" y="4961"/>
                </a:cubicBezTo>
              </a:path>
              <a:path w="3846" h="1390">
                <a:moveTo>
                  <a:pt x="12725" y="5159"/>
                </a:moveTo>
                <a:cubicBezTo>
                  <a:pt x="12745" y="5220"/>
                  <a:pt x="12743" y="5256"/>
                  <a:pt x="12774" y="5209"/>
                </a:cubicBezTo>
                <a:cubicBezTo>
                  <a:pt x="12765" y="5133"/>
                  <a:pt x="12735" y="5081"/>
                  <a:pt x="12700" y="5011"/>
                </a:cubicBezTo>
                <a:cubicBezTo>
                  <a:pt x="12654" y="4920"/>
                  <a:pt x="12572" y="4877"/>
                  <a:pt x="12477" y="4936"/>
                </a:cubicBezTo>
                <a:cubicBezTo>
                  <a:pt x="12409" y="4978"/>
                  <a:pt x="12357" y="5062"/>
                  <a:pt x="12328" y="5135"/>
                </a:cubicBezTo>
                <a:cubicBezTo>
                  <a:pt x="12299" y="5209"/>
                  <a:pt x="12239" y="5301"/>
                  <a:pt x="12254" y="5383"/>
                </a:cubicBezTo>
                <a:cubicBezTo>
                  <a:pt x="12271" y="5475"/>
                  <a:pt x="12338" y="5473"/>
                  <a:pt x="12402" y="5457"/>
                </a:cubicBezTo>
                <a:cubicBezTo>
                  <a:pt x="12532" y="5424"/>
                  <a:pt x="12516" y="5374"/>
                  <a:pt x="12601" y="5283"/>
                </a:cubicBezTo>
                <a:cubicBezTo>
                  <a:pt x="12637" y="5245"/>
                  <a:pt x="12704" y="5136"/>
                  <a:pt x="12700" y="5085"/>
                </a:cubicBezTo>
                <a:cubicBezTo>
                  <a:pt x="12692" y="5077"/>
                  <a:pt x="12683" y="5068"/>
                  <a:pt x="12675" y="5060"/>
                </a:cubicBezTo>
                <a:cubicBezTo>
                  <a:pt x="12664" y="5144"/>
                  <a:pt x="12650" y="5218"/>
                  <a:pt x="12650" y="5308"/>
                </a:cubicBezTo>
                <a:cubicBezTo>
                  <a:pt x="12650" y="5380"/>
                  <a:pt x="12677" y="5409"/>
                  <a:pt x="12725" y="5457"/>
                </a:cubicBezTo>
                <a:cubicBezTo>
                  <a:pt x="12787" y="5519"/>
                  <a:pt x="12840" y="5527"/>
                  <a:pt x="12923" y="5482"/>
                </a:cubicBezTo>
                <a:cubicBezTo>
                  <a:pt x="12953" y="5466"/>
                  <a:pt x="13001" y="5404"/>
                  <a:pt x="13022" y="5383"/>
                </a:cubicBezTo>
              </a:path>
              <a:path w="3846" h="1390">
                <a:moveTo>
                  <a:pt x="13072" y="5035"/>
                </a:moveTo>
                <a:cubicBezTo>
                  <a:pt x="13034" y="5161"/>
                  <a:pt x="13022" y="5212"/>
                  <a:pt x="13022" y="5333"/>
                </a:cubicBezTo>
                <a:cubicBezTo>
                  <a:pt x="13022" y="5390"/>
                  <a:pt x="13023" y="5460"/>
                  <a:pt x="13047" y="5507"/>
                </a:cubicBezTo>
                <a:cubicBezTo>
                  <a:pt x="13055" y="5515"/>
                  <a:pt x="13064" y="5523"/>
                  <a:pt x="13072" y="5531"/>
                </a:cubicBezTo>
                <a:cubicBezTo>
                  <a:pt x="13072" y="5410"/>
                  <a:pt x="13082" y="5297"/>
                  <a:pt x="13097" y="5184"/>
                </a:cubicBezTo>
                <a:cubicBezTo>
                  <a:pt x="13110" y="5089"/>
                  <a:pt x="13126" y="5060"/>
                  <a:pt x="13196" y="4986"/>
                </a:cubicBezTo>
                <a:cubicBezTo>
                  <a:pt x="13253" y="4925"/>
                  <a:pt x="13302" y="4882"/>
                  <a:pt x="13395" y="4911"/>
                </a:cubicBezTo>
                <a:cubicBezTo>
                  <a:pt x="13448" y="4928"/>
                  <a:pt x="13467" y="5042"/>
                  <a:pt x="13469" y="5085"/>
                </a:cubicBezTo>
                <a:cubicBezTo>
                  <a:pt x="13476" y="5212"/>
                  <a:pt x="13429" y="5567"/>
                  <a:pt x="13494" y="5457"/>
                </a:cubicBezTo>
                <a:cubicBezTo>
                  <a:pt x="13494" y="5440"/>
                  <a:pt x="13494" y="5424"/>
                  <a:pt x="13494" y="5407"/>
                </a:cubicBezTo>
              </a:path>
              <a:path w="3846" h="1390">
                <a:moveTo>
                  <a:pt x="13791" y="4366"/>
                </a:moveTo>
                <a:cubicBezTo>
                  <a:pt x="13861" y="4317"/>
                  <a:pt x="13904" y="4270"/>
                  <a:pt x="13990" y="4266"/>
                </a:cubicBezTo>
                <a:cubicBezTo>
                  <a:pt x="14115" y="4261"/>
                  <a:pt x="14103" y="4347"/>
                  <a:pt x="14064" y="4440"/>
                </a:cubicBezTo>
                <a:cubicBezTo>
                  <a:pt x="14042" y="4492"/>
                  <a:pt x="14015" y="4557"/>
                  <a:pt x="13965" y="4589"/>
                </a:cubicBezTo>
                <a:cubicBezTo>
                  <a:pt x="13906" y="4627"/>
                  <a:pt x="13863" y="4657"/>
                  <a:pt x="13891" y="4713"/>
                </a:cubicBezTo>
                <a:cubicBezTo>
                  <a:pt x="13981" y="4752"/>
                  <a:pt x="14026" y="4725"/>
                  <a:pt x="14114" y="4713"/>
                </a:cubicBezTo>
                <a:cubicBezTo>
                  <a:pt x="14139" y="4713"/>
                  <a:pt x="14163" y="4713"/>
                  <a:pt x="14188" y="4713"/>
                </a:cubicBezTo>
              </a:path>
              <a:path w="3846" h="1390">
                <a:moveTo>
                  <a:pt x="14709" y="4862"/>
                </a:moveTo>
                <a:cubicBezTo>
                  <a:pt x="14709" y="4944"/>
                  <a:pt x="14701" y="5011"/>
                  <a:pt x="14734" y="5085"/>
                </a:cubicBezTo>
                <a:cubicBezTo>
                  <a:pt x="14765" y="5155"/>
                  <a:pt x="14785" y="5247"/>
                  <a:pt x="14833" y="5308"/>
                </a:cubicBezTo>
                <a:cubicBezTo>
                  <a:pt x="14901" y="5395"/>
                  <a:pt x="14984" y="5502"/>
                  <a:pt x="15081" y="5556"/>
                </a:cubicBezTo>
                <a:cubicBezTo>
                  <a:pt x="15116" y="5576"/>
                  <a:pt x="15240" y="5636"/>
                  <a:pt x="15280" y="5631"/>
                </a:cubicBezTo>
                <a:cubicBezTo>
                  <a:pt x="15323" y="5609"/>
                  <a:pt x="15335" y="5605"/>
                  <a:pt x="15354" y="5581"/>
                </a:cubicBezTo>
              </a:path>
              <a:path w="3846" h="1390">
                <a:moveTo>
                  <a:pt x="15106" y="4862"/>
                </a:moveTo>
                <a:cubicBezTo>
                  <a:pt x="14952" y="4982"/>
                  <a:pt x="14807" y="5106"/>
                  <a:pt x="14660" y="5234"/>
                </a:cubicBezTo>
                <a:cubicBezTo>
                  <a:pt x="14574" y="5310"/>
                  <a:pt x="14487" y="5404"/>
                  <a:pt x="14387" y="5457"/>
                </a:cubicBezTo>
                <a:cubicBezTo>
                  <a:pt x="14289" y="5497"/>
                  <a:pt x="14275" y="5513"/>
                  <a:pt x="14213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7"/>
          <p:cNvSpPr/>
          <p:nvPr/>
        </p:nvSpPr>
        <p:spPr>
          <a:xfrm>
            <a:off x="6375240" y="1839960"/>
            <a:ext cx="233640" cy="81000"/>
          </a:xfrm>
          <a:custGeom>
            <a:avLst/>
            <a:gdLst/>
            <a:ahLst/>
            <a:rect l="l" t="t" r="r" b="b"/>
            <a:pathLst>
              <a:path w="645" h="224">
                <a:moveTo>
                  <a:pt x="17711" y="5135"/>
                </a:moveTo>
                <a:cubicBezTo>
                  <a:pt x="17788" y="5106"/>
                  <a:pt x="17849" y="5110"/>
                  <a:pt x="17934" y="5110"/>
                </a:cubicBezTo>
                <a:cubicBezTo>
                  <a:pt x="18074" y="5110"/>
                  <a:pt x="18215" y="5110"/>
                  <a:pt x="18355" y="5110"/>
                </a:cubicBezTo>
              </a:path>
              <a:path w="645" h="224">
                <a:moveTo>
                  <a:pt x="17760" y="5308"/>
                </a:moveTo>
                <a:cubicBezTo>
                  <a:pt x="17886" y="5330"/>
                  <a:pt x="18003" y="5333"/>
                  <a:pt x="18132" y="5333"/>
                </a:cubicBezTo>
                <a:cubicBezTo>
                  <a:pt x="18190" y="5333"/>
                  <a:pt x="18215" y="5333"/>
                  <a:pt x="18256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8"/>
          <p:cNvSpPr/>
          <p:nvPr/>
        </p:nvSpPr>
        <p:spPr>
          <a:xfrm>
            <a:off x="6902280" y="1625760"/>
            <a:ext cx="9720" cy="428400"/>
          </a:xfrm>
          <a:custGeom>
            <a:avLst/>
            <a:gdLst/>
            <a:ahLst/>
            <a:rect l="l" t="t" r="r" b="b"/>
            <a:pathLst>
              <a:path w="26" h="1192">
                <a:moveTo>
                  <a:pt x="19199" y="4514"/>
                </a:moveTo>
                <a:cubicBezTo>
                  <a:pt x="19199" y="4600"/>
                  <a:pt x="19179" y="4680"/>
                  <a:pt x="19174" y="4762"/>
                </a:cubicBezTo>
                <a:cubicBezTo>
                  <a:pt x="19156" y="5037"/>
                  <a:pt x="19160" y="5337"/>
                  <a:pt x="19199" y="5606"/>
                </a:cubicBezTo>
                <a:cubicBezTo>
                  <a:pt x="19199" y="5655"/>
                  <a:pt x="19199" y="5672"/>
                  <a:pt x="19199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9"/>
          <p:cNvSpPr/>
          <p:nvPr/>
        </p:nvSpPr>
        <p:spPr>
          <a:xfrm>
            <a:off x="3081240" y="1768320"/>
            <a:ext cx="892440" cy="1276560"/>
          </a:xfrm>
          <a:custGeom>
            <a:avLst/>
            <a:gdLst/>
            <a:ahLst/>
            <a:rect l="l" t="t" r="r" b="b"/>
            <a:pathLst>
              <a:path w="2481" h="3548">
                <a:moveTo>
                  <a:pt x="10170" y="4936"/>
                </a:moveTo>
                <a:cubicBezTo>
                  <a:pt x="10195" y="5125"/>
                  <a:pt x="10190" y="5195"/>
                  <a:pt x="10294" y="5333"/>
                </a:cubicBezTo>
                <a:cubicBezTo>
                  <a:pt x="10359" y="5419"/>
                  <a:pt x="10451" y="5511"/>
                  <a:pt x="10567" y="5531"/>
                </a:cubicBezTo>
                <a:cubicBezTo>
                  <a:pt x="10667" y="5548"/>
                  <a:pt x="10699" y="5523"/>
                  <a:pt x="10765" y="5457"/>
                </a:cubicBezTo>
              </a:path>
              <a:path w="2481" h="3548">
                <a:moveTo>
                  <a:pt x="10517" y="4911"/>
                </a:moveTo>
                <a:cubicBezTo>
                  <a:pt x="10314" y="5138"/>
                  <a:pt x="10127" y="5340"/>
                  <a:pt x="9922" y="5556"/>
                </a:cubicBezTo>
              </a:path>
              <a:path w="2481" h="3548">
                <a:moveTo>
                  <a:pt x="9748" y="6375"/>
                </a:moveTo>
                <a:cubicBezTo>
                  <a:pt x="9748" y="6456"/>
                  <a:pt x="9735" y="6523"/>
                  <a:pt x="9723" y="6598"/>
                </a:cubicBezTo>
                <a:cubicBezTo>
                  <a:pt x="9712" y="6669"/>
                  <a:pt x="9701" y="6751"/>
                  <a:pt x="9699" y="6821"/>
                </a:cubicBezTo>
                <a:cubicBezTo>
                  <a:pt x="9696" y="6929"/>
                  <a:pt x="9674" y="7012"/>
                  <a:pt x="9674" y="7119"/>
                </a:cubicBezTo>
                <a:cubicBezTo>
                  <a:pt x="9674" y="7136"/>
                  <a:pt x="9674" y="7152"/>
                  <a:pt x="9674" y="7169"/>
                </a:cubicBezTo>
              </a:path>
              <a:path w="2481" h="3548">
                <a:moveTo>
                  <a:pt x="8558" y="7268"/>
                </a:moveTo>
                <a:cubicBezTo>
                  <a:pt x="8676" y="7298"/>
                  <a:pt x="8782" y="7293"/>
                  <a:pt x="8905" y="7293"/>
                </a:cubicBezTo>
                <a:cubicBezTo>
                  <a:pt x="9184" y="7293"/>
                  <a:pt x="9466" y="7268"/>
                  <a:pt x="9748" y="7268"/>
                </a:cubicBezTo>
                <a:cubicBezTo>
                  <a:pt x="10113" y="7268"/>
                  <a:pt x="10480" y="7278"/>
                  <a:pt x="10840" y="7243"/>
                </a:cubicBezTo>
                <a:cubicBezTo>
                  <a:pt x="10906" y="7237"/>
                  <a:pt x="10985" y="7227"/>
                  <a:pt x="11038" y="7218"/>
                </a:cubicBezTo>
              </a:path>
              <a:path w="2481" h="3548">
                <a:moveTo>
                  <a:pt x="9128" y="7516"/>
                </a:moveTo>
                <a:cubicBezTo>
                  <a:pt x="9128" y="7721"/>
                  <a:pt x="9217" y="8345"/>
                  <a:pt x="9103" y="8458"/>
                </a:cubicBezTo>
              </a:path>
              <a:path w="2481" h="3548">
                <a:moveTo>
                  <a:pt x="8706" y="7813"/>
                </a:moveTo>
                <a:cubicBezTo>
                  <a:pt x="8840" y="7843"/>
                  <a:pt x="8942" y="7863"/>
                  <a:pt x="9079" y="7863"/>
                </a:cubicBezTo>
                <a:cubicBezTo>
                  <a:pt x="9186" y="7863"/>
                  <a:pt x="9244" y="7863"/>
                  <a:pt x="9327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0"/>
          <p:cNvSpPr/>
          <p:nvPr/>
        </p:nvSpPr>
        <p:spPr>
          <a:xfrm>
            <a:off x="3429000" y="2241720"/>
            <a:ext cx="3224160" cy="866520"/>
          </a:xfrm>
          <a:custGeom>
            <a:avLst/>
            <a:gdLst/>
            <a:ahLst/>
            <a:rect l="l" t="t" r="r" b="b"/>
            <a:pathLst>
              <a:path w="8955" h="2407">
                <a:moveTo>
                  <a:pt x="10046" y="8037"/>
                </a:moveTo>
                <a:cubicBezTo>
                  <a:pt x="10008" y="7999"/>
                  <a:pt x="9949" y="7927"/>
                  <a:pt x="9897" y="7913"/>
                </a:cubicBezTo>
                <a:cubicBezTo>
                  <a:pt x="9827" y="7895"/>
                  <a:pt x="9787" y="7958"/>
                  <a:pt x="9748" y="7987"/>
                </a:cubicBezTo>
                <a:cubicBezTo>
                  <a:pt x="9683" y="8034"/>
                  <a:pt x="9640" y="8061"/>
                  <a:pt x="9599" y="8136"/>
                </a:cubicBezTo>
                <a:cubicBezTo>
                  <a:pt x="9560" y="8207"/>
                  <a:pt x="9505" y="8299"/>
                  <a:pt x="9525" y="8384"/>
                </a:cubicBezTo>
                <a:cubicBezTo>
                  <a:pt x="9541" y="8452"/>
                  <a:pt x="9615" y="8538"/>
                  <a:pt x="9699" y="8533"/>
                </a:cubicBezTo>
                <a:cubicBezTo>
                  <a:pt x="9733" y="8531"/>
                  <a:pt x="9813" y="8483"/>
                  <a:pt x="9847" y="8458"/>
                </a:cubicBezTo>
                <a:cubicBezTo>
                  <a:pt x="9927" y="8398"/>
                  <a:pt x="9943" y="8253"/>
                  <a:pt x="9947" y="8161"/>
                </a:cubicBezTo>
                <a:cubicBezTo>
                  <a:pt x="9952" y="8046"/>
                  <a:pt x="9971" y="8263"/>
                  <a:pt x="9996" y="8310"/>
                </a:cubicBezTo>
                <a:cubicBezTo>
                  <a:pt x="10022" y="8358"/>
                  <a:pt x="10074" y="8426"/>
                  <a:pt x="10120" y="8458"/>
                </a:cubicBezTo>
                <a:cubicBezTo>
                  <a:pt x="10175" y="8497"/>
                  <a:pt x="10189" y="8469"/>
                  <a:pt x="10244" y="8458"/>
                </a:cubicBezTo>
              </a:path>
              <a:path w="8955" h="2407">
                <a:moveTo>
                  <a:pt x="10244" y="8037"/>
                </a:moveTo>
                <a:cubicBezTo>
                  <a:pt x="10214" y="8140"/>
                  <a:pt x="10239" y="8207"/>
                  <a:pt x="10244" y="8310"/>
                </a:cubicBezTo>
                <a:cubicBezTo>
                  <a:pt x="10248" y="8379"/>
                  <a:pt x="10265" y="8420"/>
                  <a:pt x="10269" y="8483"/>
                </a:cubicBezTo>
                <a:cubicBezTo>
                  <a:pt x="10277" y="8616"/>
                  <a:pt x="10269" y="8407"/>
                  <a:pt x="10269" y="8384"/>
                </a:cubicBezTo>
                <a:cubicBezTo>
                  <a:pt x="10269" y="8279"/>
                  <a:pt x="10268" y="8184"/>
                  <a:pt x="10294" y="8086"/>
                </a:cubicBezTo>
                <a:cubicBezTo>
                  <a:pt x="10314" y="8012"/>
                  <a:pt x="10342" y="7988"/>
                  <a:pt x="10393" y="7938"/>
                </a:cubicBezTo>
                <a:cubicBezTo>
                  <a:pt x="10401" y="7930"/>
                  <a:pt x="10410" y="7921"/>
                  <a:pt x="10418" y="7913"/>
                </a:cubicBezTo>
                <a:cubicBezTo>
                  <a:pt x="10486" y="7952"/>
                  <a:pt x="10519" y="7980"/>
                  <a:pt x="10567" y="8037"/>
                </a:cubicBezTo>
                <a:cubicBezTo>
                  <a:pt x="10680" y="8173"/>
                  <a:pt x="10624" y="8323"/>
                  <a:pt x="10616" y="8458"/>
                </a:cubicBezTo>
                <a:cubicBezTo>
                  <a:pt x="10613" y="8509"/>
                  <a:pt x="10616" y="8608"/>
                  <a:pt x="10641" y="8508"/>
                </a:cubicBezTo>
              </a:path>
              <a:path w="8955" h="2407">
                <a:moveTo>
                  <a:pt x="10641" y="7516"/>
                </a:moveTo>
                <a:cubicBezTo>
                  <a:pt x="10685" y="7455"/>
                  <a:pt x="10713" y="7421"/>
                  <a:pt x="10790" y="7417"/>
                </a:cubicBezTo>
                <a:cubicBezTo>
                  <a:pt x="10835" y="7414"/>
                  <a:pt x="10924" y="7437"/>
                  <a:pt x="10939" y="7491"/>
                </a:cubicBezTo>
                <a:cubicBezTo>
                  <a:pt x="10954" y="7544"/>
                  <a:pt x="10896" y="7603"/>
                  <a:pt x="10864" y="7640"/>
                </a:cubicBezTo>
                <a:cubicBezTo>
                  <a:pt x="10833" y="7675"/>
                  <a:pt x="10773" y="7739"/>
                  <a:pt x="10790" y="7789"/>
                </a:cubicBezTo>
                <a:cubicBezTo>
                  <a:pt x="10819" y="7874"/>
                  <a:pt x="10918" y="7821"/>
                  <a:pt x="10964" y="7813"/>
                </a:cubicBezTo>
                <a:cubicBezTo>
                  <a:pt x="10980" y="7813"/>
                  <a:pt x="10997" y="7813"/>
                  <a:pt x="11013" y="7813"/>
                </a:cubicBezTo>
              </a:path>
              <a:path w="8955" h="2407">
                <a:moveTo>
                  <a:pt x="11212" y="7863"/>
                </a:moveTo>
                <a:cubicBezTo>
                  <a:pt x="11212" y="7952"/>
                  <a:pt x="11226" y="8029"/>
                  <a:pt x="11237" y="8111"/>
                </a:cubicBezTo>
                <a:cubicBezTo>
                  <a:pt x="11256" y="8252"/>
                  <a:pt x="11302" y="8276"/>
                  <a:pt x="11410" y="8384"/>
                </a:cubicBezTo>
                <a:cubicBezTo>
                  <a:pt x="11479" y="8453"/>
                  <a:pt x="11553" y="8527"/>
                  <a:pt x="11633" y="8582"/>
                </a:cubicBezTo>
                <a:cubicBezTo>
                  <a:pt x="11693" y="8623"/>
                  <a:pt x="11764" y="8607"/>
                  <a:pt x="11832" y="8607"/>
                </a:cubicBezTo>
              </a:path>
              <a:path w="8955" h="2407">
                <a:moveTo>
                  <a:pt x="11757" y="7913"/>
                </a:moveTo>
                <a:cubicBezTo>
                  <a:pt x="11641" y="7999"/>
                  <a:pt x="11540" y="8067"/>
                  <a:pt x="11460" y="8186"/>
                </a:cubicBezTo>
                <a:cubicBezTo>
                  <a:pt x="11404" y="8270"/>
                  <a:pt x="11321" y="8328"/>
                  <a:pt x="11261" y="8409"/>
                </a:cubicBezTo>
                <a:cubicBezTo>
                  <a:pt x="11215" y="8471"/>
                  <a:pt x="11189" y="8549"/>
                  <a:pt x="11137" y="8607"/>
                </a:cubicBezTo>
                <a:cubicBezTo>
                  <a:pt x="11091" y="8658"/>
                  <a:pt x="11097" y="8612"/>
                  <a:pt x="11112" y="8582"/>
                </a:cubicBezTo>
              </a:path>
              <a:path w="8955" h="2407">
                <a:moveTo>
                  <a:pt x="12452" y="7243"/>
                </a:moveTo>
                <a:cubicBezTo>
                  <a:pt x="12452" y="7226"/>
                  <a:pt x="12452" y="7210"/>
                  <a:pt x="12452" y="7193"/>
                </a:cubicBezTo>
              </a:path>
              <a:path w="8955" h="2407">
                <a:moveTo>
                  <a:pt x="13370" y="6375"/>
                </a:moveTo>
                <a:cubicBezTo>
                  <a:pt x="13342" y="6459"/>
                  <a:pt x="13302" y="6560"/>
                  <a:pt x="13295" y="6648"/>
                </a:cubicBezTo>
                <a:cubicBezTo>
                  <a:pt x="13285" y="6782"/>
                  <a:pt x="13306" y="6893"/>
                  <a:pt x="13320" y="7020"/>
                </a:cubicBezTo>
                <a:cubicBezTo>
                  <a:pt x="13329" y="7101"/>
                  <a:pt x="13357" y="7166"/>
                  <a:pt x="13370" y="7243"/>
                </a:cubicBezTo>
                <a:cubicBezTo>
                  <a:pt x="13375" y="7274"/>
                  <a:pt x="13369" y="7343"/>
                  <a:pt x="13395" y="7293"/>
                </a:cubicBezTo>
              </a:path>
              <a:path w="8955" h="2407">
                <a:moveTo>
                  <a:pt x="12923" y="6921"/>
                </a:moveTo>
                <a:cubicBezTo>
                  <a:pt x="13246" y="6921"/>
                  <a:pt x="13568" y="6921"/>
                  <a:pt x="13891" y="6921"/>
                </a:cubicBezTo>
              </a:path>
              <a:path w="8955" h="2407">
                <a:moveTo>
                  <a:pt x="14139" y="6921"/>
                </a:moveTo>
                <a:cubicBezTo>
                  <a:pt x="14070" y="6930"/>
                  <a:pt x="14033" y="6968"/>
                  <a:pt x="13965" y="6995"/>
                </a:cubicBezTo>
                <a:cubicBezTo>
                  <a:pt x="13878" y="7030"/>
                  <a:pt x="13806" y="7096"/>
                  <a:pt x="13791" y="7193"/>
                </a:cubicBezTo>
                <a:cubicBezTo>
                  <a:pt x="13785" y="7233"/>
                  <a:pt x="13821" y="7304"/>
                  <a:pt x="13866" y="7317"/>
                </a:cubicBezTo>
                <a:cubicBezTo>
                  <a:pt x="13925" y="7334"/>
                  <a:pt x="14036" y="7319"/>
                  <a:pt x="14089" y="7293"/>
                </a:cubicBezTo>
                <a:cubicBezTo>
                  <a:pt x="14139" y="7268"/>
                  <a:pt x="14185" y="7190"/>
                  <a:pt x="14213" y="7144"/>
                </a:cubicBezTo>
                <a:cubicBezTo>
                  <a:pt x="14262" y="7062"/>
                  <a:pt x="14237" y="6993"/>
                  <a:pt x="14188" y="6921"/>
                </a:cubicBezTo>
                <a:cubicBezTo>
                  <a:pt x="14195" y="6998"/>
                  <a:pt x="14204" y="7056"/>
                  <a:pt x="14238" y="7119"/>
                </a:cubicBezTo>
                <a:cubicBezTo>
                  <a:pt x="14273" y="7185"/>
                  <a:pt x="14316" y="7237"/>
                  <a:pt x="14387" y="7268"/>
                </a:cubicBezTo>
                <a:cubicBezTo>
                  <a:pt x="14462" y="7301"/>
                  <a:pt x="14523" y="7281"/>
                  <a:pt x="14585" y="7243"/>
                </a:cubicBezTo>
              </a:path>
              <a:path w="8955" h="2407">
                <a:moveTo>
                  <a:pt x="14610" y="6970"/>
                </a:moveTo>
                <a:cubicBezTo>
                  <a:pt x="14610" y="7085"/>
                  <a:pt x="14586" y="7238"/>
                  <a:pt x="14635" y="7342"/>
                </a:cubicBezTo>
                <a:cubicBezTo>
                  <a:pt x="14649" y="7372"/>
                  <a:pt x="14691" y="7411"/>
                  <a:pt x="14709" y="7441"/>
                </a:cubicBezTo>
                <a:cubicBezTo>
                  <a:pt x="14750" y="7361"/>
                  <a:pt x="14713" y="7307"/>
                  <a:pt x="14709" y="7218"/>
                </a:cubicBezTo>
                <a:cubicBezTo>
                  <a:pt x="14705" y="7124"/>
                  <a:pt x="14696" y="7030"/>
                  <a:pt x="14734" y="6945"/>
                </a:cubicBezTo>
                <a:cubicBezTo>
                  <a:pt x="14763" y="6881"/>
                  <a:pt x="14758" y="6827"/>
                  <a:pt x="14808" y="6772"/>
                </a:cubicBezTo>
                <a:cubicBezTo>
                  <a:pt x="14843" y="6733"/>
                  <a:pt x="14922" y="6730"/>
                  <a:pt x="14957" y="6772"/>
                </a:cubicBezTo>
                <a:cubicBezTo>
                  <a:pt x="15008" y="6832"/>
                  <a:pt x="15052" y="6921"/>
                  <a:pt x="15081" y="6995"/>
                </a:cubicBezTo>
                <a:cubicBezTo>
                  <a:pt x="15110" y="7069"/>
                  <a:pt x="15107" y="7147"/>
                  <a:pt x="15131" y="7218"/>
                </a:cubicBezTo>
                <a:cubicBezTo>
                  <a:pt x="15149" y="7273"/>
                  <a:pt x="15108" y="7350"/>
                  <a:pt x="15156" y="7317"/>
                </a:cubicBezTo>
                <a:cubicBezTo>
                  <a:pt x="15164" y="7317"/>
                  <a:pt x="15172" y="7317"/>
                  <a:pt x="15180" y="7317"/>
                </a:cubicBezTo>
              </a:path>
              <a:path w="8955" h="2407">
                <a:moveTo>
                  <a:pt x="15156" y="6474"/>
                </a:moveTo>
                <a:cubicBezTo>
                  <a:pt x="15179" y="6338"/>
                  <a:pt x="15155" y="6271"/>
                  <a:pt x="15304" y="6226"/>
                </a:cubicBezTo>
                <a:cubicBezTo>
                  <a:pt x="15363" y="6208"/>
                  <a:pt x="15465" y="6228"/>
                  <a:pt x="15503" y="6276"/>
                </a:cubicBezTo>
                <a:cubicBezTo>
                  <a:pt x="15568" y="6358"/>
                  <a:pt x="15496" y="6475"/>
                  <a:pt x="15453" y="6548"/>
                </a:cubicBezTo>
                <a:cubicBezTo>
                  <a:pt x="15415" y="6612"/>
                  <a:pt x="15355" y="6628"/>
                  <a:pt x="15379" y="6722"/>
                </a:cubicBezTo>
                <a:cubicBezTo>
                  <a:pt x="15397" y="6794"/>
                  <a:pt x="15503" y="6772"/>
                  <a:pt x="15553" y="6772"/>
                </a:cubicBezTo>
                <a:cubicBezTo>
                  <a:pt x="15627" y="6772"/>
                  <a:pt x="15683" y="6768"/>
                  <a:pt x="15751" y="6747"/>
                </a:cubicBezTo>
              </a:path>
              <a:path w="8955" h="2407">
                <a:moveTo>
                  <a:pt x="15875" y="6846"/>
                </a:moveTo>
                <a:cubicBezTo>
                  <a:pt x="15882" y="6946"/>
                  <a:pt x="15896" y="7029"/>
                  <a:pt x="15949" y="7119"/>
                </a:cubicBezTo>
                <a:cubicBezTo>
                  <a:pt x="16015" y="7232"/>
                  <a:pt x="16080" y="7264"/>
                  <a:pt x="16173" y="7342"/>
                </a:cubicBezTo>
                <a:cubicBezTo>
                  <a:pt x="16281" y="7433"/>
                  <a:pt x="16351" y="7465"/>
                  <a:pt x="16495" y="7491"/>
                </a:cubicBezTo>
                <a:cubicBezTo>
                  <a:pt x="16541" y="7491"/>
                  <a:pt x="16562" y="7473"/>
                  <a:pt x="16570" y="7417"/>
                </a:cubicBezTo>
              </a:path>
              <a:path w="8955" h="2407">
                <a:moveTo>
                  <a:pt x="16222" y="6921"/>
                </a:moveTo>
                <a:cubicBezTo>
                  <a:pt x="16096" y="7084"/>
                  <a:pt x="15995" y="7200"/>
                  <a:pt x="15925" y="7392"/>
                </a:cubicBezTo>
                <a:cubicBezTo>
                  <a:pt x="15892" y="7482"/>
                  <a:pt x="15857" y="7530"/>
                  <a:pt x="15900" y="7615"/>
                </a:cubicBezTo>
              </a:path>
              <a:path w="8955" h="2407">
                <a:moveTo>
                  <a:pt x="17413" y="7094"/>
                </a:moveTo>
                <a:cubicBezTo>
                  <a:pt x="17523" y="7077"/>
                  <a:pt x="17626" y="7065"/>
                  <a:pt x="17735" y="7045"/>
                </a:cubicBezTo>
              </a:path>
              <a:path w="8955" h="2407">
                <a:moveTo>
                  <a:pt x="17462" y="7218"/>
                </a:moveTo>
                <a:cubicBezTo>
                  <a:pt x="17628" y="7211"/>
                  <a:pt x="17749" y="7184"/>
                  <a:pt x="17909" y="7144"/>
                </a:cubicBezTo>
              </a:path>
              <a:path w="8955" h="2407">
                <a:moveTo>
                  <a:pt x="18430" y="6499"/>
                </a:moveTo>
                <a:cubicBezTo>
                  <a:pt x="18407" y="6644"/>
                  <a:pt x="18391" y="6756"/>
                  <a:pt x="18405" y="6896"/>
                </a:cubicBezTo>
                <a:cubicBezTo>
                  <a:pt x="18422" y="7065"/>
                  <a:pt x="18475" y="7249"/>
                  <a:pt x="18479" y="7417"/>
                </a:cubicBezTo>
                <a:cubicBezTo>
                  <a:pt x="18479" y="7466"/>
                  <a:pt x="18479" y="7516"/>
                  <a:pt x="18479" y="7565"/>
                </a:cubicBezTo>
              </a:path>
              <a:path w="8955" h="2407">
                <a:moveTo>
                  <a:pt x="12675" y="7441"/>
                </a:moveTo>
                <a:cubicBezTo>
                  <a:pt x="12855" y="7353"/>
                  <a:pt x="13045" y="7327"/>
                  <a:pt x="13221" y="7243"/>
                </a:cubicBezTo>
                <a:cubicBezTo>
                  <a:pt x="13438" y="7139"/>
                  <a:pt x="13659" y="7089"/>
                  <a:pt x="13891" y="7020"/>
                </a:cubicBezTo>
                <a:cubicBezTo>
                  <a:pt x="14175" y="6936"/>
                  <a:pt x="14471" y="6864"/>
                  <a:pt x="14759" y="6796"/>
                </a:cubicBezTo>
                <a:cubicBezTo>
                  <a:pt x="14860" y="6772"/>
                  <a:pt x="15693" y="6617"/>
                  <a:pt x="15429" y="6722"/>
                </a:cubicBezTo>
                <a:cubicBezTo>
                  <a:pt x="15354" y="6739"/>
                  <a:pt x="15280" y="6755"/>
                  <a:pt x="15205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1"/>
          <p:cNvSpPr/>
          <p:nvPr/>
        </p:nvSpPr>
        <p:spPr>
          <a:xfrm>
            <a:off x="3197160" y="2830680"/>
            <a:ext cx="839880" cy="250560"/>
          </a:xfrm>
          <a:custGeom>
            <a:avLst/>
            <a:gdLst/>
            <a:ahLst/>
            <a:rect l="l" t="t" r="r" b="b"/>
            <a:pathLst>
              <a:path w="2333" h="696">
                <a:moveTo>
                  <a:pt x="8880" y="8558"/>
                </a:moveTo>
                <a:cubicBezTo>
                  <a:pt x="9058" y="8488"/>
                  <a:pt x="9222" y="8441"/>
                  <a:pt x="9401" y="8384"/>
                </a:cubicBezTo>
                <a:cubicBezTo>
                  <a:pt x="9751" y="8272"/>
                  <a:pt x="10112" y="8178"/>
                  <a:pt x="10468" y="8086"/>
                </a:cubicBezTo>
                <a:cubicBezTo>
                  <a:pt x="10689" y="8029"/>
                  <a:pt x="10858" y="7992"/>
                  <a:pt x="11063" y="7913"/>
                </a:cubicBezTo>
                <a:cubicBezTo>
                  <a:pt x="11183" y="7867"/>
                  <a:pt x="11159" y="7853"/>
                  <a:pt x="11212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2"/>
          <p:cNvSpPr/>
          <p:nvPr/>
        </p:nvSpPr>
        <p:spPr>
          <a:xfrm>
            <a:off x="5545080" y="3786120"/>
            <a:ext cx="1036800" cy="588960"/>
          </a:xfrm>
          <a:custGeom>
            <a:avLst/>
            <a:gdLst/>
            <a:ahLst/>
            <a:rect l="l" t="t" r="r" b="b"/>
            <a:pathLst>
              <a:path w="2878" h="1638">
                <a:moveTo>
                  <a:pt x="15404" y="10517"/>
                </a:moveTo>
                <a:cubicBezTo>
                  <a:pt x="15446" y="10667"/>
                  <a:pt x="15433" y="10765"/>
                  <a:pt x="15453" y="10914"/>
                </a:cubicBezTo>
                <a:cubicBezTo>
                  <a:pt x="15471" y="11051"/>
                  <a:pt x="15478" y="11172"/>
                  <a:pt x="15478" y="11311"/>
                </a:cubicBezTo>
                <a:cubicBezTo>
                  <a:pt x="15478" y="11432"/>
                  <a:pt x="15498" y="11540"/>
                  <a:pt x="15503" y="11658"/>
                </a:cubicBezTo>
                <a:cubicBezTo>
                  <a:pt x="15507" y="11735"/>
                  <a:pt x="15499" y="11753"/>
                  <a:pt x="15553" y="11807"/>
                </a:cubicBezTo>
              </a:path>
              <a:path w="2878" h="1638">
                <a:moveTo>
                  <a:pt x="16173" y="11187"/>
                </a:moveTo>
                <a:cubicBezTo>
                  <a:pt x="16314" y="11187"/>
                  <a:pt x="16400" y="11172"/>
                  <a:pt x="16520" y="11212"/>
                </a:cubicBezTo>
              </a:path>
              <a:path w="2878" h="1638">
                <a:moveTo>
                  <a:pt x="16297" y="11385"/>
                </a:moveTo>
                <a:cubicBezTo>
                  <a:pt x="16482" y="11432"/>
                  <a:pt x="16560" y="11422"/>
                  <a:pt x="16743" y="11410"/>
                </a:cubicBezTo>
              </a:path>
              <a:path w="2878" h="1638">
                <a:moveTo>
                  <a:pt x="18182" y="10840"/>
                </a:moveTo>
                <a:cubicBezTo>
                  <a:pt x="18170" y="11061"/>
                  <a:pt x="18182" y="11222"/>
                  <a:pt x="18207" y="11435"/>
                </a:cubicBezTo>
                <a:cubicBezTo>
                  <a:pt x="18232" y="11644"/>
                  <a:pt x="18276" y="11818"/>
                  <a:pt x="18281" y="12030"/>
                </a:cubicBezTo>
                <a:cubicBezTo>
                  <a:pt x="18281" y="12103"/>
                  <a:pt x="18282" y="12127"/>
                  <a:pt x="18231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2178000" y="1295280"/>
            <a:ext cx="1206720" cy="436680"/>
          </a:xfrm>
          <a:custGeom>
            <a:avLst/>
            <a:gdLst/>
            <a:ahLst/>
            <a:rect l="l" t="t" r="r" b="b"/>
            <a:pathLst>
              <a:path w="3350" h="1216">
                <a:moveTo>
                  <a:pt x="6573" y="3994"/>
                </a:moveTo>
                <a:cubicBezTo>
                  <a:pt x="6513" y="3971"/>
                  <a:pt x="6417" y="3948"/>
                  <a:pt x="6350" y="3969"/>
                </a:cubicBezTo>
                <a:cubicBezTo>
                  <a:pt x="6302" y="3984"/>
                  <a:pt x="6255" y="4030"/>
                  <a:pt x="6201" y="4043"/>
                </a:cubicBezTo>
                <a:cubicBezTo>
                  <a:pt x="6159" y="4053"/>
                  <a:pt x="6068" y="4085"/>
                  <a:pt x="6052" y="4142"/>
                </a:cubicBezTo>
                <a:cubicBezTo>
                  <a:pt x="6036" y="4198"/>
                  <a:pt x="6105" y="4254"/>
                  <a:pt x="6152" y="4266"/>
                </a:cubicBezTo>
                <a:cubicBezTo>
                  <a:pt x="6212" y="4282"/>
                  <a:pt x="6276" y="4277"/>
                  <a:pt x="6325" y="4316"/>
                </a:cubicBezTo>
                <a:cubicBezTo>
                  <a:pt x="6409" y="4383"/>
                  <a:pt x="6441" y="4329"/>
                  <a:pt x="6524" y="4440"/>
                </a:cubicBezTo>
                <a:cubicBezTo>
                  <a:pt x="6582" y="4517"/>
                  <a:pt x="6619" y="4509"/>
                  <a:pt x="6623" y="4614"/>
                </a:cubicBezTo>
                <a:cubicBezTo>
                  <a:pt x="6627" y="4714"/>
                  <a:pt x="6599" y="4708"/>
                  <a:pt x="6524" y="4738"/>
                </a:cubicBezTo>
                <a:cubicBezTo>
                  <a:pt x="6472" y="4758"/>
                  <a:pt x="6358" y="4784"/>
                  <a:pt x="6300" y="4762"/>
                </a:cubicBezTo>
                <a:cubicBezTo>
                  <a:pt x="6249" y="4743"/>
                  <a:pt x="6172" y="4743"/>
                  <a:pt x="6127" y="4713"/>
                </a:cubicBezTo>
                <a:cubicBezTo>
                  <a:pt x="6100" y="4695"/>
                  <a:pt x="6075" y="4661"/>
                  <a:pt x="6052" y="4638"/>
                </a:cubicBezTo>
              </a:path>
              <a:path w="3350" h="1216">
                <a:moveTo>
                  <a:pt x="6747" y="4390"/>
                </a:moveTo>
                <a:cubicBezTo>
                  <a:pt x="6842" y="4375"/>
                  <a:pt x="6956" y="4371"/>
                  <a:pt x="7045" y="4341"/>
                </a:cubicBezTo>
                <a:cubicBezTo>
                  <a:pt x="7104" y="4321"/>
                  <a:pt x="7165" y="4271"/>
                  <a:pt x="7218" y="4242"/>
                </a:cubicBezTo>
                <a:cubicBezTo>
                  <a:pt x="7262" y="4220"/>
                  <a:pt x="7274" y="4217"/>
                  <a:pt x="7293" y="4192"/>
                </a:cubicBezTo>
                <a:cubicBezTo>
                  <a:pt x="7232" y="4086"/>
                  <a:pt x="7206" y="4127"/>
                  <a:pt x="7094" y="4142"/>
                </a:cubicBezTo>
                <a:cubicBezTo>
                  <a:pt x="6986" y="4156"/>
                  <a:pt x="6955" y="4188"/>
                  <a:pt x="6896" y="4266"/>
                </a:cubicBezTo>
                <a:cubicBezTo>
                  <a:pt x="6865" y="4307"/>
                  <a:pt x="6816" y="4344"/>
                  <a:pt x="6796" y="4390"/>
                </a:cubicBezTo>
                <a:cubicBezTo>
                  <a:pt x="6761" y="4468"/>
                  <a:pt x="6747" y="4505"/>
                  <a:pt x="6747" y="4589"/>
                </a:cubicBezTo>
                <a:cubicBezTo>
                  <a:pt x="6747" y="4667"/>
                  <a:pt x="6791" y="4693"/>
                  <a:pt x="6846" y="4738"/>
                </a:cubicBezTo>
                <a:cubicBezTo>
                  <a:pt x="6894" y="4777"/>
                  <a:pt x="6931" y="4801"/>
                  <a:pt x="6995" y="4812"/>
                </a:cubicBezTo>
                <a:cubicBezTo>
                  <a:pt x="7070" y="4812"/>
                  <a:pt x="7112" y="4807"/>
                  <a:pt x="7169" y="4787"/>
                </a:cubicBezTo>
              </a:path>
              <a:path w="3350" h="1216">
                <a:moveTo>
                  <a:pt x="7813" y="4167"/>
                </a:moveTo>
                <a:cubicBezTo>
                  <a:pt x="7858" y="4167"/>
                  <a:pt x="7871" y="4170"/>
                  <a:pt x="7888" y="4142"/>
                </a:cubicBezTo>
                <a:cubicBezTo>
                  <a:pt x="7835" y="4091"/>
                  <a:pt x="7827" y="4085"/>
                  <a:pt x="7764" y="4118"/>
                </a:cubicBezTo>
                <a:cubicBezTo>
                  <a:pt x="7662" y="4171"/>
                  <a:pt x="7675" y="4199"/>
                  <a:pt x="7615" y="4291"/>
                </a:cubicBezTo>
                <a:cubicBezTo>
                  <a:pt x="7582" y="4342"/>
                  <a:pt x="7530" y="4403"/>
                  <a:pt x="7516" y="4465"/>
                </a:cubicBezTo>
                <a:cubicBezTo>
                  <a:pt x="7501" y="4531"/>
                  <a:pt x="7506" y="4630"/>
                  <a:pt x="7541" y="4688"/>
                </a:cubicBezTo>
                <a:cubicBezTo>
                  <a:pt x="7568" y="4733"/>
                  <a:pt x="7624" y="4749"/>
                  <a:pt x="7665" y="4762"/>
                </a:cubicBezTo>
                <a:cubicBezTo>
                  <a:pt x="7762" y="4793"/>
                  <a:pt x="7821" y="4785"/>
                  <a:pt x="7913" y="4762"/>
                </a:cubicBezTo>
                <a:cubicBezTo>
                  <a:pt x="7988" y="4743"/>
                  <a:pt x="8022" y="4700"/>
                  <a:pt x="8086" y="4663"/>
                </a:cubicBezTo>
              </a:path>
              <a:path w="3350" h="1216">
                <a:moveTo>
                  <a:pt x="8210" y="3721"/>
                </a:moveTo>
                <a:cubicBezTo>
                  <a:pt x="8287" y="3665"/>
                  <a:pt x="8393" y="3554"/>
                  <a:pt x="8508" y="3597"/>
                </a:cubicBezTo>
                <a:cubicBezTo>
                  <a:pt x="8592" y="3628"/>
                  <a:pt x="8540" y="3724"/>
                  <a:pt x="8508" y="3770"/>
                </a:cubicBezTo>
                <a:cubicBezTo>
                  <a:pt x="8477" y="3815"/>
                  <a:pt x="8415" y="3822"/>
                  <a:pt x="8384" y="3870"/>
                </a:cubicBezTo>
                <a:cubicBezTo>
                  <a:pt x="8342" y="3934"/>
                  <a:pt x="8292" y="3944"/>
                  <a:pt x="8235" y="3994"/>
                </a:cubicBezTo>
                <a:cubicBezTo>
                  <a:pt x="8206" y="4022"/>
                  <a:pt x="8198" y="4035"/>
                  <a:pt x="8210" y="4068"/>
                </a:cubicBezTo>
                <a:cubicBezTo>
                  <a:pt x="8272" y="4068"/>
                  <a:pt x="8337" y="4048"/>
                  <a:pt x="8384" y="4043"/>
                </a:cubicBezTo>
                <a:cubicBezTo>
                  <a:pt x="8425" y="4043"/>
                  <a:pt x="8467" y="4043"/>
                  <a:pt x="8508" y="4043"/>
                </a:cubicBezTo>
              </a:path>
              <a:path w="3350" h="1216">
                <a:moveTo>
                  <a:pt x="8682" y="4043"/>
                </a:moveTo>
                <a:cubicBezTo>
                  <a:pt x="8715" y="4118"/>
                  <a:pt x="8744" y="4193"/>
                  <a:pt x="8781" y="4266"/>
                </a:cubicBezTo>
                <a:cubicBezTo>
                  <a:pt x="8818" y="4340"/>
                  <a:pt x="8862" y="4394"/>
                  <a:pt x="8905" y="4465"/>
                </a:cubicBezTo>
                <a:cubicBezTo>
                  <a:pt x="8957" y="4551"/>
                  <a:pt x="9036" y="4584"/>
                  <a:pt x="9103" y="4663"/>
                </a:cubicBezTo>
                <a:cubicBezTo>
                  <a:pt x="9148" y="4716"/>
                  <a:pt x="9204" y="4769"/>
                  <a:pt x="9277" y="4787"/>
                </a:cubicBezTo>
                <a:cubicBezTo>
                  <a:pt x="9325" y="4799"/>
                  <a:pt x="9361" y="4760"/>
                  <a:pt x="9401" y="4738"/>
                </a:cubicBezTo>
              </a:path>
              <a:path w="3350" h="1216">
                <a:moveTo>
                  <a:pt x="9401" y="4043"/>
                </a:moveTo>
                <a:cubicBezTo>
                  <a:pt x="9376" y="4105"/>
                  <a:pt x="9345" y="4187"/>
                  <a:pt x="9302" y="4242"/>
                </a:cubicBezTo>
                <a:cubicBezTo>
                  <a:pt x="9247" y="4313"/>
                  <a:pt x="9151" y="4412"/>
                  <a:pt x="9079" y="4465"/>
                </a:cubicBezTo>
                <a:cubicBezTo>
                  <a:pt x="9014" y="4512"/>
                  <a:pt x="8963" y="4557"/>
                  <a:pt x="8905" y="4614"/>
                </a:cubicBezTo>
                <a:cubicBezTo>
                  <a:pt x="8864" y="4655"/>
                  <a:pt x="8822" y="4696"/>
                  <a:pt x="8781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3732120" y="1500120"/>
            <a:ext cx="36720" cy="3672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0443" y="4192"/>
                </a:moveTo>
                <a:cubicBezTo>
                  <a:pt x="10391" y="4234"/>
                  <a:pt x="10380" y="4217"/>
                  <a:pt x="10393" y="4266"/>
                </a:cubicBezTo>
                <a:cubicBezTo>
                  <a:pt x="10398" y="4261"/>
                  <a:pt x="10512" y="4157"/>
                  <a:pt x="10443" y="4167"/>
                </a:cubicBezTo>
                <a:cubicBezTo>
                  <a:pt x="10415" y="4195"/>
                  <a:pt x="10406" y="4209"/>
                  <a:pt x="10418" y="4242"/>
                </a:cubicBezTo>
                <a:cubicBezTo>
                  <a:pt x="10444" y="4199"/>
                  <a:pt x="10479" y="4172"/>
                  <a:pt x="10418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4589640" y="1303200"/>
            <a:ext cx="1046160" cy="428760"/>
          </a:xfrm>
          <a:custGeom>
            <a:avLst/>
            <a:gdLst/>
            <a:ahLst/>
            <a:rect l="l" t="t" r="r" b="b"/>
            <a:pathLst>
              <a:path w="2903" h="1192">
                <a:moveTo>
                  <a:pt x="13295" y="3969"/>
                </a:moveTo>
                <a:cubicBezTo>
                  <a:pt x="13250" y="3997"/>
                  <a:pt x="13170" y="4009"/>
                  <a:pt x="13122" y="4018"/>
                </a:cubicBezTo>
                <a:cubicBezTo>
                  <a:pt x="13052" y="4031"/>
                  <a:pt x="12985" y="4050"/>
                  <a:pt x="12923" y="4093"/>
                </a:cubicBezTo>
                <a:cubicBezTo>
                  <a:pt x="12877" y="4125"/>
                  <a:pt x="12881" y="4141"/>
                  <a:pt x="12874" y="4192"/>
                </a:cubicBezTo>
                <a:cubicBezTo>
                  <a:pt x="12938" y="4229"/>
                  <a:pt x="12978" y="4260"/>
                  <a:pt x="13047" y="4291"/>
                </a:cubicBezTo>
                <a:cubicBezTo>
                  <a:pt x="13116" y="4322"/>
                  <a:pt x="13177" y="4332"/>
                  <a:pt x="13246" y="4366"/>
                </a:cubicBezTo>
                <a:cubicBezTo>
                  <a:pt x="13274" y="4380"/>
                  <a:pt x="13360" y="4430"/>
                  <a:pt x="13370" y="4465"/>
                </a:cubicBezTo>
                <a:cubicBezTo>
                  <a:pt x="13397" y="4560"/>
                  <a:pt x="13289" y="4612"/>
                  <a:pt x="13221" y="4638"/>
                </a:cubicBezTo>
                <a:cubicBezTo>
                  <a:pt x="13142" y="4668"/>
                  <a:pt x="13056" y="4684"/>
                  <a:pt x="12973" y="4688"/>
                </a:cubicBezTo>
                <a:cubicBezTo>
                  <a:pt x="12929" y="4690"/>
                  <a:pt x="12769" y="4713"/>
                  <a:pt x="12750" y="4663"/>
                </a:cubicBezTo>
                <a:cubicBezTo>
                  <a:pt x="12750" y="4622"/>
                  <a:pt x="12750" y="4614"/>
                  <a:pt x="12750" y="4589"/>
                </a:cubicBezTo>
              </a:path>
              <a:path w="2903" h="1192">
                <a:moveTo>
                  <a:pt x="13643" y="4167"/>
                </a:moveTo>
                <a:cubicBezTo>
                  <a:pt x="13624" y="4257"/>
                  <a:pt x="13597" y="4349"/>
                  <a:pt x="13593" y="4440"/>
                </a:cubicBezTo>
                <a:cubicBezTo>
                  <a:pt x="13589" y="4532"/>
                  <a:pt x="13573" y="4663"/>
                  <a:pt x="13618" y="4738"/>
                </a:cubicBezTo>
                <a:cubicBezTo>
                  <a:pt x="13618" y="4688"/>
                  <a:pt x="13618" y="4639"/>
                  <a:pt x="13618" y="4589"/>
                </a:cubicBezTo>
              </a:path>
              <a:path w="2903" h="1192">
                <a:moveTo>
                  <a:pt x="13667" y="3820"/>
                </a:moveTo>
                <a:cubicBezTo>
                  <a:pt x="13675" y="3812"/>
                  <a:pt x="13684" y="3803"/>
                  <a:pt x="13692" y="3795"/>
                </a:cubicBezTo>
              </a:path>
              <a:path w="2903" h="1192">
                <a:moveTo>
                  <a:pt x="13915" y="4490"/>
                </a:moveTo>
                <a:cubicBezTo>
                  <a:pt x="13915" y="4605"/>
                  <a:pt x="13915" y="4622"/>
                  <a:pt x="13915" y="4688"/>
                </a:cubicBezTo>
                <a:cubicBezTo>
                  <a:pt x="13871" y="4613"/>
                  <a:pt x="13903" y="4575"/>
                  <a:pt x="13915" y="4490"/>
                </a:cubicBezTo>
                <a:cubicBezTo>
                  <a:pt x="13928" y="4397"/>
                  <a:pt x="13978" y="4306"/>
                  <a:pt x="14015" y="4217"/>
                </a:cubicBezTo>
                <a:cubicBezTo>
                  <a:pt x="14034" y="4173"/>
                  <a:pt x="14075" y="4096"/>
                  <a:pt x="14114" y="4068"/>
                </a:cubicBezTo>
                <a:cubicBezTo>
                  <a:pt x="14164" y="4032"/>
                  <a:pt x="14182" y="4026"/>
                  <a:pt x="14238" y="4018"/>
                </a:cubicBezTo>
                <a:cubicBezTo>
                  <a:pt x="14270" y="4083"/>
                  <a:pt x="14295" y="4129"/>
                  <a:pt x="14312" y="4192"/>
                </a:cubicBezTo>
                <a:cubicBezTo>
                  <a:pt x="14343" y="4307"/>
                  <a:pt x="14329" y="4381"/>
                  <a:pt x="14312" y="4490"/>
                </a:cubicBezTo>
                <a:cubicBezTo>
                  <a:pt x="14300" y="4564"/>
                  <a:pt x="14300" y="4642"/>
                  <a:pt x="14288" y="4713"/>
                </a:cubicBezTo>
                <a:cubicBezTo>
                  <a:pt x="14278" y="4775"/>
                  <a:pt x="14266" y="4768"/>
                  <a:pt x="14288" y="4812"/>
                </a:cubicBezTo>
                <a:cubicBezTo>
                  <a:pt x="14296" y="4757"/>
                  <a:pt x="14304" y="4743"/>
                  <a:pt x="14312" y="4688"/>
                </a:cubicBezTo>
              </a:path>
              <a:path w="2903" h="1192">
                <a:moveTo>
                  <a:pt x="14635" y="3746"/>
                </a:moveTo>
                <a:cubicBezTo>
                  <a:pt x="14676" y="3664"/>
                  <a:pt x="14711" y="3603"/>
                  <a:pt x="14808" y="3646"/>
                </a:cubicBezTo>
                <a:cubicBezTo>
                  <a:pt x="14859" y="3668"/>
                  <a:pt x="14924" y="3704"/>
                  <a:pt x="14908" y="3770"/>
                </a:cubicBezTo>
                <a:cubicBezTo>
                  <a:pt x="14894" y="3831"/>
                  <a:pt x="14826" y="3878"/>
                  <a:pt x="14784" y="3919"/>
                </a:cubicBezTo>
                <a:cubicBezTo>
                  <a:pt x="14726" y="3977"/>
                  <a:pt x="14668" y="4035"/>
                  <a:pt x="14610" y="4093"/>
                </a:cubicBezTo>
                <a:cubicBezTo>
                  <a:pt x="14665" y="4126"/>
                  <a:pt x="14716" y="4118"/>
                  <a:pt x="14784" y="4118"/>
                </a:cubicBezTo>
                <a:cubicBezTo>
                  <a:pt x="14842" y="4118"/>
                  <a:pt x="14867" y="4118"/>
                  <a:pt x="14908" y="4118"/>
                </a:cubicBezTo>
              </a:path>
              <a:path w="2903" h="1192">
                <a:moveTo>
                  <a:pt x="15131" y="4167"/>
                </a:moveTo>
                <a:cubicBezTo>
                  <a:pt x="15158" y="4283"/>
                  <a:pt x="15179" y="4320"/>
                  <a:pt x="15230" y="4415"/>
                </a:cubicBezTo>
                <a:cubicBezTo>
                  <a:pt x="15268" y="4487"/>
                  <a:pt x="15335" y="4524"/>
                  <a:pt x="15379" y="4589"/>
                </a:cubicBezTo>
                <a:cubicBezTo>
                  <a:pt x="15417" y="4646"/>
                  <a:pt x="15480" y="4697"/>
                  <a:pt x="15553" y="4713"/>
                </a:cubicBezTo>
                <a:cubicBezTo>
                  <a:pt x="15607" y="4725"/>
                  <a:pt x="15619" y="4696"/>
                  <a:pt x="15652" y="4663"/>
                </a:cubicBezTo>
              </a:path>
              <a:path w="2903" h="1192">
                <a:moveTo>
                  <a:pt x="15553" y="4167"/>
                </a:moveTo>
                <a:cubicBezTo>
                  <a:pt x="15475" y="4245"/>
                  <a:pt x="15352" y="4334"/>
                  <a:pt x="15280" y="4415"/>
                </a:cubicBezTo>
                <a:cubicBezTo>
                  <a:pt x="15193" y="4513"/>
                  <a:pt x="15132" y="4541"/>
                  <a:pt x="15032" y="4614"/>
                </a:cubicBezTo>
                <a:cubicBezTo>
                  <a:pt x="14950" y="4674"/>
                  <a:pt x="14900" y="4704"/>
                  <a:pt x="14808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6215040" y="1251000"/>
            <a:ext cx="1563840" cy="455400"/>
          </a:xfrm>
          <a:custGeom>
            <a:avLst/>
            <a:gdLst/>
            <a:ahLst/>
            <a:rect l="l" t="t" r="r" b="b"/>
            <a:pathLst>
              <a:path w="4342" h="1266">
                <a:moveTo>
                  <a:pt x="17413" y="4118"/>
                </a:moveTo>
                <a:cubicBezTo>
                  <a:pt x="17570" y="4118"/>
                  <a:pt x="17727" y="4118"/>
                  <a:pt x="17884" y="4118"/>
                </a:cubicBezTo>
              </a:path>
              <a:path w="4342" h="1266">
                <a:moveTo>
                  <a:pt x="17264" y="4366"/>
                </a:moveTo>
                <a:cubicBezTo>
                  <a:pt x="17381" y="4405"/>
                  <a:pt x="17443" y="4415"/>
                  <a:pt x="17562" y="4415"/>
                </a:cubicBezTo>
                <a:cubicBezTo>
                  <a:pt x="17628" y="4415"/>
                  <a:pt x="17694" y="4415"/>
                  <a:pt x="17760" y="4415"/>
                </a:cubicBezTo>
              </a:path>
              <a:path w="4342" h="1266">
                <a:moveTo>
                  <a:pt x="18901" y="3721"/>
                </a:moveTo>
                <a:cubicBezTo>
                  <a:pt x="18865" y="3816"/>
                  <a:pt x="18896" y="3864"/>
                  <a:pt x="18876" y="3969"/>
                </a:cubicBezTo>
                <a:cubicBezTo>
                  <a:pt x="18860" y="4056"/>
                  <a:pt x="18849" y="4155"/>
                  <a:pt x="18827" y="4242"/>
                </a:cubicBezTo>
                <a:cubicBezTo>
                  <a:pt x="18805" y="4329"/>
                  <a:pt x="18780" y="4401"/>
                  <a:pt x="18777" y="4490"/>
                </a:cubicBezTo>
                <a:cubicBezTo>
                  <a:pt x="18776" y="4510"/>
                  <a:pt x="18787" y="4682"/>
                  <a:pt x="18752" y="4614"/>
                </a:cubicBezTo>
              </a:path>
              <a:path w="4342" h="1266">
                <a:moveTo>
                  <a:pt x="18380" y="4167"/>
                </a:moveTo>
                <a:cubicBezTo>
                  <a:pt x="18469" y="4134"/>
                  <a:pt x="18561" y="4138"/>
                  <a:pt x="18653" y="4118"/>
                </a:cubicBezTo>
                <a:cubicBezTo>
                  <a:pt x="18741" y="4099"/>
                  <a:pt x="18809" y="4093"/>
                  <a:pt x="18901" y="4093"/>
                </a:cubicBezTo>
                <a:cubicBezTo>
                  <a:pt x="19000" y="4093"/>
                  <a:pt x="19100" y="4093"/>
                  <a:pt x="19199" y="4093"/>
                </a:cubicBezTo>
              </a:path>
              <a:path w="4342" h="1266">
                <a:moveTo>
                  <a:pt x="19546" y="4167"/>
                </a:moveTo>
                <a:cubicBezTo>
                  <a:pt x="19561" y="4138"/>
                  <a:pt x="19551" y="4084"/>
                  <a:pt x="19496" y="4068"/>
                </a:cubicBezTo>
                <a:cubicBezTo>
                  <a:pt x="19438" y="4051"/>
                  <a:pt x="19392" y="4116"/>
                  <a:pt x="19348" y="4142"/>
                </a:cubicBezTo>
                <a:cubicBezTo>
                  <a:pt x="19287" y="4178"/>
                  <a:pt x="19218" y="4255"/>
                  <a:pt x="19174" y="4316"/>
                </a:cubicBezTo>
                <a:cubicBezTo>
                  <a:pt x="19122" y="4388"/>
                  <a:pt x="19108" y="4458"/>
                  <a:pt x="19149" y="4539"/>
                </a:cubicBezTo>
                <a:cubicBezTo>
                  <a:pt x="19194" y="4627"/>
                  <a:pt x="19288" y="4568"/>
                  <a:pt x="19348" y="4539"/>
                </a:cubicBezTo>
                <a:cubicBezTo>
                  <a:pt x="19428" y="4501"/>
                  <a:pt x="19425" y="4459"/>
                  <a:pt x="19472" y="4390"/>
                </a:cubicBezTo>
                <a:cubicBezTo>
                  <a:pt x="19514" y="4329"/>
                  <a:pt x="19496" y="4243"/>
                  <a:pt x="19496" y="4167"/>
                </a:cubicBezTo>
                <a:cubicBezTo>
                  <a:pt x="19488" y="4264"/>
                  <a:pt x="19463" y="4370"/>
                  <a:pt x="19496" y="4465"/>
                </a:cubicBezTo>
                <a:cubicBezTo>
                  <a:pt x="19507" y="4498"/>
                  <a:pt x="19575" y="4593"/>
                  <a:pt x="19621" y="4589"/>
                </a:cubicBezTo>
                <a:cubicBezTo>
                  <a:pt x="19635" y="4588"/>
                  <a:pt x="19684" y="4525"/>
                  <a:pt x="19695" y="4514"/>
                </a:cubicBezTo>
              </a:path>
              <a:path w="4342" h="1266">
                <a:moveTo>
                  <a:pt x="19794" y="4167"/>
                </a:moveTo>
                <a:cubicBezTo>
                  <a:pt x="19794" y="4267"/>
                  <a:pt x="19785" y="4334"/>
                  <a:pt x="19769" y="4415"/>
                </a:cubicBezTo>
                <a:cubicBezTo>
                  <a:pt x="19759" y="4465"/>
                  <a:pt x="19769" y="4539"/>
                  <a:pt x="19769" y="4589"/>
                </a:cubicBezTo>
                <a:cubicBezTo>
                  <a:pt x="19769" y="4489"/>
                  <a:pt x="19753" y="4382"/>
                  <a:pt x="19794" y="4291"/>
                </a:cubicBezTo>
                <a:cubicBezTo>
                  <a:pt x="19831" y="4210"/>
                  <a:pt x="19844" y="4175"/>
                  <a:pt x="19893" y="4093"/>
                </a:cubicBezTo>
                <a:cubicBezTo>
                  <a:pt x="19925" y="4040"/>
                  <a:pt x="19993" y="3972"/>
                  <a:pt x="20067" y="3994"/>
                </a:cubicBezTo>
                <a:cubicBezTo>
                  <a:pt x="20126" y="4011"/>
                  <a:pt x="20164" y="4027"/>
                  <a:pt x="20191" y="4093"/>
                </a:cubicBezTo>
                <a:cubicBezTo>
                  <a:pt x="20231" y="4191"/>
                  <a:pt x="20241" y="4259"/>
                  <a:pt x="20241" y="4366"/>
                </a:cubicBezTo>
                <a:cubicBezTo>
                  <a:pt x="20241" y="4386"/>
                  <a:pt x="20241" y="4697"/>
                  <a:pt x="20241" y="4564"/>
                </a:cubicBezTo>
              </a:path>
              <a:path w="4342" h="1266">
                <a:moveTo>
                  <a:pt x="20265" y="3621"/>
                </a:moveTo>
                <a:cubicBezTo>
                  <a:pt x="20354" y="3506"/>
                  <a:pt x="20367" y="3478"/>
                  <a:pt x="20513" y="3473"/>
                </a:cubicBezTo>
                <a:cubicBezTo>
                  <a:pt x="20616" y="3469"/>
                  <a:pt x="20661" y="3517"/>
                  <a:pt x="20613" y="3621"/>
                </a:cubicBezTo>
                <a:cubicBezTo>
                  <a:pt x="20593" y="3663"/>
                  <a:pt x="20508" y="3796"/>
                  <a:pt x="20464" y="3820"/>
                </a:cubicBezTo>
                <a:cubicBezTo>
                  <a:pt x="20435" y="3836"/>
                  <a:pt x="20418" y="3841"/>
                  <a:pt x="20389" y="3870"/>
                </a:cubicBezTo>
                <a:cubicBezTo>
                  <a:pt x="20443" y="3896"/>
                  <a:pt x="20516" y="3854"/>
                  <a:pt x="20588" y="3845"/>
                </a:cubicBezTo>
                <a:cubicBezTo>
                  <a:pt x="20646" y="3845"/>
                  <a:pt x="20654" y="3845"/>
                  <a:pt x="20687" y="3845"/>
                </a:cubicBezTo>
              </a:path>
              <a:path w="4342" h="1266">
                <a:moveTo>
                  <a:pt x="21034" y="3994"/>
                </a:moveTo>
                <a:cubicBezTo>
                  <a:pt x="21040" y="4110"/>
                  <a:pt x="21036" y="4196"/>
                  <a:pt x="21109" y="4291"/>
                </a:cubicBezTo>
                <a:cubicBezTo>
                  <a:pt x="21179" y="4381"/>
                  <a:pt x="21236" y="4473"/>
                  <a:pt x="21332" y="4539"/>
                </a:cubicBezTo>
                <a:cubicBezTo>
                  <a:pt x="21380" y="4571"/>
                  <a:pt x="21444" y="4628"/>
                  <a:pt x="21506" y="4614"/>
                </a:cubicBezTo>
                <a:cubicBezTo>
                  <a:pt x="21549" y="4604"/>
                  <a:pt x="21576" y="4568"/>
                  <a:pt x="21605" y="4539"/>
                </a:cubicBezTo>
              </a:path>
              <a:path w="4342" h="1266">
                <a:moveTo>
                  <a:pt x="21406" y="3870"/>
                </a:moveTo>
                <a:cubicBezTo>
                  <a:pt x="21349" y="3993"/>
                  <a:pt x="21288" y="4059"/>
                  <a:pt x="21208" y="4167"/>
                </a:cubicBezTo>
                <a:cubicBezTo>
                  <a:pt x="21140" y="4258"/>
                  <a:pt x="21054" y="4327"/>
                  <a:pt x="20985" y="4415"/>
                </a:cubicBezTo>
                <a:cubicBezTo>
                  <a:pt x="20929" y="4487"/>
                  <a:pt x="20877" y="4550"/>
                  <a:pt x="20811" y="4614"/>
                </a:cubicBezTo>
                <a:cubicBezTo>
                  <a:pt x="20772" y="4652"/>
                  <a:pt x="20752" y="4698"/>
                  <a:pt x="20712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9"/>
          <p:cNvSpPr/>
          <p:nvPr/>
        </p:nvSpPr>
        <p:spPr>
          <a:xfrm>
            <a:off x="2608200" y="1928880"/>
            <a:ext cx="1008000" cy="785880"/>
          </a:xfrm>
          <a:custGeom>
            <a:avLst/>
            <a:gdLst/>
            <a:ahLst/>
            <a:rect l="l" t="t" r="r" b="b"/>
            <a:pathLst>
              <a:path w="2804" h="2184">
                <a:moveTo>
                  <a:pt x="8136" y="5358"/>
                </a:moveTo>
                <a:cubicBezTo>
                  <a:pt x="8136" y="5450"/>
                  <a:pt x="8124" y="5517"/>
                  <a:pt x="8111" y="5606"/>
                </a:cubicBezTo>
                <a:cubicBezTo>
                  <a:pt x="8097" y="5704"/>
                  <a:pt x="8100" y="5806"/>
                  <a:pt x="8086" y="5904"/>
                </a:cubicBezTo>
                <a:cubicBezTo>
                  <a:pt x="8077" y="5968"/>
                  <a:pt x="8082" y="6019"/>
                  <a:pt x="8062" y="6077"/>
                </a:cubicBezTo>
                <a:cubicBezTo>
                  <a:pt x="8038" y="6125"/>
                  <a:pt x="8030" y="6139"/>
                  <a:pt x="8037" y="6176"/>
                </a:cubicBezTo>
              </a:path>
              <a:path w="2804" h="2184">
                <a:moveTo>
                  <a:pt x="7293" y="6226"/>
                </a:moveTo>
                <a:cubicBezTo>
                  <a:pt x="7350" y="6261"/>
                  <a:pt x="7447" y="6273"/>
                  <a:pt x="7516" y="6276"/>
                </a:cubicBezTo>
                <a:cubicBezTo>
                  <a:pt x="7626" y="6280"/>
                  <a:pt x="7728" y="6254"/>
                  <a:pt x="7838" y="6251"/>
                </a:cubicBezTo>
                <a:cubicBezTo>
                  <a:pt x="8228" y="6241"/>
                  <a:pt x="8616" y="6257"/>
                  <a:pt x="9004" y="6276"/>
                </a:cubicBezTo>
                <a:cubicBezTo>
                  <a:pt x="9124" y="6282"/>
                  <a:pt x="9237" y="6283"/>
                  <a:pt x="9351" y="6300"/>
                </a:cubicBezTo>
                <a:cubicBezTo>
                  <a:pt x="9393" y="6300"/>
                  <a:pt x="9418" y="6300"/>
                  <a:pt x="9376" y="6300"/>
                </a:cubicBezTo>
              </a:path>
              <a:path w="2804" h="2184">
                <a:moveTo>
                  <a:pt x="7714" y="6821"/>
                </a:moveTo>
                <a:cubicBezTo>
                  <a:pt x="7714" y="6871"/>
                  <a:pt x="7714" y="6888"/>
                  <a:pt x="7714" y="6921"/>
                </a:cubicBezTo>
                <a:cubicBezTo>
                  <a:pt x="7675" y="6881"/>
                  <a:pt x="7652" y="6836"/>
                  <a:pt x="7615" y="6796"/>
                </a:cubicBezTo>
                <a:cubicBezTo>
                  <a:pt x="7565" y="6742"/>
                  <a:pt x="7552" y="6740"/>
                  <a:pt x="7491" y="6772"/>
                </a:cubicBezTo>
                <a:cubicBezTo>
                  <a:pt x="7420" y="6809"/>
                  <a:pt x="7413" y="6835"/>
                  <a:pt x="7367" y="6896"/>
                </a:cubicBezTo>
                <a:cubicBezTo>
                  <a:pt x="7327" y="6950"/>
                  <a:pt x="7282" y="7000"/>
                  <a:pt x="7268" y="7069"/>
                </a:cubicBezTo>
                <a:cubicBezTo>
                  <a:pt x="7256" y="7130"/>
                  <a:pt x="7225" y="7199"/>
                  <a:pt x="7243" y="7268"/>
                </a:cubicBezTo>
                <a:cubicBezTo>
                  <a:pt x="7272" y="7375"/>
                  <a:pt x="7313" y="7423"/>
                  <a:pt x="7392" y="7491"/>
                </a:cubicBezTo>
                <a:cubicBezTo>
                  <a:pt x="7455" y="7545"/>
                  <a:pt x="7540" y="7548"/>
                  <a:pt x="7615" y="7516"/>
                </a:cubicBezTo>
                <a:cubicBezTo>
                  <a:pt x="7623" y="7508"/>
                  <a:pt x="7632" y="7499"/>
                  <a:pt x="7640" y="7491"/>
                </a:cubicBezTo>
              </a:path>
              <a:path w="2804" h="2184">
                <a:moveTo>
                  <a:pt x="8012" y="6995"/>
                </a:moveTo>
                <a:cubicBezTo>
                  <a:pt x="7979" y="7087"/>
                  <a:pt x="7953" y="7175"/>
                  <a:pt x="7938" y="7268"/>
                </a:cubicBezTo>
                <a:cubicBezTo>
                  <a:pt x="7930" y="7320"/>
                  <a:pt x="7960" y="7422"/>
                  <a:pt x="7987" y="7466"/>
                </a:cubicBezTo>
                <a:cubicBezTo>
                  <a:pt x="8026" y="7528"/>
                  <a:pt x="8121" y="7535"/>
                  <a:pt x="8186" y="7516"/>
                </a:cubicBezTo>
                <a:cubicBezTo>
                  <a:pt x="8255" y="7495"/>
                  <a:pt x="8322" y="7398"/>
                  <a:pt x="8359" y="7342"/>
                </a:cubicBezTo>
                <a:cubicBezTo>
                  <a:pt x="8384" y="7304"/>
                  <a:pt x="8412" y="7161"/>
                  <a:pt x="8409" y="7119"/>
                </a:cubicBezTo>
                <a:cubicBezTo>
                  <a:pt x="8404" y="7042"/>
                  <a:pt x="8385" y="6954"/>
                  <a:pt x="8334" y="6896"/>
                </a:cubicBezTo>
                <a:cubicBezTo>
                  <a:pt x="8311" y="6869"/>
                  <a:pt x="8223" y="6837"/>
                  <a:pt x="8186" y="6846"/>
                </a:cubicBezTo>
                <a:cubicBezTo>
                  <a:pt x="8151" y="6854"/>
                  <a:pt x="8025" y="6909"/>
                  <a:pt x="8012" y="6945"/>
                </a:cubicBezTo>
                <a:cubicBezTo>
                  <a:pt x="8012" y="6962"/>
                  <a:pt x="8012" y="6978"/>
                  <a:pt x="8012" y="6995"/>
                </a:cubicBezTo>
              </a:path>
              <a:path w="2804" h="2184">
                <a:moveTo>
                  <a:pt x="8880" y="6921"/>
                </a:moveTo>
                <a:cubicBezTo>
                  <a:pt x="8804" y="6926"/>
                  <a:pt x="8716" y="6923"/>
                  <a:pt x="8657" y="6970"/>
                </a:cubicBezTo>
                <a:cubicBezTo>
                  <a:pt x="8600" y="7016"/>
                  <a:pt x="8592" y="7054"/>
                  <a:pt x="8632" y="7119"/>
                </a:cubicBezTo>
                <a:cubicBezTo>
                  <a:pt x="8655" y="7157"/>
                  <a:pt x="8719" y="7201"/>
                  <a:pt x="8756" y="7218"/>
                </a:cubicBezTo>
                <a:cubicBezTo>
                  <a:pt x="8825" y="7249"/>
                  <a:pt x="8910" y="7272"/>
                  <a:pt x="8954" y="7342"/>
                </a:cubicBezTo>
                <a:cubicBezTo>
                  <a:pt x="8986" y="7392"/>
                  <a:pt x="8988" y="7479"/>
                  <a:pt x="8930" y="7516"/>
                </a:cubicBezTo>
                <a:cubicBezTo>
                  <a:pt x="8863" y="7559"/>
                  <a:pt x="8757" y="7541"/>
                  <a:pt x="8682" y="7541"/>
                </a:cubicBezTo>
                <a:cubicBezTo>
                  <a:pt x="8623" y="7541"/>
                  <a:pt x="8562" y="7498"/>
                  <a:pt x="8533" y="7441"/>
                </a:cubicBezTo>
                <a:cubicBezTo>
                  <a:pt x="8533" y="7433"/>
                  <a:pt x="8533" y="7425"/>
                  <a:pt x="8533" y="7417"/>
                </a:cubicBezTo>
              </a:path>
              <a:path w="2804" h="2184">
                <a:moveTo>
                  <a:pt x="9004" y="6548"/>
                </a:moveTo>
                <a:cubicBezTo>
                  <a:pt x="9079" y="6511"/>
                  <a:pt x="9120" y="6499"/>
                  <a:pt x="9203" y="6499"/>
                </a:cubicBezTo>
                <a:cubicBezTo>
                  <a:pt x="9283" y="6499"/>
                  <a:pt x="9339" y="6527"/>
                  <a:pt x="9302" y="6623"/>
                </a:cubicBezTo>
                <a:cubicBezTo>
                  <a:pt x="9285" y="6668"/>
                  <a:pt x="9211" y="6697"/>
                  <a:pt x="9178" y="6722"/>
                </a:cubicBezTo>
                <a:cubicBezTo>
                  <a:pt x="9153" y="6747"/>
                  <a:pt x="9145" y="6755"/>
                  <a:pt x="9128" y="6772"/>
                </a:cubicBezTo>
                <a:cubicBezTo>
                  <a:pt x="9192" y="6781"/>
                  <a:pt x="9231" y="6796"/>
                  <a:pt x="9302" y="6796"/>
                </a:cubicBezTo>
                <a:cubicBezTo>
                  <a:pt x="9310" y="6796"/>
                  <a:pt x="9319" y="6796"/>
                  <a:pt x="9327" y="6796"/>
                </a:cubicBezTo>
              </a:path>
              <a:path w="2804" h="2184">
                <a:moveTo>
                  <a:pt x="9525" y="6945"/>
                </a:moveTo>
                <a:cubicBezTo>
                  <a:pt x="9525" y="7041"/>
                  <a:pt x="9529" y="7072"/>
                  <a:pt x="9575" y="7144"/>
                </a:cubicBezTo>
                <a:cubicBezTo>
                  <a:pt x="9619" y="7213"/>
                  <a:pt x="9640" y="7257"/>
                  <a:pt x="9699" y="7317"/>
                </a:cubicBezTo>
                <a:cubicBezTo>
                  <a:pt x="9747" y="7365"/>
                  <a:pt x="9795" y="7401"/>
                  <a:pt x="9847" y="7441"/>
                </a:cubicBezTo>
                <a:cubicBezTo>
                  <a:pt x="9894" y="7477"/>
                  <a:pt x="9963" y="7540"/>
                  <a:pt x="10021" y="7466"/>
                </a:cubicBezTo>
                <a:cubicBezTo>
                  <a:pt x="10029" y="7441"/>
                  <a:pt x="10038" y="7417"/>
                  <a:pt x="10046" y="7392"/>
                </a:cubicBezTo>
              </a:path>
              <a:path w="2804" h="2184">
                <a:moveTo>
                  <a:pt x="9947" y="6945"/>
                </a:moveTo>
                <a:cubicBezTo>
                  <a:pt x="9898" y="7015"/>
                  <a:pt x="9843" y="7093"/>
                  <a:pt x="9773" y="7144"/>
                </a:cubicBezTo>
                <a:cubicBezTo>
                  <a:pt x="9704" y="7194"/>
                  <a:pt x="9641" y="7260"/>
                  <a:pt x="9575" y="7317"/>
                </a:cubicBezTo>
                <a:cubicBezTo>
                  <a:pt x="9516" y="7368"/>
                  <a:pt x="9456" y="7411"/>
                  <a:pt x="9401" y="7466"/>
                </a:cubicBezTo>
                <a:cubicBezTo>
                  <a:pt x="9378" y="7489"/>
                  <a:pt x="9374" y="7497"/>
                  <a:pt x="935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0"/>
          <p:cNvSpPr/>
          <p:nvPr/>
        </p:nvSpPr>
        <p:spPr>
          <a:xfrm>
            <a:off x="4106880" y="183996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1435" y="6325"/>
                </a:moveTo>
                <a:cubicBezTo>
                  <a:pt x="11407" y="6353"/>
                  <a:pt x="11398" y="6367"/>
                  <a:pt x="11410" y="6400"/>
                </a:cubicBezTo>
                <a:cubicBezTo>
                  <a:pt x="11459" y="6393"/>
                  <a:pt x="11534" y="6377"/>
                  <a:pt x="11509" y="6300"/>
                </a:cubicBezTo>
                <a:cubicBezTo>
                  <a:pt x="11489" y="6240"/>
                  <a:pt x="11429" y="6331"/>
                  <a:pt x="11410" y="6350"/>
                </a:cubicBezTo>
              </a:path>
              <a:path w="3499" h="2556">
                <a:moveTo>
                  <a:pt x="12601" y="5680"/>
                </a:moveTo>
                <a:cubicBezTo>
                  <a:pt x="12617" y="5648"/>
                  <a:pt x="12596" y="5579"/>
                  <a:pt x="12526" y="5581"/>
                </a:cubicBezTo>
                <a:cubicBezTo>
                  <a:pt x="12448" y="5583"/>
                  <a:pt x="12305" y="5608"/>
                  <a:pt x="12229" y="5631"/>
                </a:cubicBezTo>
                <a:cubicBezTo>
                  <a:pt x="12184" y="5645"/>
                  <a:pt x="12105" y="5696"/>
                  <a:pt x="12129" y="5755"/>
                </a:cubicBezTo>
                <a:cubicBezTo>
                  <a:pt x="12165" y="5842"/>
                  <a:pt x="12250" y="5840"/>
                  <a:pt x="12328" y="5879"/>
                </a:cubicBezTo>
                <a:cubicBezTo>
                  <a:pt x="12413" y="5922"/>
                  <a:pt x="12500" y="5972"/>
                  <a:pt x="12576" y="6028"/>
                </a:cubicBezTo>
                <a:cubicBezTo>
                  <a:pt x="12629" y="6067"/>
                  <a:pt x="12657" y="6124"/>
                  <a:pt x="12626" y="6176"/>
                </a:cubicBezTo>
                <a:cubicBezTo>
                  <a:pt x="12584" y="6247"/>
                  <a:pt x="12477" y="6265"/>
                  <a:pt x="12402" y="6251"/>
                </a:cubicBezTo>
                <a:cubicBezTo>
                  <a:pt x="12343" y="6240"/>
                  <a:pt x="12250" y="6238"/>
                  <a:pt x="12204" y="6201"/>
                </a:cubicBezTo>
                <a:cubicBezTo>
                  <a:pt x="12182" y="6179"/>
                  <a:pt x="12173" y="6174"/>
                  <a:pt x="12179" y="6152"/>
                </a:cubicBezTo>
              </a:path>
              <a:path w="3499" h="2556">
                <a:moveTo>
                  <a:pt x="12948" y="5730"/>
                </a:moveTo>
                <a:cubicBezTo>
                  <a:pt x="12948" y="5815"/>
                  <a:pt x="12936" y="5875"/>
                  <a:pt x="12923" y="5953"/>
                </a:cubicBezTo>
                <a:cubicBezTo>
                  <a:pt x="12914" y="6009"/>
                  <a:pt x="12923" y="6309"/>
                  <a:pt x="12923" y="6201"/>
                </a:cubicBezTo>
                <a:cubicBezTo>
                  <a:pt x="12923" y="6193"/>
                  <a:pt x="12923" y="6184"/>
                  <a:pt x="12923" y="6176"/>
                </a:cubicBezTo>
              </a:path>
              <a:path w="3499" h="2556">
                <a:moveTo>
                  <a:pt x="12998" y="5432"/>
                </a:moveTo>
                <a:lnTo>
                  <a:pt x="12998" y="5432"/>
                </a:lnTo>
              </a:path>
              <a:path w="3499" h="2556">
                <a:moveTo>
                  <a:pt x="13146" y="6052"/>
                </a:moveTo>
                <a:cubicBezTo>
                  <a:pt x="13146" y="6085"/>
                  <a:pt x="13146" y="6119"/>
                  <a:pt x="13146" y="6152"/>
                </a:cubicBezTo>
                <a:cubicBezTo>
                  <a:pt x="13146" y="6288"/>
                  <a:pt x="13141" y="6030"/>
                  <a:pt x="13146" y="6003"/>
                </a:cubicBezTo>
                <a:cubicBezTo>
                  <a:pt x="13156" y="5943"/>
                  <a:pt x="13184" y="5806"/>
                  <a:pt x="13221" y="5755"/>
                </a:cubicBezTo>
                <a:cubicBezTo>
                  <a:pt x="13238" y="5732"/>
                  <a:pt x="13320" y="5594"/>
                  <a:pt x="13345" y="5581"/>
                </a:cubicBezTo>
                <a:cubicBezTo>
                  <a:pt x="13395" y="5556"/>
                  <a:pt x="13476" y="5546"/>
                  <a:pt x="13519" y="5581"/>
                </a:cubicBezTo>
                <a:cubicBezTo>
                  <a:pt x="13615" y="5660"/>
                  <a:pt x="13583" y="5711"/>
                  <a:pt x="13618" y="5829"/>
                </a:cubicBezTo>
                <a:cubicBezTo>
                  <a:pt x="13644" y="5916"/>
                  <a:pt x="13633" y="5953"/>
                  <a:pt x="13618" y="6028"/>
                </a:cubicBezTo>
                <a:cubicBezTo>
                  <a:pt x="13612" y="6057"/>
                  <a:pt x="13618" y="6280"/>
                  <a:pt x="13618" y="6152"/>
                </a:cubicBezTo>
              </a:path>
              <a:path w="3499" h="2556">
                <a:moveTo>
                  <a:pt x="13791" y="5234"/>
                </a:moveTo>
                <a:cubicBezTo>
                  <a:pt x="13836" y="5190"/>
                  <a:pt x="13915" y="5098"/>
                  <a:pt x="13990" y="5110"/>
                </a:cubicBezTo>
                <a:cubicBezTo>
                  <a:pt x="14060" y="5121"/>
                  <a:pt x="14086" y="5200"/>
                  <a:pt x="14089" y="5259"/>
                </a:cubicBezTo>
                <a:cubicBezTo>
                  <a:pt x="14093" y="5335"/>
                  <a:pt x="14044" y="5448"/>
                  <a:pt x="13990" y="5482"/>
                </a:cubicBezTo>
                <a:cubicBezTo>
                  <a:pt x="13965" y="5498"/>
                  <a:pt x="13831" y="5556"/>
                  <a:pt x="13915" y="5606"/>
                </a:cubicBezTo>
                <a:cubicBezTo>
                  <a:pt x="13986" y="5647"/>
                  <a:pt x="14208" y="5606"/>
                  <a:pt x="14288" y="5606"/>
                </a:cubicBezTo>
              </a:path>
              <a:path w="3499" h="2556">
                <a:moveTo>
                  <a:pt x="14387" y="5680"/>
                </a:moveTo>
                <a:cubicBezTo>
                  <a:pt x="14369" y="5765"/>
                  <a:pt x="14337" y="5848"/>
                  <a:pt x="14387" y="5928"/>
                </a:cubicBezTo>
                <a:cubicBezTo>
                  <a:pt x="14429" y="5995"/>
                  <a:pt x="14465" y="6016"/>
                  <a:pt x="14536" y="6052"/>
                </a:cubicBezTo>
                <a:cubicBezTo>
                  <a:pt x="14612" y="6090"/>
                  <a:pt x="14683" y="6103"/>
                  <a:pt x="14759" y="6127"/>
                </a:cubicBezTo>
                <a:cubicBezTo>
                  <a:pt x="14825" y="6161"/>
                  <a:pt x="14858" y="6160"/>
                  <a:pt x="14908" y="6102"/>
                </a:cubicBezTo>
              </a:path>
              <a:path w="3499" h="2556">
                <a:moveTo>
                  <a:pt x="14784" y="5581"/>
                </a:moveTo>
                <a:cubicBezTo>
                  <a:pt x="14673" y="5641"/>
                  <a:pt x="14631" y="5695"/>
                  <a:pt x="14536" y="5779"/>
                </a:cubicBezTo>
                <a:cubicBezTo>
                  <a:pt x="14433" y="5870"/>
                  <a:pt x="14350" y="5940"/>
                  <a:pt x="14238" y="6003"/>
                </a:cubicBezTo>
                <a:cubicBezTo>
                  <a:pt x="14185" y="6033"/>
                  <a:pt x="14136" y="6064"/>
                  <a:pt x="14089" y="6102"/>
                </a:cubicBezTo>
              </a:path>
              <a:path w="3499" h="2556">
                <a:moveTo>
                  <a:pt x="12179" y="6300"/>
                </a:moveTo>
                <a:cubicBezTo>
                  <a:pt x="12401" y="6329"/>
                  <a:pt x="12603" y="6312"/>
                  <a:pt x="12824" y="6300"/>
                </a:cubicBezTo>
                <a:cubicBezTo>
                  <a:pt x="13040" y="6288"/>
                  <a:pt x="13254" y="6278"/>
                  <a:pt x="13469" y="6251"/>
                </a:cubicBezTo>
                <a:cubicBezTo>
                  <a:pt x="13684" y="6224"/>
                  <a:pt x="13900" y="6226"/>
                  <a:pt x="14114" y="6201"/>
                </a:cubicBezTo>
                <a:cubicBezTo>
                  <a:pt x="14262" y="6183"/>
                  <a:pt x="14393" y="6153"/>
                  <a:pt x="14536" y="6127"/>
                </a:cubicBezTo>
                <a:cubicBezTo>
                  <a:pt x="14552" y="6127"/>
                  <a:pt x="14569" y="6127"/>
                  <a:pt x="14585" y="6127"/>
                </a:cubicBezTo>
              </a:path>
              <a:path w="3499" h="2556">
                <a:moveTo>
                  <a:pt x="13643" y="6598"/>
                </a:moveTo>
                <a:cubicBezTo>
                  <a:pt x="13614" y="6772"/>
                  <a:pt x="13574" y="6945"/>
                  <a:pt x="13568" y="7119"/>
                </a:cubicBezTo>
                <a:cubicBezTo>
                  <a:pt x="13565" y="7222"/>
                  <a:pt x="13547" y="7316"/>
                  <a:pt x="13543" y="7417"/>
                </a:cubicBezTo>
                <a:cubicBezTo>
                  <a:pt x="13540" y="7499"/>
                  <a:pt x="13543" y="7583"/>
                  <a:pt x="13543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1"/>
          <p:cNvSpPr/>
          <p:nvPr/>
        </p:nvSpPr>
        <p:spPr>
          <a:xfrm>
            <a:off x="5956200" y="2108160"/>
            <a:ext cx="12564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6545" y="5904"/>
                </a:moveTo>
                <a:cubicBezTo>
                  <a:pt x="16615" y="5885"/>
                  <a:pt x="16676" y="5857"/>
                  <a:pt x="16743" y="5854"/>
                </a:cubicBezTo>
                <a:cubicBezTo>
                  <a:pt x="16792" y="5852"/>
                  <a:pt x="16843" y="5854"/>
                  <a:pt x="16892" y="5854"/>
                </a:cubicBezTo>
              </a:path>
              <a:path w="348" h="274">
                <a:moveTo>
                  <a:pt x="16545" y="6102"/>
                </a:moveTo>
                <a:cubicBezTo>
                  <a:pt x="16634" y="6140"/>
                  <a:pt x="16722" y="6131"/>
                  <a:pt x="16818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2"/>
          <p:cNvSpPr/>
          <p:nvPr/>
        </p:nvSpPr>
        <p:spPr>
          <a:xfrm>
            <a:off x="6419880" y="1893960"/>
            <a:ext cx="1081080" cy="411120"/>
          </a:xfrm>
          <a:custGeom>
            <a:avLst/>
            <a:gdLst/>
            <a:ahLst/>
            <a:rect l="l" t="t" r="r" b="b"/>
            <a:pathLst>
              <a:path w="3002" h="1142">
                <a:moveTo>
                  <a:pt x="18182" y="5283"/>
                </a:moveTo>
                <a:cubicBezTo>
                  <a:pt x="18222" y="5350"/>
                  <a:pt x="18185" y="5380"/>
                  <a:pt x="18182" y="5457"/>
                </a:cubicBezTo>
                <a:cubicBezTo>
                  <a:pt x="18177" y="5560"/>
                  <a:pt x="18161" y="5654"/>
                  <a:pt x="18157" y="5755"/>
                </a:cubicBezTo>
                <a:cubicBezTo>
                  <a:pt x="18153" y="5856"/>
                  <a:pt x="18140" y="5959"/>
                  <a:pt x="18132" y="6052"/>
                </a:cubicBezTo>
                <a:cubicBezTo>
                  <a:pt x="18123" y="6160"/>
                  <a:pt x="18144" y="6232"/>
                  <a:pt x="18157" y="6325"/>
                </a:cubicBezTo>
              </a:path>
              <a:path w="3002" h="1142">
                <a:moveTo>
                  <a:pt x="17835" y="5804"/>
                </a:moveTo>
                <a:cubicBezTo>
                  <a:pt x="17937" y="5776"/>
                  <a:pt x="18051" y="5757"/>
                  <a:pt x="18157" y="5755"/>
                </a:cubicBezTo>
                <a:cubicBezTo>
                  <a:pt x="18289" y="5752"/>
                  <a:pt x="18403" y="5744"/>
                  <a:pt x="18529" y="5730"/>
                </a:cubicBezTo>
                <a:cubicBezTo>
                  <a:pt x="18608" y="5721"/>
                  <a:pt x="18686" y="5693"/>
                  <a:pt x="18752" y="5680"/>
                </a:cubicBezTo>
                <a:cubicBezTo>
                  <a:pt x="18769" y="5680"/>
                  <a:pt x="18785" y="5680"/>
                  <a:pt x="18802" y="5680"/>
                </a:cubicBezTo>
                <a:cubicBezTo>
                  <a:pt x="18739" y="5731"/>
                  <a:pt x="18689" y="5774"/>
                  <a:pt x="18628" y="5829"/>
                </a:cubicBezTo>
                <a:cubicBezTo>
                  <a:pt x="18531" y="5917"/>
                  <a:pt x="18431" y="6058"/>
                  <a:pt x="18405" y="6176"/>
                </a:cubicBezTo>
                <a:cubicBezTo>
                  <a:pt x="18390" y="6245"/>
                  <a:pt x="18393" y="6334"/>
                  <a:pt x="18479" y="6350"/>
                </a:cubicBezTo>
                <a:cubicBezTo>
                  <a:pt x="18578" y="6368"/>
                  <a:pt x="18625" y="6314"/>
                  <a:pt x="18678" y="6251"/>
                </a:cubicBezTo>
                <a:cubicBezTo>
                  <a:pt x="18724" y="6196"/>
                  <a:pt x="18748" y="6178"/>
                  <a:pt x="18752" y="6102"/>
                </a:cubicBezTo>
                <a:cubicBezTo>
                  <a:pt x="18756" y="6023"/>
                  <a:pt x="18791" y="5963"/>
                  <a:pt x="18777" y="5879"/>
                </a:cubicBezTo>
                <a:cubicBezTo>
                  <a:pt x="18769" y="5846"/>
                  <a:pt x="18760" y="5812"/>
                  <a:pt x="18752" y="5779"/>
                </a:cubicBezTo>
                <a:cubicBezTo>
                  <a:pt x="18781" y="5856"/>
                  <a:pt x="18777" y="5919"/>
                  <a:pt x="18777" y="6003"/>
                </a:cubicBezTo>
                <a:cubicBezTo>
                  <a:pt x="18777" y="6080"/>
                  <a:pt x="18781" y="6135"/>
                  <a:pt x="18827" y="6201"/>
                </a:cubicBezTo>
                <a:cubicBezTo>
                  <a:pt x="18834" y="6211"/>
                  <a:pt x="18964" y="6301"/>
                  <a:pt x="18976" y="6300"/>
                </a:cubicBezTo>
                <a:cubicBezTo>
                  <a:pt x="19016" y="6297"/>
                  <a:pt x="19049" y="6252"/>
                  <a:pt x="19075" y="6226"/>
                </a:cubicBezTo>
              </a:path>
              <a:path w="3002" h="1142">
                <a:moveTo>
                  <a:pt x="19100" y="5854"/>
                </a:moveTo>
                <a:cubicBezTo>
                  <a:pt x="19100" y="6009"/>
                  <a:pt x="19100" y="6154"/>
                  <a:pt x="19124" y="6300"/>
                </a:cubicBezTo>
                <a:cubicBezTo>
                  <a:pt x="19124" y="6317"/>
                  <a:pt x="19124" y="6333"/>
                  <a:pt x="19124" y="6350"/>
                </a:cubicBezTo>
                <a:cubicBezTo>
                  <a:pt x="19163" y="6285"/>
                  <a:pt x="19149" y="6207"/>
                  <a:pt x="19149" y="6127"/>
                </a:cubicBezTo>
                <a:cubicBezTo>
                  <a:pt x="19149" y="6038"/>
                  <a:pt x="19178" y="5932"/>
                  <a:pt x="19224" y="5854"/>
                </a:cubicBezTo>
                <a:cubicBezTo>
                  <a:pt x="19253" y="5804"/>
                  <a:pt x="19353" y="5702"/>
                  <a:pt x="19422" y="5705"/>
                </a:cubicBezTo>
                <a:cubicBezTo>
                  <a:pt x="19484" y="5708"/>
                  <a:pt x="19550" y="5803"/>
                  <a:pt x="19571" y="5854"/>
                </a:cubicBezTo>
                <a:cubicBezTo>
                  <a:pt x="19614" y="5957"/>
                  <a:pt x="19621" y="6042"/>
                  <a:pt x="19621" y="6152"/>
                </a:cubicBezTo>
                <a:cubicBezTo>
                  <a:pt x="19621" y="6195"/>
                  <a:pt x="19621" y="6473"/>
                  <a:pt x="19621" y="6350"/>
                </a:cubicBezTo>
              </a:path>
              <a:path w="3002" h="1142">
                <a:moveTo>
                  <a:pt x="19645" y="5333"/>
                </a:moveTo>
                <a:cubicBezTo>
                  <a:pt x="19750" y="5266"/>
                  <a:pt x="19792" y="5259"/>
                  <a:pt x="19918" y="5259"/>
                </a:cubicBezTo>
                <a:cubicBezTo>
                  <a:pt x="19943" y="5259"/>
                  <a:pt x="19968" y="5259"/>
                  <a:pt x="19993" y="5259"/>
                </a:cubicBezTo>
                <a:cubicBezTo>
                  <a:pt x="19980" y="5358"/>
                  <a:pt x="19946" y="5365"/>
                  <a:pt x="19893" y="5432"/>
                </a:cubicBezTo>
                <a:cubicBezTo>
                  <a:pt x="19863" y="5469"/>
                  <a:pt x="19759" y="5517"/>
                  <a:pt x="19745" y="5556"/>
                </a:cubicBezTo>
                <a:cubicBezTo>
                  <a:pt x="19745" y="5573"/>
                  <a:pt x="19745" y="5589"/>
                  <a:pt x="19745" y="5606"/>
                </a:cubicBezTo>
                <a:cubicBezTo>
                  <a:pt x="19817" y="5633"/>
                  <a:pt x="19914" y="5649"/>
                  <a:pt x="19993" y="5631"/>
                </a:cubicBezTo>
                <a:cubicBezTo>
                  <a:pt x="20009" y="5623"/>
                  <a:pt x="20026" y="5614"/>
                  <a:pt x="20042" y="5606"/>
                </a:cubicBezTo>
              </a:path>
              <a:path w="3002" h="1142">
                <a:moveTo>
                  <a:pt x="20265" y="5854"/>
                </a:moveTo>
                <a:cubicBezTo>
                  <a:pt x="20306" y="6066"/>
                  <a:pt x="20295" y="6077"/>
                  <a:pt x="20439" y="6201"/>
                </a:cubicBezTo>
                <a:cubicBezTo>
                  <a:pt x="20512" y="6264"/>
                  <a:pt x="20574" y="6306"/>
                  <a:pt x="20662" y="6350"/>
                </a:cubicBezTo>
                <a:cubicBezTo>
                  <a:pt x="20737" y="6388"/>
                  <a:pt x="20762" y="6365"/>
                  <a:pt x="20836" y="6350"/>
                </a:cubicBezTo>
              </a:path>
              <a:path w="3002" h="1142">
                <a:moveTo>
                  <a:pt x="20687" y="5755"/>
                </a:moveTo>
                <a:cubicBezTo>
                  <a:pt x="20599" y="5903"/>
                  <a:pt x="20516" y="6036"/>
                  <a:pt x="20389" y="6152"/>
                </a:cubicBezTo>
                <a:cubicBezTo>
                  <a:pt x="20309" y="6225"/>
                  <a:pt x="20284" y="6307"/>
                  <a:pt x="20216" y="6375"/>
                </a:cubicBezTo>
                <a:cubicBezTo>
                  <a:pt x="20199" y="6383"/>
                  <a:pt x="20183" y="6392"/>
                  <a:pt x="20166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3"/>
          <p:cNvSpPr/>
          <p:nvPr/>
        </p:nvSpPr>
        <p:spPr>
          <a:xfrm>
            <a:off x="4599000" y="2751120"/>
            <a:ext cx="919080" cy="490680"/>
          </a:xfrm>
          <a:custGeom>
            <a:avLst/>
            <a:gdLst/>
            <a:ahLst/>
            <a:rect l="l" t="t" r="r" b="b"/>
            <a:pathLst>
              <a:path w="2556" h="1365">
                <a:moveTo>
                  <a:pt x="13246" y="8086"/>
                </a:moveTo>
                <a:cubicBezTo>
                  <a:pt x="13271" y="8111"/>
                  <a:pt x="13279" y="8119"/>
                  <a:pt x="13295" y="8136"/>
                </a:cubicBezTo>
                <a:cubicBezTo>
                  <a:pt x="13231" y="8127"/>
                  <a:pt x="13193" y="8111"/>
                  <a:pt x="13122" y="8111"/>
                </a:cubicBezTo>
                <a:cubicBezTo>
                  <a:pt x="13031" y="8111"/>
                  <a:pt x="12978" y="8146"/>
                  <a:pt x="12898" y="8186"/>
                </a:cubicBezTo>
                <a:cubicBezTo>
                  <a:pt x="12855" y="8207"/>
                  <a:pt x="12843" y="8211"/>
                  <a:pt x="12824" y="8235"/>
                </a:cubicBezTo>
                <a:cubicBezTo>
                  <a:pt x="12869" y="8271"/>
                  <a:pt x="12919" y="8312"/>
                  <a:pt x="12973" y="8334"/>
                </a:cubicBezTo>
                <a:cubicBezTo>
                  <a:pt x="13062" y="8370"/>
                  <a:pt x="13104" y="8416"/>
                  <a:pt x="13171" y="8483"/>
                </a:cubicBezTo>
                <a:cubicBezTo>
                  <a:pt x="13240" y="8552"/>
                  <a:pt x="13323" y="8602"/>
                  <a:pt x="13271" y="8706"/>
                </a:cubicBezTo>
                <a:cubicBezTo>
                  <a:pt x="13251" y="8745"/>
                  <a:pt x="13137" y="8754"/>
                  <a:pt x="13097" y="8756"/>
                </a:cubicBezTo>
                <a:cubicBezTo>
                  <a:pt x="13012" y="8761"/>
                  <a:pt x="12922" y="8731"/>
                  <a:pt x="12849" y="8706"/>
                </a:cubicBezTo>
                <a:cubicBezTo>
                  <a:pt x="12778" y="8682"/>
                  <a:pt x="12783" y="8671"/>
                  <a:pt x="12774" y="8607"/>
                </a:cubicBezTo>
              </a:path>
              <a:path w="2556" h="1365">
                <a:moveTo>
                  <a:pt x="13568" y="8310"/>
                </a:moveTo>
                <a:cubicBezTo>
                  <a:pt x="13579" y="8416"/>
                  <a:pt x="13547" y="8530"/>
                  <a:pt x="13568" y="8632"/>
                </a:cubicBezTo>
                <a:cubicBezTo>
                  <a:pt x="13572" y="8652"/>
                  <a:pt x="13637" y="8880"/>
                  <a:pt x="13593" y="8756"/>
                </a:cubicBezTo>
                <a:cubicBezTo>
                  <a:pt x="13585" y="8739"/>
                  <a:pt x="13576" y="8723"/>
                  <a:pt x="13568" y="8706"/>
                </a:cubicBezTo>
              </a:path>
              <a:path w="2556" h="1365">
                <a:moveTo>
                  <a:pt x="13593" y="7962"/>
                </a:moveTo>
                <a:cubicBezTo>
                  <a:pt x="13637" y="7941"/>
                  <a:pt x="13649" y="7938"/>
                  <a:pt x="13667" y="7913"/>
                </a:cubicBezTo>
              </a:path>
              <a:path w="2556" h="1365">
                <a:moveTo>
                  <a:pt x="13866" y="8508"/>
                </a:moveTo>
                <a:cubicBezTo>
                  <a:pt x="13879" y="8619"/>
                  <a:pt x="13902" y="8935"/>
                  <a:pt x="13866" y="8830"/>
                </a:cubicBezTo>
                <a:cubicBezTo>
                  <a:pt x="13837" y="8746"/>
                  <a:pt x="13856" y="8688"/>
                  <a:pt x="13866" y="8607"/>
                </a:cubicBezTo>
                <a:cubicBezTo>
                  <a:pt x="13875" y="8534"/>
                  <a:pt x="13875" y="8449"/>
                  <a:pt x="13915" y="8384"/>
                </a:cubicBezTo>
                <a:cubicBezTo>
                  <a:pt x="13967" y="8298"/>
                  <a:pt x="14025" y="8264"/>
                  <a:pt x="14114" y="8260"/>
                </a:cubicBezTo>
                <a:cubicBezTo>
                  <a:pt x="14183" y="8257"/>
                  <a:pt x="14243" y="8284"/>
                  <a:pt x="14263" y="8359"/>
                </a:cubicBezTo>
                <a:cubicBezTo>
                  <a:pt x="14285" y="8440"/>
                  <a:pt x="14270" y="8525"/>
                  <a:pt x="14288" y="8607"/>
                </a:cubicBezTo>
                <a:cubicBezTo>
                  <a:pt x="14302" y="8669"/>
                  <a:pt x="14289" y="8772"/>
                  <a:pt x="14312" y="8830"/>
                </a:cubicBezTo>
                <a:cubicBezTo>
                  <a:pt x="14328" y="8872"/>
                  <a:pt x="14349" y="8880"/>
                  <a:pt x="14362" y="8855"/>
                </a:cubicBezTo>
              </a:path>
              <a:path w="2556" h="1365">
                <a:moveTo>
                  <a:pt x="14436" y="7640"/>
                </a:moveTo>
                <a:cubicBezTo>
                  <a:pt x="14635" y="7667"/>
                  <a:pt x="14692" y="7674"/>
                  <a:pt x="14560" y="7863"/>
                </a:cubicBezTo>
                <a:cubicBezTo>
                  <a:pt x="14521" y="7918"/>
                  <a:pt x="14454" y="7910"/>
                  <a:pt x="14436" y="7987"/>
                </a:cubicBezTo>
                <a:cubicBezTo>
                  <a:pt x="14413" y="8085"/>
                  <a:pt x="14543" y="8101"/>
                  <a:pt x="14610" y="8111"/>
                </a:cubicBezTo>
                <a:cubicBezTo>
                  <a:pt x="14660" y="8111"/>
                  <a:pt x="14676" y="8111"/>
                  <a:pt x="14709" y="8111"/>
                </a:cubicBezTo>
              </a:path>
              <a:path w="2556" h="1365">
                <a:moveTo>
                  <a:pt x="14957" y="8210"/>
                </a:moveTo>
                <a:cubicBezTo>
                  <a:pt x="14928" y="8288"/>
                  <a:pt x="14922" y="8331"/>
                  <a:pt x="14957" y="8409"/>
                </a:cubicBezTo>
                <a:cubicBezTo>
                  <a:pt x="15007" y="8521"/>
                  <a:pt x="15045" y="8596"/>
                  <a:pt x="15131" y="8682"/>
                </a:cubicBezTo>
                <a:cubicBezTo>
                  <a:pt x="15200" y="8751"/>
                  <a:pt x="15233" y="8794"/>
                  <a:pt x="15329" y="8806"/>
                </a:cubicBezTo>
              </a:path>
              <a:path w="2556" h="1365">
                <a:moveTo>
                  <a:pt x="15304" y="8161"/>
                </a:moveTo>
                <a:cubicBezTo>
                  <a:pt x="15192" y="8217"/>
                  <a:pt x="15104" y="8316"/>
                  <a:pt x="15007" y="8409"/>
                </a:cubicBezTo>
                <a:cubicBezTo>
                  <a:pt x="14925" y="8487"/>
                  <a:pt x="14856" y="8575"/>
                  <a:pt x="14784" y="8657"/>
                </a:cubicBezTo>
                <a:cubicBezTo>
                  <a:pt x="14731" y="8717"/>
                  <a:pt x="14667" y="8773"/>
                  <a:pt x="14610" y="8830"/>
                </a:cubicBezTo>
              </a:path>
              <a:path w="2556" h="1365">
                <a:moveTo>
                  <a:pt x="12774" y="8930"/>
                </a:moveTo>
                <a:cubicBezTo>
                  <a:pt x="12951" y="8930"/>
                  <a:pt x="13121" y="8944"/>
                  <a:pt x="13295" y="8954"/>
                </a:cubicBezTo>
                <a:cubicBezTo>
                  <a:pt x="13490" y="8966"/>
                  <a:pt x="13697" y="8975"/>
                  <a:pt x="13891" y="8979"/>
                </a:cubicBezTo>
                <a:cubicBezTo>
                  <a:pt x="14232" y="8987"/>
                  <a:pt x="14570" y="8997"/>
                  <a:pt x="14908" y="9004"/>
                </a:cubicBezTo>
                <a:cubicBezTo>
                  <a:pt x="14990" y="9006"/>
                  <a:pt x="15182" y="9028"/>
                  <a:pt x="15255" y="8979"/>
                </a:cubicBezTo>
                <a:cubicBezTo>
                  <a:pt x="15255" y="8971"/>
                  <a:pt x="15255" y="8962"/>
                  <a:pt x="15255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4"/>
          <p:cNvSpPr/>
          <p:nvPr/>
        </p:nvSpPr>
        <p:spPr>
          <a:xfrm>
            <a:off x="4813200" y="3303720"/>
            <a:ext cx="911160" cy="428400"/>
          </a:xfrm>
          <a:custGeom>
            <a:avLst/>
            <a:gdLst/>
            <a:ahLst/>
            <a:rect l="l" t="t" r="r" b="b"/>
            <a:pathLst>
              <a:path w="2531" h="1191">
                <a:moveTo>
                  <a:pt x="13791" y="9624"/>
                </a:moveTo>
                <a:cubicBezTo>
                  <a:pt x="13773" y="9737"/>
                  <a:pt x="13758" y="9772"/>
                  <a:pt x="13791" y="9872"/>
                </a:cubicBezTo>
                <a:cubicBezTo>
                  <a:pt x="13782" y="9796"/>
                  <a:pt x="13755" y="9762"/>
                  <a:pt x="13717" y="9699"/>
                </a:cubicBezTo>
                <a:cubicBezTo>
                  <a:pt x="13686" y="9648"/>
                  <a:pt x="13659" y="9590"/>
                  <a:pt x="13593" y="9575"/>
                </a:cubicBezTo>
                <a:cubicBezTo>
                  <a:pt x="13539" y="9563"/>
                  <a:pt x="13499" y="9609"/>
                  <a:pt x="13469" y="9649"/>
                </a:cubicBezTo>
                <a:cubicBezTo>
                  <a:pt x="13418" y="9718"/>
                  <a:pt x="13375" y="9787"/>
                  <a:pt x="13370" y="9872"/>
                </a:cubicBezTo>
                <a:cubicBezTo>
                  <a:pt x="13365" y="9953"/>
                  <a:pt x="13383" y="9999"/>
                  <a:pt x="13419" y="10071"/>
                </a:cubicBezTo>
                <a:cubicBezTo>
                  <a:pt x="13461" y="10156"/>
                  <a:pt x="13483" y="10178"/>
                  <a:pt x="13568" y="10220"/>
                </a:cubicBezTo>
                <a:cubicBezTo>
                  <a:pt x="13658" y="10264"/>
                  <a:pt x="13718" y="10236"/>
                  <a:pt x="13816" y="10220"/>
                </a:cubicBezTo>
              </a:path>
              <a:path w="2531" h="1191">
                <a:moveTo>
                  <a:pt x="14163" y="9624"/>
                </a:moveTo>
                <a:cubicBezTo>
                  <a:pt x="14130" y="9692"/>
                  <a:pt x="14083" y="9750"/>
                  <a:pt x="14064" y="9823"/>
                </a:cubicBezTo>
                <a:cubicBezTo>
                  <a:pt x="14047" y="9888"/>
                  <a:pt x="14018" y="10022"/>
                  <a:pt x="14039" y="10096"/>
                </a:cubicBezTo>
                <a:cubicBezTo>
                  <a:pt x="14053" y="10145"/>
                  <a:pt x="14097" y="10239"/>
                  <a:pt x="14139" y="10269"/>
                </a:cubicBezTo>
                <a:cubicBezTo>
                  <a:pt x="14222" y="10329"/>
                  <a:pt x="14252" y="10308"/>
                  <a:pt x="14337" y="10294"/>
                </a:cubicBezTo>
                <a:cubicBezTo>
                  <a:pt x="14413" y="10281"/>
                  <a:pt x="14462" y="10179"/>
                  <a:pt x="14486" y="10096"/>
                </a:cubicBezTo>
                <a:cubicBezTo>
                  <a:pt x="14504" y="10033"/>
                  <a:pt x="14481" y="9930"/>
                  <a:pt x="14461" y="9872"/>
                </a:cubicBezTo>
                <a:cubicBezTo>
                  <a:pt x="14435" y="9794"/>
                  <a:pt x="14356" y="9736"/>
                  <a:pt x="14288" y="9699"/>
                </a:cubicBezTo>
                <a:cubicBezTo>
                  <a:pt x="14235" y="9670"/>
                  <a:pt x="14181" y="9623"/>
                  <a:pt x="14114" y="9649"/>
                </a:cubicBezTo>
                <a:cubicBezTo>
                  <a:pt x="14106" y="9657"/>
                  <a:pt x="14097" y="9666"/>
                  <a:pt x="14089" y="9674"/>
                </a:cubicBezTo>
              </a:path>
              <a:path w="2531" h="1191">
                <a:moveTo>
                  <a:pt x="14784" y="9699"/>
                </a:moveTo>
                <a:cubicBezTo>
                  <a:pt x="14681" y="9699"/>
                  <a:pt x="14620" y="9691"/>
                  <a:pt x="14536" y="9748"/>
                </a:cubicBezTo>
                <a:cubicBezTo>
                  <a:pt x="14575" y="9847"/>
                  <a:pt x="14604" y="9856"/>
                  <a:pt x="14684" y="9922"/>
                </a:cubicBezTo>
                <a:cubicBezTo>
                  <a:pt x="14749" y="9976"/>
                  <a:pt x="14853" y="10065"/>
                  <a:pt x="14883" y="10145"/>
                </a:cubicBezTo>
                <a:cubicBezTo>
                  <a:pt x="14918" y="10236"/>
                  <a:pt x="14799" y="10284"/>
                  <a:pt x="14734" y="10294"/>
                </a:cubicBezTo>
                <a:cubicBezTo>
                  <a:pt x="14692" y="10300"/>
                  <a:pt x="14569" y="10277"/>
                  <a:pt x="14536" y="10244"/>
                </a:cubicBezTo>
                <a:cubicBezTo>
                  <a:pt x="14508" y="10189"/>
                  <a:pt x="14500" y="10166"/>
                  <a:pt x="14511" y="10120"/>
                </a:cubicBezTo>
              </a:path>
              <a:path w="2531" h="1191">
                <a:moveTo>
                  <a:pt x="14858" y="9203"/>
                </a:moveTo>
                <a:cubicBezTo>
                  <a:pt x="14953" y="9177"/>
                  <a:pt x="14990" y="9172"/>
                  <a:pt x="15081" y="9203"/>
                </a:cubicBezTo>
                <a:cubicBezTo>
                  <a:pt x="15172" y="9234"/>
                  <a:pt x="15211" y="9297"/>
                  <a:pt x="15180" y="9401"/>
                </a:cubicBezTo>
                <a:cubicBezTo>
                  <a:pt x="15172" y="9427"/>
                  <a:pt x="15055" y="9502"/>
                  <a:pt x="15032" y="9525"/>
                </a:cubicBezTo>
                <a:cubicBezTo>
                  <a:pt x="15078" y="9549"/>
                  <a:pt x="15126" y="9557"/>
                  <a:pt x="15180" y="9575"/>
                </a:cubicBezTo>
              </a:path>
              <a:path w="2531" h="1191">
                <a:moveTo>
                  <a:pt x="15280" y="9723"/>
                </a:moveTo>
                <a:cubicBezTo>
                  <a:pt x="15289" y="9861"/>
                  <a:pt x="15323" y="9969"/>
                  <a:pt x="15429" y="10071"/>
                </a:cubicBezTo>
                <a:cubicBezTo>
                  <a:pt x="15533" y="10170"/>
                  <a:pt x="15698" y="10260"/>
                  <a:pt x="15825" y="10319"/>
                </a:cubicBezTo>
                <a:cubicBezTo>
                  <a:pt x="15850" y="10327"/>
                  <a:pt x="15875" y="10336"/>
                  <a:pt x="15900" y="10344"/>
                </a:cubicBezTo>
              </a:path>
              <a:path w="2531" h="1191">
                <a:moveTo>
                  <a:pt x="15751" y="9624"/>
                </a:moveTo>
                <a:cubicBezTo>
                  <a:pt x="15606" y="9741"/>
                  <a:pt x="15488" y="9866"/>
                  <a:pt x="15379" y="10021"/>
                </a:cubicBezTo>
                <a:cubicBezTo>
                  <a:pt x="15316" y="10110"/>
                  <a:pt x="15276" y="10197"/>
                  <a:pt x="15230" y="10294"/>
                </a:cubicBezTo>
                <a:cubicBezTo>
                  <a:pt x="15210" y="10337"/>
                  <a:pt x="15200" y="10382"/>
                  <a:pt x="15180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15"/>
          <p:cNvSpPr/>
          <p:nvPr/>
        </p:nvSpPr>
        <p:spPr>
          <a:xfrm>
            <a:off x="5848200" y="3178080"/>
            <a:ext cx="179640" cy="1177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6247" y="8905"/>
                </a:moveTo>
                <a:cubicBezTo>
                  <a:pt x="16420" y="8847"/>
                  <a:pt x="16479" y="8830"/>
                  <a:pt x="16644" y="8830"/>
                </a:cubicBezTo>
              </a:path>
              <a:path w="497" h="324">
                <a:moveTo>
                  <a:pt x="16272" y="9153"/>
                </a:moveTo>
                <a:cubicBezTo>
                  <a:pt x="16444" y="9153"/>
                  <a:pt x="16576" y="9143"/>
                  <a:pt x="16743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6"/>
          <p:cNvSpPr/>
          <p:nvPr/>
        </p:nvSpPr>
        <p:spPr>
          <a:xfrm>
            <a:off x="6180120" y="2830680"/>
            <a:ext cx="1062000" cy="455400"/>
          </a:xfrm>
          <a:custGeom>
            <a:avLst/>
            <a:gdLst/>
            <a:ahLst/>
            <a:rect l="l" t="t" r="r" b="b"/>
            <a:pathLst>
              <a:path w="2953" h="1266">
                <a:moveTo>
                  <a:pt x="17487" y="8012"/>
                </a:moveTo>
                <a:cubicBezTo>
                  <a:pt x="17481" y="8155"/>
                  <a:pt x="17442" y="8314"/>
                  <a:pt x="17462" y="8458"/>
                </a:cubicBezTo>
                <a:cubicBezTo>
                  <a:pt x="17478" y="8574"/>
                  <a:pt x="17500" y="8692"/>
                  <a:pt x="17512" y="8806"/>
                </a:cubicBezTo>
                <a:cubicBezTo>
                  <a:pt x="17520" y="8880"/>
                  <a:pt x="17550" y="8942"/>
                  <a:pt x="17562" y="9004"/>
                </a:cubicBezTo>
                <a:cubicBezTo>
                  <a:pt x="17562" y="9021"/>
                  <a:pt x="17562" y="9037"/>
                  <a:pt x="17562" y="9054"/>
                </a:cubicBezTo>
              </a:path>
              <a:path w="2953" h="1266">
                <a:moveTo>
                  <a:pt x="17165" y="8582"/>
                </a:moveTo>
                <a:cubicBezTo>
                  <a:pt x="17289" y="8504"/>
                  <a:pt x="17364" y="8508"/>
                  <a:pt x="17512" y="8508"/>
                </a:cubicBezTo>
                <a:cubicBezTo>
                  <a:pt x="17717" y="8508"/>
                  <a:pt x="17999" y="8464"/>
                  <a:pt x="18182" y="8533"/>
                </a:cubicBezTo>
                <a:cubicBezTo>
                  <a:pt x="18134" y="8592"/>
                  <a:pt x="18081" y="8623"/>
                  <a:pt x="18033" y="8682"/>
                </a:cubicBezTo>
                <a:cubicBezTo>
                  <a:pt x="17994" y="8729"/>
                  <a:pt x="17875" y="8827"/>
                  <a:pt x="17884" y="8880"/>
                </a:cubicBezTo>
                <a:cubicBezTo>
                  <a:pt x="17900" y="8969"/>
                  <a:pt x="17976" y="9013"/>
                  <a:pt x="18058" y="9029"/>
                </a:cubicBezTo>
                <a:cubicBezTo>
                  <a:pt x="18107" y="9038"/>
                  <a:pt x="18207" y="9000"/>
                  <a:pt x="18231" y="8954"/>
                </a:cubicBezTo>
                <a:cubicBezTo>
                  <a:pt x="18262" y="8895"/>
                  <a:pt x="18277" y="8795"/>
                  <a:pt x="18281" y="8731"/>
                </a:cubicBezTo>
                <a:cubicBezTo>
                  <a:pt x="18285" y="8668"/>
                  <a:pt x="18277" y="8639"/>
                  <a:pt x="18256" y="8582"/>
                </a:cubicBezTo>
                <a:cubicBezTo>
                  <a:pt x="18249" y="8634"/>
                  <a:pt x="18217" y="8736"/>
                  <a:pt x="18256" y="8781"/>
                </a:cubicBezTo>
                <a:cubicBezTo>
                  <a:pt x="18305" y="8839"/>
                  <a:pt x="18338" y="8842"/>
                  <a:pt x="18405" y="8855"/>
                </a:cubicBezTo>
              </a:path>
              <a:path w="2953" h="1266">
                <a:moveTo>
                  <a:pt x="18554" y="8582"/>
                </a:moveTo>
                <a:cubicBezTo>
                  <a:pt x="18541" y="8725"/>
                  <a:pt x="18528" y="8754"/>
                  <a:pt x="18579" y="8880"/>
                </a:cubicBezTo>
                <a:cubicBezTo>
                  <a:pt x="18615" y="8820"/>
                  <a:pt x="18604" y="8756"/>
                  <a:pt x="18604" y="8682"/>
                </a:cubicBezTo>
                <a:cubicBezTo>
                  <a:pt x="18604" y="8640"/>
                  <a:pt x="18612" y="8487"/>
                  <a:pt x="18653" y="8458"/>
                </a:cubicBezTo>
                <a:cubicBezTo>
                  <a:pt x="18764" y="8379"/>
                  <a:pt x="18834" y="8528"/>
                  <a:pt x="18876" y="8607"/>
                </a:cubicBezTo>
                <a:cubicBezTo>
                  <a:pt x="18942" y="8731"/>
                  <a:pt x="19003" y="8894"/>
                  <a:pt x="19100" y="9004"/>
                </a:cubicBezTo>
                <a:cubicBezTo>
                  <a:pt x="19108" y="9012"/>
                  <a:pt x="19116" y="9021"/>
                  <a:pt x="19124" y="9029"/>
                </a:cubicBezTo>
              </a:path>
              <a:path w="2953" h="1266">
                <a:moveTo>
                  <a:pt x="18901" y="7938"/>
                </a:moveTo>
                <a:cubicBezTo>
                  <a:pt x="18996" y="7890"/>
                  <a:pt x="19085" y="7831"/>
                  <a:pt x="19199" y="7863"/>
                </a:cubicBezTo>
                <a:cubicBezTo>
                  <a:pt x="19321" y="7897"/>
                  <a:pt x="19260" y="7993"/>
                  <a:pt x="19224" y="8062"/>
                </a:cubicBezTo>
                <a:cubicBezTo>
                  <a:pt x="19201" y="8105"/>
                  <a:pt x="19132" y="8185"/>
                  <a:pt x="19149" y="8235"/>
                </a:cubicBezTo>
                <a:cubicBezTo>
                  <a:pt x="19170" y="8297"/>
                  <a:pt x="19277" y="8314"/>
                  <a:pt x="19323" y="8334"/>
                </a:cubicBezTo>
                <a:cubicBezTo>
                  <a:pt x="19339" y="8342"/>
                  <a:pt x="19356" y="8351"/>
                  <a:pt x="19372" y="8359"/>
                </a:cubicBezTo>
              </a:path>
              <a:path w="2953" h="1266">
                <a:moveTo>
                  <a:pt x="19596" y="8582"/>
                </a:moveTo>
                <a:cubicBezTo>
                  <a:pt x="19668" y="8780"/>
                  <a:pt x="19744" y="8900"/>
                  <a:pt x="19893" y="9054"/>
                </a:cubicBezTo>
                <a:cubicBezTo>
                  <a:pt x="19918" y="9079"/>
                  <a:pt x="19943" y="9103"/>
                  <a:pt x="19968" y="9128"/>
                </a:cubicBezTo>
              </a:path>
              <a:path w="2953" h="1266">
                <a:moveTo>
                  <a:pt x="20117" y="8657"/>
                </a:moveTo>
                <a:cubicBezTo>
                  <a:pt x="19978" y="8742"/>
                  <a:pt x="19854" y="8812"/>
                  <a:pt x="19695" y="8855"/>
                </a:cubicBezTo>
                <a:cubicBezTo>
                  <a:pt x="19654" y="8863"/>
                  <a:pt x="19612" y="8872"/>
                  <a:pt x="19571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7"/>
          <p:cNvSpPr/>
          <p:nvPr/>
        </p:nvSpPr>
        <p:spPr>
          <a:xfrm>
            <a:off x="5072040" y="3956040"/>
            <a:ext cx="2295720" cy="642960"/>
          </a:xfrm>
          <a:custGeom>
            <a:avLst/>
            <a:gdLst/>
            <a:ahLst/>
            <a:rect l="l" t="t" r="r" b="b"/>
            <a:pathLst>
              <a:path w="6376" h="1787">
                <a:moveTo>
                  <a:pt x="14362" y="10988"/>
                </a:moveTo>
                <a:cubicBezTo>
                  <a:pt x="14362" y="11149"/>
                  <a:pt x="14379" y="11303"/>
                  <a:pt x="14387" y="11460"/>
                </a:cubicBezTo>
                <a:cubicBezTo>
                  <a:pt x="14396" y="11626"/>
                  <a:pt x="14417" y="11769"/>
                  <a:pt x="14436" y="11931"/>
                </a:cubicBezTo>
                <a:cubicBezTo>
                  <a:pt x="14445" y="12009"/>
                  <a:pt x="14451" y="12079"/>
                  <a:pt x="14461" y="12154"/>
                </a:cubicBezTo>
              </a:path>
              <a:path w="6376" h="1787">
                <a:moveTo>
                  <a:pt x="14089" y="11609"/>
                </a:moveTo>
                <a:cubicBezTo>
                  <a:pt x="14206" y="11629"/>
                  <a:pt x="14321" y="11615"/>
                  <a:pt x="14436" y="11633"/>
                </a:cubicBezTo>
                <a:cubicBezTo>
                  <a:pt x="14526" y="11647"/>
                  <a:pt x="14592" y="11658"/>
                  <a:pt x="14684" y="11658"/>
                </a:cubicBezTo>
              </a:path>
              <a:path w="6376" h="1787">
                <a:moveTo>
                  <a:pt x="14982" y="11683"/>
                </a:moveTo>
                <a:cubicBezTo>
                  <a:pt x="14933" y="11743"/>
                  <a:pt x="14891" y="11778"/>
                  <a:pt x="14833" y="11832"/>
                </a:cubicBezTo>
                <a:cubicBezTo>
                  <a:pt x="14795" y="11867"/>
                  <a:pt x="14796" y="11981"/>
                  <a:pt x="14808" y="12030"/>
                </a:cubicBezTo>
                <a:cubicBezTo>
                  <a:pt x="14826" y="12106"/>
                  <a:pt x="14908" y="12147"/>
                  <a:pt x="14982" y="12129"/>
                </a:cubicBezTo>
                <a:cubicBezTo>
                  <a:pt x="15012" y="12122"/>
                  <a:pt x="15075" y="12028"/>
                  <a:pt x="15081" y="12005"/>
                </a:cubicBezTo>
                <a:cubicBezTo>
                  <a:pt x="15095" y="11952"/>
                  <a:pt x="15128" y="11839"/>
                  <a:pt x="15106" y="11782"/>
                </a:cubicBezTo>
                <a:cubicBezTo>
                  <a:pt x="15072" y="11748"/>
                  <a:pt x="15064" y="11727"/>
                  <a:pt x="15081" y="11683"/>
                </a:cubicBezTo>
                <a:cubicBezTo>
                  <a:pt x="15057" y="11742"/>
                  <a:pt x="15101" y="11833"/>
                  <a:pt x="15131" y="11906"/>
                </a:cubicBezTo>
                <a:cubicBezTo>
                  <a:pt x="15156" y="11967"/>
                  <a:pt x="15211" y="12031"/>
                  <a:pt x="15255" y="12080"/>
                </a:cubicBezTo>
                <a:cubicBezTo>
                  <a:pt x="15333" y="12167"/>
                  <a:pt x="15348" y="12062"/>
                  <a:pt x="15354" y="12005"/>
                </a:cubicBezTo>
              </a:path>
              <a:path w="6376" h="1787">
                <a:moveTo>
                  <a:pt x="15354" y="11757"/>
                </a:moveTo>
                <a:cubicBezTo>
                  <a:pt x="15354" y="11732"/>
                  <a:pt x="15354" y="11708"/>
                  <a:pt x="15354" y="11683"/>
                </a:cubicBezTo>
                <a:cubicBezTo>
                  <a:pt x="15354" y="11765"/>
                  <a:pt x="15370" y="11828"/>
                  <a:pt x="15379" y="11906"/>
                </a:cubicBezTo>
                <a:cubicBezTo>
                  <a:pt x="15390" y="11999"/>
                  <a:pt x="15383" y="12102"/>
                  <a:pt x="15429" y="12179"/>
                </a:cubicBezTo>
                <a:cubicBezTo>
                  <a:pt x="15462" y="12134"/>
                  <a:pt x="15475" y="12089"/>
                  <a:pt x="15478" y="12030"/>
                </a:cubicBezTo>
                <a:cubicBezTo>
                  <a:pt x="15482" y="11953"/>
                  <a:pt x="15516" y="11882"/>
                  <a:pt x="15528" y="11807"/>
                </a:cubicBezTo>
                <a:cubicBezTo>
                  <a:pt x="15537" y="11748"/>
                  <a:pt x="15546" y="11672"/>
                  <a:pt x="15602" y="11633"/>
                </a:cubicBezTo>
                <a:cubicBezTo>
                  <a:pt x="15644" y="11604"/>
                  <a:pt x="15732" y="11591"/>
                  <a:pt x="15751" y="11658"/>
                </a:cubicBezTo>
                <a:cubicBezTo>
                  <a:pt x="15771" y="11729"/>
                  <a:pt x="15783" y="11810"/>
                  <a:pt x="15801" y="11881"/>
                </a:cubicBezTo>
                <a:cubicBezTo>
                  <a:pt x="15824" y="11973"/>
                  <a:pt x="15846" y="12059"/>
                  <a:pt x="15850" y="12154"/>
                </a:cubicBezTo>
                <a:cubicBezTo>
                  <a:pt x="15852" y="12196"/>
                  <a:pt x="15868" y="12296"/>
                  <a:pt x="15900" y="12328"/>
                </a:cubicBezTo>
                <a:cubicBezTo>
                  <a:pt x="15908" y="12328"/>
                  <a:pt x="15917" y="12328"/>
                  <a:pt x="15925" y="12328"/>
                </a:cubicBezTo>
              </a:path>
              <a:path w="6376" h="1787">
                <a:moveTo>
                  <a:pt x="15825" y="11187"/>
                </a:moveTo>
                <a:cubicBezTo>
                  <a:pt x="15857" y="11106"/>
                  <a:pt x="15889" y="11035"/>
                  <a:pt x="15999" y="11063"/>
                </a:cubicBezTo>
                <a:cubicBezTo>
                  <a:pt x="16071" y="11081"/>
                  <a:pt x="16125" y="11183"/>
                  <a:pt x="16148" y="11237"/>
                </a:cubicBezTo>
              </a:path>
              <a:path w="6376" h="1787">
                <a:moveTo>
                  <a:pt x="16148" y="11336"/>
                </a:moveTo>
                <a:cubicBezTo>
                  <a:pt x="16108" y="11410"/>
                  <a:pt x="16081" y="11501"/>
                  <a:pt x="15974" y="11460"/>
                </a:cubicBezTo>
                <a:cubicBezTo>
                  <a:pt x="15966" y="11452"/>
                  <a:pt x="15957" y="11443"/>
                  <a:pt x="15949" y="11435"/>
                </a:cubicBezTo>
                <a:cubicBezTo>
                  <a:pt x="15995" y="11417"/>
                  <a:pt x="16067" y="11425"/>
                  <a:pt x="16123" y="11460"/>
                </a:cubicBezTo>
                <a:cubicBezTo>
                  <a:pt x="16167" y="11487"/>
                  <a:pt x="16201" y="11530"/>
                  <a:pt x="16247" y="11559"/>
                </a:cubicBezTo>
              </a:path>
              <a:path w="6376" h="1787">
                <a:moveTo>
                  <a:pt x="16421" y="11733"/>
                </a:moveTo>
                <a:cubicBezTo>
                  <a:pt x="16448" y="11827"/>
                  <a:pt x="16474" y="11942"/>
                  <a:pt x="16520" y="12030"/>
                </a:cubicBezTo>
                <a:cubicBezTo>
                  <a:pt x="16571" y="12129"/>
                  <a:pt x="16662" y="12254"/>
                  <a:pt x="16743" y="12328"/>
                </a:cubicBezTo>
                <a:cubicBezTo>
                  <a:pt x="16787" y="12368"/>
                  <a:pt x="16921" y="12481"/>
                  <a:pt x="16966" y="12502"/>
                </a:cubicBezTo>
                <a:cubicBezTo>
                  <a:pt x="16983" y="12502"/>
                  <a:pt x="16999" y="12502"/>
                  <a:pt x="17016" y="12502"/>
                </a:cubicBezTo>
              </a:path>
              <a:path w="6376" h="1787">
                <a:moveTo>
                  <a:pt x="16594" y="11658"/>
                </a:moveTo>
                <a:cubicBezTo>
                  <a:pt x="16530" y="11811"/>
                  <a:pt x="16466" y="11956"/>
                  <a:pt x="16396" y="12105"/>
                </a:cubicBezTo>
                <a:cubicBezTo>
                  <a:pt x="16366" y="12169"/>
                  <a:pt x="16327" y="12211"/>
                  <a:pt x="16321" y="12278"/>
                </a:cubicBezTo>
                <a:cubicBezTo>
                  <a:pt x="16321" y="12286"/>
                  <a:pt x="16321" y="12295"/>
                  <a:pt x="16321" y="12303"/>
                </a:cubicBezTo>
              </a:path>
              <a:path w="6376" h="1787">
                <a:moveTo>
                  <a:pt x="16942" y="11683"/>
                </a:moveTo>
                <a:cubicBezTo>
                  <a:pt x="17083" y="11663"/>
                  <a:pt x="17111" y="11664"/>
                  <a:pt x="17190" y="11633"/>
                </a:cubicBezTo>
              </a:path>
              <a:path w="6376" h="1787">
                <a:moveTo>
                  <a:pt x="17016" y="11782"/>
                </a:moveTo>
                <a:cubicBezTo>
                  <a:pt x="17069" y="11835"/>
                  <a:pt x="17095" y="11839"/>
                  <a:pt x="17165" y="11857"/>
                </a:cubicBezTo>
                <a:cubicBezTo>
                  <a:pt x="17263" y="11882"/>
                  <a:pt x="17265" y="11883"/>
                  <a:pt x="17363" y="11857"/>
                </a:cubicBezTo>
              </a:path>
              <a:path w="6376" h="1787">
                <a:moveTo>
                  <a:pt x="17760" y="11088"/>
                </a:moveTo>
                <a:cubicBezTo>
                  <a:pt x="17779" y="11145"/>
                  <a:pt x="17760" y="11234"/>
                  <a:pt x="17760" y="11311"/>
                </a:cubicBezTo>
                <a:cubicBezTo>
                  <a:pt x="17760" y="11457"/>
                  <a:pt x="17766" y="11614"/>
                  <a:pt x="17785" y="11757"/>
                </a:cubicBezTo>
                <a:cubicBezTo>
                  <a:pt x="17802" y="11883"/>
                  <a:pt x="17843" y="12003"/>
                  <a:pt x="17859" y="12129"/>
                </a:cubicBezTo>
                <a:cubicBezTo>
                  <a:pt x="17870" y="12213"/>
                  <a:pt x="17865" y="12266"/>
                  <a:pt x="17884" y="12353"/>
                </a:cubicBezTo>
              </a:path>
              <a:path w="6376" h="1787">
                <a:moveTo>
                  <a:pt x="17611" y="11733"/>
                </a:moveTo>
                <a:cubicBezTo>
                  <a:pt x="17664" y="11680"/>
                  <a:pt x="17744" y="11661"/>
                  <a:pt x="17835" y="11683"/>
                </a:cubicBezTo>
                <a:cubicBezTo>
                  <a:pt x="17932" y="11706"/>
                  <a:pt x="18031" y="11717"/>
                  <a:pt x="18132" y="11733"/>
                </a:cubicBezTo>
                <a:cubicBezTo>
                  <a:pt x="18173" y="11741"/>
                  <a:pt x="18215" y="11749"/>
                  <a:pt x="18256" y="11757"/>
                </a:cubicBezTo>
              </a:path>
              <a:path w="6376" h="1787">
                <a:moveTo>
                  <a:pt x="18430" y="11782"/>
                </a:moveTo>
                <a:cubicBezTo>
                  <a:pt x="18342" y="11832"/>
                  <a:pt x="18293" y="11867"/>
                  <a:pt x="18231" y="11956"/>
                </a:cubicBezTo>
                <a:cubicBezTo>
                  <a:pt x="18188" y="12018"/>
                  <a:pt x="18207" y="12107"/>
                  <a:pt x="18207" y="12179"/>
                </a:cubicBezTo>
                <a:cubicBezTo>
                  <a:pt x="18207" y="12240"/>
                  <a:pt x="18227" y="12293"/>
                  <a:pt x="18281" y="12328"/>
                </a:cubicBezTo>
                <a:cubicBezTo>
                  <a:pt x="18356" y="12376"/>
                  <a:pt x="18398" y="12356"/>
                  <a:pt x="18430" y="12278"/>
                </a:cubicBezTo>
                <a:cubicBezTo>
                  <a:pt x="18462" y="12201"/>
                  <a:pt x="18475" y="12111"/>
                  <a:pt x="18479" y="12030"/>
                </a:cubicBezTo>
                <a:cubicBezTo>
                  <a:pt x="18481" y="11976"/>
                  <a:pt x="18456" y="11924"/>
                  <a:pt x="18430" y="11881"/>
                </a:cubicBezTo>
                <a:cubicBezTo>
                  <a:pt x="18456" y="12011"/>
                  <a:pt x="18510" y="12093"/>
                  <a:pt x="18579" y="12204"/>
                </a:cubicBezTo>
                <a:cubicBezTo>
                  <a:pt x="18611" y="12255"/>
                  <a:pt x="18620" y="12289"/>
                  <a:pt x="18678" y="12303"/>
                </a:cubicBezTo>
              </a:path>
              <a:path w="6376" h="1787">
                <a:moveTo>
                  <a:pt x="18678" y="11906"/>
                </a:moveTo>
                <a:cubicBezTo>
                  <a:pt x="18719" y="12005"/>
                  <a:pt x="18761" y="12102"/>
                  <a:pt x="18777" y="12204"/>
                </a:cubicBezTo>
                <a:cubicBezTo>
                  <a:pt x="18785" y="12257"/>
                  <a:pt x="18795" y="12300"/>
                  <a:pt x="18802" y="12353"/>
                </a:cubicBezTo>
                <a:cubicBezTo>
                  <a:pt x="18830" y="12260"/>
                  <a:pt x="18809" y="12174"/>
                  <a:pt x="18827" y="12080"/>
                </a:cubicBezTo>
                <a:cubicBezTo>
                  <a:pt x="18843" y="11996"/>
                  <a:pt x="18847" y="11943"/>
                  <a:pt x="18852" y="11857"/>
                </a:cubicBezTo>
                <a:cubicBezTo>
                  <a:pt x="18855" y="11797"/>
                  <a:pt x="18870" y="11787"/>
                  <a:pt x="18901" y="11733"/>
                </a:cubicBezTo>
                <a:cubicBezTo>
                  <a:pt x="18997" y="11796"/>
                  <a:pt x="19035" y="11849"/>
                  <a:pt x="19075" y="11956"/>
                </a:cubicBezTo>
                <a:cubicBezTo>
                  <a:pt x="19106" y="12038"/>
                  <a:pt x="19161" y="12143"/>
                  <a:pt x="19174" y="12229"/>
                </a:cubicBezTo>
                <a:cubicBezTo>
                  <a:pt x="19186" y="12306"/>
                  <a:pt x="19188" y="12331"/>
                  <a:pt x="19224" y="12402"/>
                </a:cubicBezTo>
              </a:path>
              <a:path w="6376" h="1787">
                <a:moveTo>
                  <a:pt x="19149" y="11286"/>
                </a:moveTo>
                <a:cubicBezTo>
                  <a:pt x="19182" y="11205"/>
                  <a:pt x="19199" y="11182"/>
                  <a:pt x="19273" y="11137"/>
                </a:cubicBezTo>
                <a:cubicBezTo>
                  <a:pt x="19333" y="11101"/>
                  <a:pt x="19421" y="11106"/>
                  <a:pt x="19472" y="11162"/>
                </a:cubicBezTo>
                <a:cubicBezTo>
                  <a:pt x="19528" y="11224"/>
                  <a:pt x="19452" y="11362"/>
                  <a:pt x="19397" y="11410"/>
                </a:cubicBezTo>
                <a:cubicBezTo>
                  <a:pt x="19351" y="11449"/>
                  <a:pt x="19248" y="11569"/>
                  <a:pt x="19248" y="11509"/>
                </a:cubicBezTo>
                <a:cubicBezTo>
                  <a:pt x="19248" y="11449"/>
                  <a:pt x="19403" y="11551"/>
                  <a:pt x="19422" y="11559"/>
                </a:cubicBezTo>
                <a:cubicBezTo>
                  <a:pt x="19482" y="11583"/>
                  <a:pt x="19521" y="11594"/>
                  <a:pt x="19571" y="11633"/>
                </a:cubicBezTo>
              </a:path>
              <a:path w="6376" h="1787">
                <a:moveTo>
                  <a:pt x="19819" y="11881"/>
                </a:moveTo>
                <a:cubicBezTo>
                  <a:pt x="19905" y="12066"/>
                  <a:pt x="19988" y="12190"/>
                  <a:pt x="20092" y="12353"/>
                </a:cubicBezTo>
                <a:cubicBezTo>
                  <a:pt x="20162" y="12464"/>
                  <a:pt x="20234" y="12617"/>
                  <a:pt x="20340" y="12700"/>
                </a:cubicBezTo>
                <a:cubicBezTo>
                  <a:pt x="20381" y="12725"/>
                  <a:pt x="20423" y="12749"/>
                  <a:pt x="20464" y="12774"/>
                </a:cubicBezTo>
              </a:path>
              <a:path w="6376" h="1787">
                <a:moveTo>
                  <a:pt x="20166" y="11782"/>
                </a:moveTo>
                <a:cubicBezTo>
                  <a:pt x="20008" y="11947"/>
                  <a:pt x="19870" y="12110"/>
                  <a:pt x="19745" y="12303"/>
                </a:cubicBezTo>
                <a:cubicBezTo>
                  <a:pt x="19653" y="12445"/>
                  <a:pt x="19603" y="12593"/>
                  <a:pt x="19546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Ink 5"/>
          <p:cNvSpPr/>
          <p:nvPr/>
        </p:nvSpPr>
        <p:spPr>
          <a:xfrm>
            <a:off x="6742080" y="1204920"/>
            <a:ext cx="1428840" cy="822240"/>
          </a:xfrm>
          <a:custGeom>
            <a:avLst/>
            <a:gdLst/>
            <a:ahLst/>
            <a:rect l="l" t="t" r="r" b="b"/>
            <a:pathLst>
              <a:path w="3969" h="2283">
                <a:moveTo>
                  <a:pt x="18728" y="5631"/>
                </a:moveTo>
                <a:cubicBezTo>
                  <a:pt x="19082" y="5453"/>
                  <a:pt x="19436" y="5279"/>
                  <a:pt x="19794" y="5110"/>
                </a:cubicBezTo>
                <a:cubicBezTo>
                  <a:pt x="20139" y="4947"/>
                  <a:pt x="20490" y="4794"/>
                  <a:pt x="20836" y="4638"/>
                </a:cubicBezTo>
                <a:cubicBezTo>
                  <a:pt x="20975" y="4569"/>
                  <a:pt x="21015" y="4548"/>
                  <a:pt x="21109" y="4514"/>
                </a:cubicBezTo>
              </a:path>
              <a:path w="3969" h="2283">
                <a:moveTo>
                  <a:pt x="20886" y="4043"/>
                </a:moveTo>
                <a:cubicBezTo>
                  <a:pt x="20836" y="3931"/>
                  <a:pt x="20907" y="3882"/>
                  <a:pt x="21034" y="3820"/>
                </a:cubicBezTo>
                <a:cubicBezTo>
                  <a:pt x="21239" y="3719"/>
                  <a:pt x="21487" y="3644"/>
                  <a:pt x="21704" y="3572"/>
                </a:cubicBezTo>
                <a:cubicBezTo>
                  <a:pt x="21966" y="3485"/>
                  <a:pt x="22268" y="3379"/>
                  <a:pt x="22547" y="3349"/>
                </a:cubicBezTo>
                <a:cubicBezTo>
                  <a:pt x="22605" y="3343"/>
                  <a:pt x="22613" y="3349"/>
                  <a:pt x="22671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6"/>
          <p:cNvSpPr/>
          <p:nvPr/>
        </p:nvSpPr>
        <p:spPr>
          <a:xfrm>
            <a:off x="6724800" y="1795320"/>
            <a:ext cx="83016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19025" y="5011"/>
                </a:moveTo>
                <a:cubicBezTo>
                  <a:pt x="19025" y="5011"/>
                  <a:pt x="18934" y="5007"/>
                  <a:pt x="18876" y="5035"/>
                </a:cubicBezTo>
                <a:cubicBezTo>
                  <a:pt x="18800" y="5071"/>
                  <a:pt x="18753" y="5202"/>
                  <a:pt x="18728" y="5283"/>
                </a:cubicBezTo>
                <a:cubicBezTo>
                  <a:pt x="18693" y="5395"/>
                  <a:pt x="18654" y="5536"/>
                  <a:pt x="18678" y="5655"/>
                </a:cubicBezTo>
                <a:cubicBezTo>
                  <a:pt x="18709" y="5809"/>
                  <a:pt x="18713" y="5842"/>
                  <a:pt x="18926" y="5854"/>
                </a:cubicBezTo>
                <a:cubicBezTo>
                  <a:pt x="18979" y="5857"/>
                  <a:pt x="19083" y="5757"/>
                  <a:pt x="19124" y="5730"/>
                </a:cubicBezTo>
              </a:path>
              <a:path w="2308" h="869">
                <a:moveTo>
                  <a:pt x="19422" y="5159"/>
                </a:moveTo>
                <a:cubicBezTo>
                  <a:pt x="19382" y="5280"/>
                  <a:pt x="19328" y="5403"/>
                  <a:pt x="19323" y="5531"/>
                </a:cubicBezTo>
                <a:cubicBezTo>
                  <a:pt x="19321" y="5579"/>
                  <a:pt x="19342" y="5685"/>
                  <a:pt x="19422" y="5680"/>
                </a:cubicBezTo>
                <a:cubicBezTo>
                  <a:pt x="19474" y="5677"/>
                  <a:pt x="19596" y="5599"/>
                  <a:pt x="19621" y="5556"/>
                </a:cubicBezTo>
                <a:cubicBezTo>
                  <a:pt x="19670" y="5473"/>
                  <a:pt x="19670" y="5375"/>
                  <a:pt x="19670" y="5283"/>
                </a:cubicBezTo>
                <a:cubicBezTo>
                  <a:pt x="19670" y="5186"/>
                  <a:pt x="19604" y="5188"/>
                  <a:pt x="19521" y="5184"/>
                </a:cubicBezTo>
                <a:cubicBezTo>
                  <a:pt x="19456" y="5181"/>
                  <a:pt x="19388" y="5184"/>
                  <a:pt x="19323" y="5184"/>
                </a:cubicBezTo>
              </a:path>
              <a:path w="2308" h="869">
                <a:moveTo>
                  <a:pt x="20017" y="5035"/>
                </a:moveTo>
                <a:cubicBezTo>
                  <a:pt x="19995" y="5114"/>
                  <a:pt x="19917" y="5091"/>
                  <a:pt x="19893" y="5159"/>
                </a:cubicBezTo>
                <a:cubicBezTo>
                  <a:pt x="19860" y="5251"/>
                  <a:pt x="19947" y="5316"/>
                  <a:pt x="19993" y="5383"/>
                </a:cubicBezTo>
                <a:cubicBezTo>
                  <a:pt x="20056" y="5474"/>
                  <a:pt x="20100" y="5547"/>
                  <a:pt x="20042" y="5655"/>
                </a:cubicBezTo>
                <a:cubicBezTo>
                  <a:pt x="20013" y="5708"/>
                  <a:pt x="19921" y="5719"/>
                  <a:pt x="19869" y="5705"/>
                </a:cubicBezTo>
                <a:cubicBezTo>
                  <a:pt x="19651" y="5647"/>
                  <a:pt x="19717" y="5636"/>
                  <a:pt x="19769" y="5432"/>
                </a:cubicBezTo>
              </a:path>
              <a:path w="2308" h="869">
                <a:moveTo>
                  <a:pt x="20389" y="5259"/>
                </a:moveTo>
                <a:cubicBezTo>
                  <a:pt x="20464" y="5401"/>
                  <a:pt x="20538" y="5529"/>
                  <a:pt x="20638" y="5655"/>
                </a:cubicBezTo>
                <a:cubicBezTo>
                  <a:pt x="20668" y="5693"/>
                  <a:pt x="20787" y="5694"/>
                  <a:pt x="20836" y="5680"/>
                </a:cubicBezTo>
                <a:cubicBezTo>
                  <a:pt x="20916" y="5658"/>
                  <a:pt x="20936" y="5617"/>
                  <a:pt x="20985" y="5556"/>
                </a:cubicBezTo>
              </a:path>
              <a:path w="2308" h="869">
                <a:moveTo>
                  <a:pt x="20910" y="5159"/>
                </a:moveTo>
                <a:cubicBezTo>
                  <a:pt x="20770" y="5277"/>
                  <a:pt x="20639" y="5401"/>
                  <a:pt x="20489" y="5507"/>
                </a:cubicBezTo>
                <a:cubicBezTo>
                  <a:pt x="20415" y="5560"/>
                  <a:pt x="20348" y="5596"/>
                  <a:pt x="20265" y="56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7"/>
          <p:cNvSpPr/>
          <p:nvPr/>
        </p:nvSpPr>
        <p:spPr>
          <a:xfrm>
            <a:off x="1177920" y="625320"/>
            <a:ext cx="984240" cy="928800"/>
          </a:xfrm>
          <a:custGeom>
            <a:avLst/>
            <a:gdLst/>
            <a:ahLst/>
            <a:rect l="l" t="t" r="r" b="b"/>
            <a:pathLst>
              <a:path w="2730" h="2581">
                <a:moveTo>
                  <a:pt x="3274" y="4316"/>
                </a:moveTo>
                <a:cubicBezTo>
                  <a:pt x="3845" y="4058"/>
                  <a:pt x="4298" y="3863"/>
                  <a:pt x="4887" y="3696"/>
                </a:cubicBezTo>
                <a:cubicBezTo>
                  <a:pt x="5217" y="3602"/>
                  <a:pt x="5550" y="3517"/>
                  <a:pt x="5879" y="3423"/>
                </a:cubicBezTo>
                <a:cubicBezTo>
                  <a:pt x="5985" y="3393"/>
                  <a:pt x="5935" y="3399"/>
                  <a:pt x="5978" y="3349"/>
                </a:cubicBezTo>
              </a:path>
              <a:path w="2730" h="2581">
                <a:moveTo>
                  <a:pt x="4068" y="2381"/>
                </a:moveTo>
                <a:cubicBezTo>
                  <a:pt x="4040" y="2409"/>
                  <a:pt x="4031" y="2423"/>
                  <a:pt x="4043" y="2456"/>
                </a:cubicBezTo>
                <a:cubicBezTo>
                  <a:pt x="4031" y="2371"/>
                  <a:pt x="4011" y="2382"/>
                  <a:pt x="3944" y="2332"/>
                </a:cubicBezTo>
                <a:cubicBezTo>
                  <a:pt x="3874" y="2280"/>
                  <a:pt x="3796" y="2262"/>
                  <a:pt x="3721" y="2332"/>
                </a:cubicBezTo>
                <a:cubicBezTo>
                  <a:pt x="3673" y="2377"/>
                  <a:pt x="3606" y="2519"/>
                  <a:pt x="3597" y="2580"/>
                </a:cubicBezTo>
                <a:cubicBezTo>
                  <a:pt x="3577" y="2709"/>
                  <a:pt x="3602" y="2815"/>
                  <a:pt x="3646" y="2927"/>
                </a:cubicBezTo>
                <a:cubicBezTo>
                  <a:pt x="3687" y="3032"/>
                  <a:pt x="3687" y="3110"/>
                  <a:pt x="3820" y="3125"/>
                </a:cubicBezTo>
                <a:cubicBezTo>
                  <a:pt x="3983" y="3143"/>
                  <a:pt x="4030" y="3097"/>
                  <a:pt x="4118" y="2977"/>
                </a:cubicBezTo>
              </a:path>
              <a:path w="2730" h="2581">
                <a:moveTo>
                  <a:pt x="4291" y="2704"/>
                </a:moveTo>
                <a:cubicBezTo>
                  <a:pt x="4344" y="2897"/>
                  <a:pt x="4310" y="2929"/>
                  <a:pt x="4390" y="3001"/>
                </a:cubicBezTo>
                <a:cubicBezTo>
                  <a:pt x="4479" y="2989"/>
                  <a:pt x="4460" y="2967"/>
                  <a:pt x="4514" y="2902"/>
                </a:cubicBezTo>
                <a:cubicBezTo>
                  <a:pt x="4588" y="2813"/>
                  <a:pt x="4609" y="2725"/>
                  <a:pt x="4589" y="2604"/>
                </a:cubicBezTo>
                <a:cubicBezTo>
                  <a:pt x="4581" y="2558"/>
                  <a:pt x="4549" y="2423"/>
                  <a:pt x="4490" y="2406"/>
                </a:cubicBezTo>
                <a:cubicBezTo>
                  <a:pt x="4431" y="2389"/>
                  <a:pt x="4319" y="2418"/>
                  <a:pt x="4291" y="2480"/>
                </a:cubicBezTo>
                <a:cubicBezTo>
                  <a:pt x="4291" y="2488"/>
                  <a:pt x="4291" y="2497"/>
                  <a:pt x="4291" y="2505"/>
                </a:cubicBezTo>
              </a:path>
              <a:path w="2730" h="2581">
                <a:moveTo>
                  <a:pt x="4862" y="2158"/>
                </a:moveTo>
                <a:cubicBezTo>
                  <a:pt x="4832" y="2218"/>
                  <a:pt x="4729" y="2291"/>
                  <a:pt x="4713" y="2332"/>
                </a:cubicBezTo>
                <a:cubicBezTo>
                  <a:pt x="4681" y="2413"/>
                  <a:pt x="4808" y="2490"/>
                  <a:pt x="4862" y="2530"/>
                </a:cubicBezTo>
                <a:cubicBezTo>
                  <a:pt x="4947" y="2593"/>
                  <a:pt x="5117" y="2728"/>
                  <a:pt x="5085" y="2853"/>
                </a:cubicBezTo>
                <a:cubicBezTo>
                  <a:pt x="5056" y="2967"/>
                  <a:pt x="4975" y="2952"/>
                  <a:pt x="4887" y="2952"/>
                </a:cubicBezTo>
                <a:cubicBezTo>
                  <a:pt x="4768" y="2952"/>
                  <a:pt x="4793" y="2913"/>
                  <a:pt x="4738" y="2803"/>
                </a:cubicBezTo>
              </a:path>
              <a:path w="2730" h="2581">
                <a:moveTo>
                  <a:pt x="4986" y="1811"/>
                </a:moveTo>
                <a:cubicBezTo>
                  <a:pt x="5045" y="1739"/>
                  <a:pt x="5071" y="1751"/>
                  <a:pt x="5159" y="1761"/>
                </a:cubicBezTo>
                <a:cubicBezTo>
                  <a:pt x="5257" y="1772"/>
                  <a:pt x="5258" y="1878"/>
                  <a:pt x="5209" y="1960"/>
                </a:cubicBezTo>
                <a:cubicBezTo>
                  <a:pt x="5161" y="2040"/>
                  <a:pt x="5136" y="2036"/>
                  <a:pt x="5209" y="2108"/>
                </a:cubicBezTo>
                <a:cubicBezTo>
                  <a:pt x="5266" y="2165"/>
                  <a:pt x="5379" y="2176"/>
                  <a:pt x="5457" y="2158"/>
                </a:cubicBezTo>
                <a:cubicBezTo>
                  <a:pt x="5474" y="2150"/>
                  <a:pt x="5490" y="2141"/>
                  <a:pt x="5507" y="2133"/>
                </a:cubicBezTo>
              </a:path>
              <a:path w="2730" h="2581">
                <a:moveTo>
                  <a:pt x="5581" y="2282"/>
                </a:moveTo>
                <a:cubicBezTo>
                  <a:pt x="5572" y="2389"/>
                  <a:pt x="5536" y="2559"/>
                  <a:pt x="5631" y="2654"/>
                </a:cubicBezTo>
                <a:cubicBezTo>
                  <a:pt x="5682" y="2706"/>
                  <a:pt x="5828" y="2775"/>
                  <a:pt x="5904" y="2753"/>
                </a:cubicBezTo>
                <a:cubicBezTo>
                  <a:pt x="5937" y="2737"/>
                  <a:pt x="5970" y="2720"/>
                  <a:pt x="6003" y="2704"/>
                </a:cubicBezTo>
              </a:path>
              <a:path w="2730" h="2581">
                <a:moveTo>
                  <a:pt x="5953" y="2183"/>
                </a:moveTo>
                <a:cubicBezTo>
                  <a:pt x="5804" y="2310"/>
                  <a:pt x="5815" y="2385"/>
                  <a:pt x="5730" y="2555"/>
                </a:cubicBezTo>
                <a:cubicBezTo>
                  <a:pt x="5639" y="2737"/>
                  <a:pt x="5536" y="2899"/>
                  <a:pt x="5407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8"/>
          <p:cNvSpPr/>
          <p:nvPr/>
        </p:nvSpPr>
        <p:spPr>
          <a:xfrm>
            <a:off x="1616040" y="1776240"/>
            <a:ext cx="1125720" cy="385920"/>
          </a:xfrm>
          <a:custGeom>
            <a:avLst/>
            <a:gdLst/>
            <a:ahLst/>
            <a:rect l="l" t="t" r="r" b="b"/>
            <a:pathLst>
              <a:path w="3126" h="1068">
                <a:moveTo>
                  <a:pt x="5482" y="5085"/>
                </a:moveTo>
                <a:cubicBezTo>
                  <a:pt x="5498" y="5110"/>
                  <a:pt x="5515" y="5134"/>
                  <a:pt x="5531" y="5159"/>
                </a:cubicBezTo>
                <a:cubicBezTo>
                  <a:pt x="5531" y="5097"/>
                  <a:pt x="5545" y="5034"/>
                  <a:pt x="5507" y="4986"/>
                </a:cubicBezTo>
                <a:cubicBezTo>
                  <a:pt x="5423" y="4880"/>
                  <a:pt x="5327" y="4947"/>
                  <a:pt x="5259" y="5011"/>
                </a:cubicBezTo>
                <a:cubicBezTo>
                  <a:pt x="5112" y="5149"/>
                  <a:pt x="5041" y="5363"/>
                  <a:pt x="5011" y="5556"/>
                </a:cubicBezTo>
                <a:cubicBezTo>
                  <a:pt x="4992" y="5676"/>
                  <a:pt x="5008" y="5790"/>
                  <a:pt x="5085" y="5879"/>
                </a:cubicBezTo>
                <a:cubicBezTo>
                  <a:pt x="5163" y="5970"/>
                  <a:pt x="5193" y="5978"/>
                  <a:pt x="5308" y="5978"/>
                </a:cubicBezTo>
                <a:cubicBezTo>
                  <a:pt x="5425" y="5978"/>
                  <a:pt x="5497" y="5904"/>
                  <a:pt x="5581" y="5829"/>
                </a:cubicBezTo>
              </a:path>
              <a:path w="3126" h="1068">
                <a:moveTo>
                  <a:pt x="5928" y="5135"/>
                </a:moveTo>
                <a:cubicBezTo>
                  <a:pt x="5901" y="5261"/>
                  <a:pt x="5823" y="5384"/>
                  <a:pt x="5804" y="5507"/>
                </a:cubicBezTo>
                <a:cubicBezTo>
                  <a:pt x="5788" y="5614"/>
                  <a:pt x="5795" y="5720"/>
                  <a:pt x="5928" y="5705"/>
                </a:cubicBezTo>
                <a:cubicBezTo>
                  <a:pt x="6058" y="5690"/>
                  <a:pt x="6086" y="5579"/>
                  <a:pt x="6127" y="5482"/>
                </a:cubicBezTo>
                <a:cubicBezTo>
                  <a:pt x="6152" y="5423"/>
                  <a:pt x="6170" y="5288"/>
                  <a:pt x="6127" y="5234"/>
                </a:cubicBezTo>
                <a:cubicBezTo>
                  <a:pt x="6074" y="5167"/>
                  <a:pt x="5970" y="5193"/>
                  <a:pt x="5904" y="5209"/>
                </a:cubicBezTo>
                <a:cubicBezTo>
                  <a:pt x="5809" y="5233"/>
                  <a:pt x="5607" y="5344"/>
                  <a:pt x="5854" y="5184"/>
                </a:cubicBezTo>
              </a:path>
              <a:path w="3126" h="1068">
                <a:moveTo>
                  <a:pt x="6474" y="5110"/>
                </a:moveTo>
                <a:cubicBezTo>
                  <a:pt x="6417" y="5230"/>
                  <a:pt x="6316" y="5327"/>
                  <a:pt x="6350" y="5457"/>
                </a:cubicBezTo>
                <a:cubicBezTo>
                  <a:pt x="6376" y="5556"/>
                  <a:pt x="6500" y="5588"/>
                  <a:pt x="6548" y="5680"/>
                </a:cubicBezTo>
                <a:cubicBezTo>
                  <a:pt x="6600" y="5779"/>
                  <a:pt x="6566" y="5789"/>
                  <a:pt x="6499" y="5829"/>
                </a:cubicBezTo>
                <a:cubicBezTo>
                  <a:pt x="6457" y="5854"/>
                  <a:pt x="6317" y="5889"/>
                  <a:pt x="6276" y="5829"/>
                </a:cubicBezTo>
                <a:cubicBezTo>
                  <a:pt x="6276" y="5812"/>
                  <a:pt x="6276" y="5796"/>
                  <a:pt x="6276" y="5779"/>
                </a:cubicBezTo>
              </a:path>
              <a:path w="3126" h="1068">
                <a:moveTo>
                  <a:pt x="6846" y="5308"/>
                </a:moveTo>
                <a:cubicBezTo>
                  <a:pt x="6900" y="5459"/>
                  <a:pt x="6920" y="5624"/>
                  <a:pt x="7069" y="5705"/>
                </a:cubicBezTo>
                <a:cubicBezTo>
                  <a:pt x="7185" y="5768"/>
                  <a:pt x="7316" y="5800"/>
                  <a:pt x="7441" y="5755"/>
                </a:cubicBezTo>
                <a:cubicBezTo>
                  <a:pt x="7512" y="5729"/>
                  <a:pt x="7557" y="5700"/>
                  <a:pt x="7615" y="5655"/>
                </a:cubicBezTo>
              </a:path>
              <a:path w="3126" h="1068">
                <a:moveTo>
                  <a:pt x="7441" y="5184"/>
                </a:moveTo>
                <a:cubicBezTo>
                  <a:pt x="7284" y="5327"/>
                  <a:pt x="7180" y="5473"/>
                  <a:pt x="7045" y="5631"/>
                </a:cubicBezTo>
                <a:cubicBezTo>
                  <a:pt x="6939" y="5756"/>
                  <a:pt x="6805" y="5839"/>
                  <a:pt x="6697" y="5953"/>
                </a:cubicBezTo>
                <a:cubicBezTo>
                  <a:pt x="6689" y="5970"/>
                  <a:pt x="6680" y="5986"/>
                  <a:pt x="6672" y="6003"/>
                </a:cubicBezTo>
              </a:path>
              <a:path w="3126" h="1068">
                <a:moveTo>
                  <a:pt x="4490" y="5879"/>
                </a:moveTo>
                <a:cubicBezTo>
                  <a:pt x="4595" y="5826"/>
                  <a:pt x="4699" y="5812"/>
                  <a:pt x="4812" y="5779"/>
                </a:cubicBezTo>
                <a:cubicBezTo>
                  <a:pt x="5080" y="5700"/>
                  <a:pt x="5354" y="5646"/>
                  <a:pt x="5631" y="5606"/>
                </a:cubicBezTo>
                <a:cubicBezTo>
                  <a:pt x="5888" y="5569"/>
                  <a:pt x="6144" y="5556"/>
                  <a:pt x="6400" y="5531"/>
                </a:cubicBezTo>
                <a:cubicBezTo>
                  <a:pt x="6501" y="5521"/>
                  <a:pt x="6662" y="5525"/>
                  <a:pt x="6747" y="5482"/>
                </a:cubicBezTo>
                <a:cubicBezTo>
                  <a:pt x="6747" y="5474"/>
                  <a:pt x="6747" y="5465"/>
                  <a:pt x="6747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9"/>
          <p:cNvSpPr/>
          <p:nvPr/>
        </p:nvSpPr>
        <p:spPr>
          <a:xfrm>
            <a:off x="1285920" y="2276640"/>
            <a:ext cx="1965240" cy="563400"/>
          </a:xfrm>
          <a:custGeom>
            <a:avLst/>
            <a:gdLst/>
            <a:ahLst/>
            <a:rect l="l" t="t" r="r" b="b"/>
            <a:pathLst>
              <a:path w="5458" h="1564">
                <a:moveTo>
                  <a:pt x="3944" y="6871"/>
                </a:moveTo>
                <a:cubicBezTo>
                  <a:pt x="3966" y="6915"/>
                  <a:pt x="3969" y="6926"/>
                  <a:pt x="3994" y="6945"/>
                </a:cubicBezTo>
                <a:cubicBezTo>
                  <a:pt x="3948" y="6901"/>
                  <a:pt x="3885" y="6808"/>
                  <a:pt x="3820" y="6796"/>
                </a:cubicBezTo>
                <a:cubicBezTo>
                  <a:pt x="3691" y="6772"/>
                  <a:pt x="3659" y="6842"/>
                  <a:pt x="3621" y="6945"/>
                </a:cubicBezTo>
                <a:cubicBezTo>
                  <a:pt x="3583" y="7049"/>
                  <a:pt x="3553" y="7156"/>
                  <a:pt x="3572" y="7268"/>
                </a:cubicBezTo>
                <a:cubicBezTo>
                  <a:pt x="3588" y="7362"/>
                  <a:pt x="3626" y="7527"/>
                  <a:pt x="3696" y="7590"/>
                </a:cubicBezTo>
                <a:cubicBezTo>
                  <a:pt x="3778" y="7664"/>
                  <a:pt x="3849" y="7645"/>
                  <a:pt x="3944" y="7615"/>
                </a:cubicBezTo>
                <a:cubicBezTo>
                  <a:pt x="4034" y="7587"/>
                  <a:pt x="4087" y="7518"/>
                  <a:pt x="4142" y="7441"/>
                </a:cubicBezTo>
                <a:cubicBezTo>
                  <a:pt x="4199" y="7361"/>
                  <a:pt x="4249" y="7267"/>
                  <a:pt x="4266" y="7169"/>
                </a:cubicBezTo>
                <a:cubicBezTo>
                  <a:pt x="4279" y="7098"/>
                  <a:pt x="4303" y="7056"/>
                  <a:pt x="4266" y="6995"/>
                </a:cubicBezTo>
                <a:cubicBezTo>
                  <a:pt x="4225" y="7090"/>
                  <a:pt x="4202" y="7190"/>
                  <a:pt x="4192" y="7293"/>
                </a:cubicBezTo>
                <a:cubicBezTo>
                  <a:pt x="4183" y="7377"/>
                  <a:pt x="4211" y="7489"/>
                  <a:pt x="4242" y="7565"/>
                </a:cubicBezTo>
                <a:cubicBezTo>
                  <a:pt x="4262" y="7612"/>
                  <a:pt x="4345" y="7671"/>
                  <a:pt x="4390" y="7665"/>
                </a:cubicBezTo>
                <a:cubicBezTo>
                  <a:pt x="4459" y="7656"/>
                  <a:pt x="4538" y="7543"/>
                  <a:pt x="4564" y="7491"/>
                </a:cubicBezTo>
                <a:cubicBezTo>
                  <a:pt x="4612" y="7396"/>
                  <a:pt x="4594" y="7288"/>
                  <a:pt x="4564" y="7193"/>
                </a:cubicBezTo>
                <a:cubicBezTo>
                  <a:pt x="4536" y="7104"/>
                  <a:pt x="4478" y="7033"/>
                  <a:pt x="4390" y="6995"/>
                </a:cubicBezTo>
                <a:cubicBezTo>
                  <a:pt x="4325" y="6973"/>
                  <a:pt x="4310" y="6965"/>
                  <a:pt x="4266" y="6970"/>
                </a:cubicBezTo>
              </a:path>
              <a:path w="5458" h="1564">
                <a:moveTo>
                  <a:pt x="4936" y="6772"/>
                </a:moveTo>
                <a:cubicBezTo>
                  <a:pt x="4948" y="6916"/>
                  <a:pt x="4892" y="6921"/>
                  <a:pt x="4787" y="7020"/>
                </a:cubicBezTo>
                <a:cubicBezTo>
                  <a:pt x="4694" y="7108"/>
                  <a:pt x="4708" y="7143"/>
                  <a:pt x="4762" y="7218"/>
                </a:cubicBezTo>
                <a:cubicBezTo>
                  <a:pt x="4829" y="7310"/>
                  <a:pt x="4934" y="7335"/>
                  <a:pt x="5011" y="7417"/>
                </a:cubicBezTo>
                <a:cubicBezTo>
                  <a:pt x="5057" y="7466"/>
                  <a:pt x="5125" y="7549"/>
                  <a:pt x="5060" y="7615"/>
                </a:cubicBezTo>
                <a:cubicBezTo>
                  <a:pt x="4996" y="7680"/>
                  <a:pt x="4892" y="7665"/>
                  <a:pt x="4812" y="7665"/>
                </a:cubicBezTo>
                <a:cubicBezTo>
                  <a:pt x="4708" y="7665"/>
                  <a:pt x="4709" y="7624"/>
                  <a:pt x="4638" y="7541"/>
                </a:cubicBezTo>
              </a:path>
              <a:path w="5458" h="1564">
                <a:moveTo>
                  <a:pt x="5110" y="6375"/>
                </a:moveTo>
                <a:cubicBezTo>
                  <a:pt x="5168" y="6345"/>
                  <a:pt x="5313" y="6299"/>
                  <a:pt x="5333" y="6424"/>
                </a:cubicBezTo>
                <a:cubicBezTo>
                  <a:pt x="5345" y="6501"/>
                  <a:pt x="5324" y="6616"/>
                  <a:pt x="5259" y="6672"/>
                </a:cubicBezTo>
                <a:cubicBezTo>
                  <a:pt x="5195" y="6727"/>
                  <a:pt x="5189" y="6758"/>
                  <a:pt x="5283" y="6796"/>
                </a:cubicBezTo>
                <a:cubicBezTo>
                  <a:pt x="5368" y="6831"/>
                  <a:pt x="5466" y="6838"/>
                  <a:pt x="5556" y="6846"/>
                </a:cubicBezTo>
              </a:path>
              <a:path w="5458" h="1564">
                <a:moveTo>
                  <a:pt x="5556" y="7094"/>
                </a:moveTo>
                <a:cubicBezTo>
                  <a:pt x="5590" y="7270"/>
                  <a:pt x="5644" y="7406"/>
                  <a:pt x="5730" y="7565"/>
                </a:cubicBezTo>
                <a:cubicBezTo>
                  <a:pt x="5783" y="7662"/>
                  <a:pt x="5876" y="7692"/>
                  <a:pt x="5953" y="7764"/>
                </a:cubicBezTo>
                <a:cubicBezTo>
                  <a:pt x="6017" y="7824"/>
                  <a:pt x="6051" y="7817"/>
                  <a:pt x="6127" y="7789"/>
                </a:cubicBezTo>
              </a:path>
              <a:path w="5458" h="1564">
                <a:moveTo>
                  <a:pt x="5928" y="7119"/>
                </a:moveTo>
                <a:cubicBezTo>
                  <a:pt x="5816" y="7280"/>
                  <a:pt x="5676" y="7443"/>
                  <a:pt x="5581" y="7615"/>
                </a:cubicBezTo>
                <a:cubicBezTo>
                  <a:pt x="5543" y="7685"/>
                  <a:pt x="5378" y="7807"/>
                  <a:pt x="5457" y="7813"/>
                </a:cubicBezTo>
                <a:cubicBezTo>
                  <a:pt x="5465" y="7805"/>
                  <a:pt x="5474" y="7797"/>
                  <a:pt x="5482" y="7789"/>
                </a:cubicBezTo>
              </a:path>
              <a:path w="5458" h="1564">
                <a:moveTo>
                  <a:pt x="6697" y="6970"/>
                </a:moveTo>
                <a:cubicBezTo>
                  <a:pt x="6602" y="6991"/>
                  <a:pt x="6529" y="7037"/>
                  <a:pt x="6449" y="7094"/>
                </a:cubicBezTo>
                <a:cubicBezTo>
                  <a:pt x="6400" y="7129"/>
                  <a:pt x="6307" y="7168"/>
                  <a:pt x="6325" y="7243"/>
                </a:cubicBezTo>
                <a:cubicBezTo>
                  <a:pt x="6337" y="7295"/>
                  <a:pt x="6632" y="7501"/>
                  <a:pt x="6648" y="7516"/>
                </a:cubicBezTo>
                <a:cubicBezTo>
                  <a:pt x="6684" y="7549"/>
                  <a:pt x="6776" y="7684"/>
                  <a:pt x="6772" y="7739"/>
                </a:cubicBezTo>
                <a:cubicBezTo>
                  <a:pt x="6768" y="7789"/>
                  <a:pt x="6669" y="7855"/>
                  <a:pt x="6623" y="7863"/>
                </a:cubicBezTo>
                <a:cubicBezTo>
                  <a:pt x="6551" y="7876"/>
                  <a:pt x="6437" y="7874"/>
                  <a:pt x="6375" y="7838"/>
                </a:cubicBezTo>
                <a:cubicBezTo>
                  <a:pt x="6304" y="7797"/>
                  <a:pt x="6329" y="7701"/>
                  <a:pt x="6325" y="7640"/>
                </a:cubicBezTo>
              </a:path>
              <a:path w="5458" h="1564">
                <a:moveTo>
                  <a:pt x="6871" y="7193"/>
                </a:moveTo>
                <a:cubicBezTo>
                  <a:pt x="6871" y="7363"/>
                  <a:pt x="6855" y="7525"/>
                  <a:pt x="6846" y="7689"/>
                </a:cubicBezTo>
                <a:cubicBezTo>
                  <a:pt x="6846" y="7706"/>
                  <a:pt x="6846" y="7722"/>
                  <a:pt x="6846" y="7739"/>
                </a:cubicBezTo>
              </a:path>
              <a:path w="5458" h="1564">
                <a:moveTo>
                  <a:pt x="6871" y="6772"/>
                </a:moveTo>
                <a:cubicBezTo>
                  <a:pt x="6879" y="6772"/>
                  <a:pt x="6888" y="6772"/>
                  <a:pt x="6896" y="6772"/>
                </a:cubicBezTo>
              </a:path>
              <a:path w="5458" h="1564">
                <a:moveTo>
                  <a:pt x="7119" y="7541"/>
                </a:moveTo>
                <a:cubicBezTo>
                  <a:pt x="7103" y="7645"/>
                  <a:pt x="7082" y="7722"/>
                  <a:pt x="7069" y="7813"/>
                </a:cubicBezTo>
                <a:cubicBezTo>
                  <a:pt x="7069" y="7711"/>
                  <a:pt x="7084" y="7614"/>
                  <a:pt x="7094" y="7516"/>
                </a:cubicBezTo>
                <a:cubicBezTo>
                  <a:pt x="7109" y="7375"/>
                  <a:pt x="7147" y="7314"/>
                  <a:pt x="7218" y="7193"/>
                </a:cubicBezTo>
                <a:cubicBezTo>
                  <a:pt x="7277" y="7094"/>
                  <a:pt x="7346" y="7043"/>
                  <a:pt x="7441" y="7144"/>
                </a:cubicBezTo>
                <a:cubicBezTo>
                  <a:pt x="7528" y="7237"/>
                  <a:pt x="7583" y="7440"/>
                  <a:pt x="7590" y="7565"/>
                </a:cubicBezTo>
                <a:cubicBezTo>
                  <a:pt x="7596" y="7663"/>
                  <a:pt x="7590" y="7764"/>
                  <a:pt x="7590" y="7863"/>
                </a:cubicBezTo>
              </a:path>
              <a:path w="5458" h="1564">
                <a:moveTo>
                  <a:pt x="7739" y="6598"/>
                </a:moveTo>
                <a:cubicBezTo>
                  <a:pt x="7906" y="6561"/>
                  <a:pt x="7929" y="6518"/>
                  <a:pt x="8012" y="6573"/>
                </a:cubicBezTo>
                <a:cubicBezTo>
                  <a:pt x="8048" y="6645"/>
                  <a:pt x="8041" y="6723"/>
                  <a:pt x="7987" y="6796"/>
                </a:cubicBezTo>
                <a:cubicBezTo>
                  <a:pt x="7952" y="6844"/>
                  <a:pt x="7854" y="6914"/>
                  <a:pt x="7838" y="6970"/>
                </a:cubicBezTo>
                <a:cubicBezTo>
                  <a:pt x="7814" y="7055"/>
                  <a:pt x="7894" y="7105"/>
                  <a:pt x="7962" y="7119"/>
                </a:cubicBezTo>
                <a:cubicBezTo>
                  <a:pt x="8021" y="7119"/>
                  <a:pt x="8047" y="7116"/>
                  <a:pt x="8086" y="7094"/>
                </a:cubicBezTo>
              </a:path>
              <a:path w="5458" h="1564">
                <a:moveTo>
                  <a:pt x="8384" y="7317"/>
                </a:moveTo>
                <a:cubicBezTo>
                  <a:pt x="8410" y="7588"/>
                  <a:pt x="8362" y="7698"/>
                  <a:pt x="8582" y="7838"/>
                </a:cubicBezTo>
                <a:cubicBezTo>
                  <a:pt x="8689" y="7906"/>
                  <a:pt x="8760" y="7874"/>
                  <a:pt x="8880" y="7863"/>
                </a:cubicBezTo>
              </a:path>
              <a:path w="5458" h="1564">
                <a:moveTo>
                  <a:pt x="9029" y="7144"/>
                </a:moveTo>
                <a:cubicBezTo>
                  <a:pt x="8860" y="7162"/>
                  <a:pt x="8738" y="7243"/>
                  <a:pt x="8632" y="7392"/>
                </a:cubicBezTo>
                <a:cubicBezTo>
                  <a:pt x="8532" y="7533"/>
                  <a:pt x="8446" y="7676"/>
                  <a:pt x="8334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10"/>
          <p:cNvSpPr/>
          <p:nvPr/>
        </p:nvSpPr>
        <p:spPr>
          <a:xfrm>
            <a:off x="3697200" y="2678040"/>
            <a:ext cx="250920" cy="152640"/>
          </a:xfrm>
          <a:custGeom>
            <a:avLst/>
            <a:gdLst/>
            <a:ahLst/>
            <a:rect l="l" t="t" r="r" b="b"/>
            <a:pathLst>
              <a:path w="696" h="423">
                <a:moveTo>
                  <a:pt x="10368" y="7491"/>
                </a:moveTo>
                <a:cubicBezTo>
                  <a:pt x="10467" y="7470"/>
                  <a:pt x="10568" y="7454"/>
                  <a:pt x="10666" y="7441"/>
                </a:cubicBezTo>
                <a:cubicBezTo>
                  <a:pt x="10767" y="7427"/>
                  <a:pt x="10867" y="7446"/>
                  <a:pt x="10964" y="7466"/>
                </a:cubicBezTo>
              </a:path>
              <a:path w="696" h="423">
                <a:moveTo>
                  <a:pt x="10269" y="7739"/>
                </a:moveTo>
                <a:cubicBezTo>
                  <a:pt x="10292" y="7852"/>
                  <a:pt x="10344" y="7849"/>
                  <a:pt x="10468" y="7863"/>
                </a:cubicBezTo>
                <a:cubicBezTo>
                  <a:pt x="10580" y="7876"/>
                  <a:pt x="10702" y="7863"/>
                  <a:pt x="1081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11"/>
          <p:cNvSpPr/>
          <p:nvPr/>
        </p:nvSpPr>
        <p:spPr>
          <a:xfrm>
            <a:off x="4160880" y="2455920"/>
            <a:ext cx="2349360" cy="536400"/>
          </a:xfrm>
          <a:custGeom>
            <a:avLst/>
            <a:gdLst/>
            <a:ahLst/>
            <a:rect l="l" t="t" r="r" b="b"/>
            <a:pathLst>
              <a:path w="6525" h="1490">
                <a:moveTo>
                  <a:pt x="12154" y="7268"/>
                </a:moveTo>
                <a:cubicBezTo>
                  <a:pt x="12036" y="7268"/>
                  <a:pt x="11921" y="7257"/>
                  <a:pt x="11807" y="7293"/>
                </a:cubicBezTo>
                <a:cubicBezTo>
                  <a:pt x="11749" y="7311"/>
                  <a:pt x="11596" y="7309"/>
                  <a:pt x="11559" y="7367"/>
                </a:cubicBezTo>
                <a:cubicBezTo>
                  <a:pt x="11559" y="7384"/>
                  <a:pt x="11559" y="7400"/>
                  <a:pt x="11559" y="7417"/>
                </a:cubicBezTo>
                <a:cubicBezTo>
                  <a:pt x="11626" y="7482"/>
                  <a:pt x="11709" y="7508"/>
                  <a:pt x="11782" y="7565"/>
                </a:cubicBezTo>
                <a:cubicBezTo>
                  <a:pt x="11920" y="7673"/>
                  <a:pt x="11978" y="7715"/>
                  <a:pt x="12055" y="7888"/>
                </a:cubicBezTo>
                <a:cubicBezTo>
                  <a:pt x="12086" y="7957"/>
                  <a:pt x="12072" y="8038"/>
                  <a:pt x="12005" y="8086"/>
                </a:cubicBezTo>
                <a:cubicBezTo>
                  <a:pt x="11957" y="8121"/>
                  <a:pt x="11841" y="8128"/>
                  <a:pt x="11782" y="8111"/>
                </a:cubicBezTo>
                <a:cubicBezTo>
                  <a:pt x="11760" y="8105"/>
                  <a:pt x="11630" y="8048"/>
                  <a:pt x="11633" y="8012"/>
                </a:cubicBezTo>
                <a:cubicBezTo>
                  <a:pt x="11658" y="7962"/>
                  <a:pt x="11666" y="7946"/>
                  <a:pt x="11683" y="7913"/>
                </a:cubicBezTo>
              </a:path>
              <a:path w="6525" h="1490">
                <a:moveTo>
                  <a:pt x="12328" y="7640"/>
                </a:moveTo>
                <a:cubicBezTo>
                  <a:pt x="12328" y="7705"/>
                  <a:pt x="12316" y="8253"/>
                  <a:pt x="12328" y="8086"/>
                </a:cubicBezTo>
                <a:cubicBezTo>
                  <a:pt x="12336" y="7979"/>
                  <a:pt x="12345" y="7871"/>
                  <a:pt x="12353" y="7764"/>
                </a:cubicBezTo>
              </a:path>
              <a:path w="6525" h="1490">
                <a:moveTo>
                  <a:pt x="12378" y="7317"/>
                </a:moveTo>
                <a:cubicBezTo>
                  <a:pt x="12403" y="7276"/>
                  <a:pt x="12427" y="7234"/>
                  <a:pt x="12452" y="7193"/>
                </a:cubicBezTo>
              </a:path>
              <a:path w="6525" h="1490">
                <a:moveTo>
                  <a:pt x="12700" y="7739"/>
                </a:moveTo>
                <a:cubicBezTo>
                  <a:pt x="12700" y="7817"/>
                  <a:pt x="12667" y="7988"/>
                  <a:pt x="12675" y="8062"/>
                </a:cubicBezTo>
                <a:cubicBezTo>
                  <a:pt x="12683" y="8078"/>
                  <a:pt x="12692" y="8095"/>
                  <a:pt x="12700" y="8111"/>
                </a:cubicBezTo>
                <a:cubicBezTo>
                  <a:pt x="12700" y="8029"/>
                  <a:pt x="12714" y="7967"/>
                  <a:pt x="12725" y="7888"/>
                </a:cubicBezTo>
                <a:cubicBezTo>
                  <a:pt x="12736" y="7808"/>
                  <a:pt x="12736" y="7711"/>
                  <a:pt x="12774" y="7640"/>
                </a:cubicBezTo>
                <a:cubicBezTo>
                  <a:pt x="12817" y="7560"/>
                  <a:pt x="12892" y="7427"/>
                  <a:pt x="12998" y="7417"/>
                </a:cubicBezTo>
                <a:cubicBezTo>
                  <a:pt x="13014" y="7425"/>
                  <a:pt x="13031" y="7433"/>
                  <a:pt x="13047" y="7441"/>
                </a:cubicBezTo>
                <a:cubicBezTo>
                  <a:pt x="13090" y="7547"/>
                  <a:pt x="13118" y="7649"/>
                  <a:pt x="13122" y="7764"/>
                </a:cubicBezTo>
                <a:cubicBezTo>
                  <a:pt x="13126" y="7866"/>
                  <a:pt x="13146" y="7958"/>
                  <a:pt x="13146" y="8062"/>
                </a:cubicBezTo>
                <a:cubicBezTo>
                  <a:pt x="13146" y="8126"/>
                  <a:pt x="13106" y="8247"/>
                  <a:pt x="13171" y="8161"/>
                </a:cubicBezTo>
              </a:path>
              <a:path w="6525" h="1490">
                <a:moveTo>
                  <a:pt x="13444" y="6871"/>
                </a:moveTo>
                <a:cubicBezTo>
                  <a:pt x="13588" y="6835"/>
                  <a:pt x="13615" y="6777"/>
                  <a:pt x="13667" y="6846"/>
                </a:cubicBezTo>
                <a:cubicBezTo>
                  <a:pt x="13696" y="6904"/>
                  <a:pt x="13703" y="6989"/>
                  <a:pt x="13643" y="7045"/>
                </a:cubicBezTo>
                <a:cubicBezTo>
                  <a:pt x="13573" y="7111"/>
                  <a:pt x="13500" y="7092"/>
                  <a:pt x="13494" y="7193"/>
                </a:cubicBezTo>
                <a:cubicBezTo>
                  <a:pt x="13487" y="7314"/>
                  <a:pt x="13587" y="7250"/>
                  <a:pt x="13667" y="7268"/>
                </a:cubicBezTo>
                <a:cubicBezTo>
                  <a:pt x="13684" y="7276"/>
                  <a:pt x="13700" y="7285"/>
                  <a:pt x="13717" y="7293"/>
                </a:cubicBezTo>
              </a:path>
              <a:path w="6525" h="1490">
                <a:moveTo>
                  <a:pt x="13841" y="7640"/>
                </a:moveTo>
                <a:cubicBezTo>
                  <a:pt x="13847" y="7764"/>
                  <a:pt x="13848" y="7933"/>
                  <a:pt x="13940" y="8037"/>
                </a:cubicBezTo>
                <a:cubicBezTo>
                  <a:pt x="14022" y="8130"/>
                  <a:pt x="14125" y="8225"/>
                  <a:pt x="14238" y="8285"/>
                </a:cubicBezTo>
                <a:cubicBezTo>
                  <a:pt x="14317" y="8326"/>
                  <a:pt x="14357" y="8290"/>
                  <a:pt x="14412" y="8235"/>
                </a:cubicBezTo>
              </a:path>
              <a:path w="6525" h="1490">
                <a:moveTo>
                  <a:pt x="14139" y="7516"/>
                </a:moveTo>
                <a:cubicBezTo>
                  <a:pt x="14035" y="7689"/>
                  <a:pt x="13924" y="7924"/>
                  <a:pt x="13791" y="8086"/>
                </a:cubicBezTo>
                <a:cubicBezTo>
                  <a:pt x="13734" y="8155"/>
                  <a:pt x="13703" y="8223"/>
                  <a:pt x="13643" y="8285"/>
                </a:cubicBezTo>
              </a:path>
              <a:path w="6525" h="1490">
                <a:moveTo>
                  <a:pt x="14387" y="7863"/>
                </a:moveTo>
                <a:cubicBezTo>
                  <a:pt x="14546" y="7863"/>
                  <a:pt x="14658" y="7853"/>
                  <a:pt x="14808" y="7838"/>
                </a:cubicBezTo>
              </a:path>
              <a:path w="6525" h="1490">
                <a:moveTo>
                  <a:pt x="15577" y="7565"/>
                </a:moveTo>
                <a:cubicBezTo>
                  <a:pt x="15453" y="7584"/>
                  <a:pt x="15278" y="7584"/>
                  <a:pt x="15156" y="7615"/>
                </a:cubicBezTo>
                <a:cubicBezTo>
                  <a:pt x="15139" y="7623"/>
                  <a:pt x="15123" y="7632"/>
                  <a:pt x="15106" y="7640"/>
                </a:cubicBezTo>
                <a:cubicBezTo>
                  <a:pt x="15069" y="7713"/>
                  <a:pt x="15223" y="7786"/>
                  <a:pt x="15280" y="7838"/>
                </a:cubicBezTo>
                <a:cubicBezTo>
                  <a:pt x="15347" y="7899"/>
                  <a:pt x="15478" y="8035"/>
                  <a:pt x="15478" y="8136"/>
                </a:cubicBezTo>
                <a:cubicBezTo>
                  <a:pt x="15478" y="8214"/>
                  <a:pt x="15412" y="8254"/>
                  <a:pt x="15354" y="8285"/>
                </a:cubicBezTo>
                <a:cubicBezTo>
                  <a:pt x="15278" y="8325"/>
                  <a:pt x="15206" y="8318"/>
                  <a:pt x="15131" y="8285"/>
                </a:cubicBezTo>
                <a:cubicBezTo>
                  <a:pt x="15026" y="8238"/>
                  <a:pt x="15040" y="8221"/>
                  <a:pt x="15056" y="8111"/>
                </a:cubicBezTo>
              </a:path>
              <a:path w="6525" h="1490">
                <a:moveTo>
                  <a:pt x="15751" y="7813"/>
                </a:moveTo>
                <a:cubicBezTo>
                  <a:pt x="15747" y="7963"/>
                  <a:pt x="15855" y="8183"/>
                  <a:pt x="15726" y="8260"/>
                </a:cubicBezTo>
                <a:cubicBezTo>
                  <a:pt x="15718" y="8252"/>
                  <a:pt x="15709" y="8243"/>
                  <a:pt x="15701" y="8235"/>
                </a:cubicBezTo>
              </a:path>
              <a:path w="6525" h="1490">
                <a:moveTo>
                  <a:pt x="15801" y="7243"/>
                </a:moveTo>
                <a:lnTo>
                  <a:pt x="15801" y="7243"/>
                </a:lnTo>
              </a:path>
              <a:path w="6525" h="1490">
                <a:moveTo>
                  <a:pt x="15925" y="7913"/>
                </a:moveTo>
                <a:cubicBezTo>
                  <a:pt x="15925" y="8062"/>
                  <a:pt x="15907" y="8309"/>
                  <a:pt x="15925" y="8161"/>
                </a:cubicBezTo>
                <a:cubicBezTo>
                  <a:pt x="15942" y="8020"/>
                  <a:pt x="15954" y="7898"/>
                  <a:pt x="15999" y="7764"/>
                </a:cubicBezTo>
                <a:cubicBezTo>
                  <a:pt x="16022" y="7695"/>
                  <a:pt x="16077" y="7600"/>
                  <a:pt x="16148" y="7565"/>
                </a:cubicBezTo>
                <a:cubicBezTo>
                  <a:pt x="16244" y="7517"/>
                  <a:pt x="16332" y="7573"/>
                  <a:pt x="16371" y="7665"/>
                </a:cubicBezTo>
                <a:cubicBezTo>
                  <a:pt x="16424" y="7789"/>
                  <a:pt x="16439" y="7954"/>
                  <a:pt x="16421" y="8086"/>
                </a:cubicBezTo>
                <a:cubicBezTo>
                  <a:pt x="16416" y="8123"/>
                  <a:pt x="16356" y="8280"/>
                  <a:pt x="16371" y="8235"/>
                </a:cubicBezTo>
                <a:cubicBezTo>
                  <a:pt x="16399" y="8207"/>
                  <a:pt x="16408" y="8194"/>
                  <a:pt x="16396" y="8161"/>
                </a:cubicBezTo>
              </a:path>
              <a:path w="6525" h="1490">
                <a:moveTo>
                  <a:pt x="16718" y="7119"/>
                </a:moveTo>
                <a:cubicBezTo>
                  <a:pt x="16705" y="7169"/>
                  <a:pt x="16659" y="7288"/>
                  <a:pt x="16743" y="7317"/>
                </a:cubicBezTo>
                <a:cubicBezTo>
                  <a:pt x="16792" y="7334"/>
                  <a:pt x="16984" y="7332"/>
                  <a:pt x="17016" y="7293"/>
                </a:cubicBezTo>
                <a:cubicBezTo>
                  <a:pt x="17033" y="7260"/>
                  <a:pt x="17049" y="7226"/>
                  <a:pt x="17066" y="7193"/>
                </a:cubicBezTo>
              </a:path>
              <a:path w="6525" h="1490">
                <a:moveTo>
                  <a:pt x="17090" y="6871"/>
                </a:moveTo>
                <a:cubicBezTo>
                  <a:pt x="17072" y="7040"/>
                  <a:pt x="17066" y="7198"/>
                  <a:pt x="17066" y="7367"/>
                </a:cubicBezTo>
                <a:cubicBezTo>
                  <a:pt x="17066" y="7494"/>
                  <a:pt x="17063" y="7626"/>
                  <a:pt x="17090" y="7739"/>
                </a:cubicBezTo>
                <a:cubicBezTo>
                  <a:pt x="17090" y="7747"/>
                  <a:pt x="17090" y="7756"/>
                  <a:pt x="17090" y="7764"/>
                </a:cubicBezTo>
              </a:path>
              <a:path w="6525" h="1490">
                <a:moveTo>
                  <a:pt x="17388" y="7665"/>
                </a:moveTo>
                <a:cubicBezTo>
                  <a:pt x="17459" y="7836"/>
                  <a:pt x="17518" y="7972"/>
                  <a:pt x="17636" y="8111"/>
                </a:cubicBezTo>
                <a:cubicBezTo>
                  <a:pt x="17704" y="8191"/>
                  <a:pt x="17768" y="8216"/>
                  <a:pt x="17859" y="8260"/>
                </a:cubicBezTo>
                <a:cubicBezTo>
                  <a:pt x="17958" y="8307"/>
                  <a:pt x="17994" y="8267"/>
                  <a:pt x="18083" y="8210"/>
                </a:cubicBezTo>
              </a:path>
              <a:path w="6525" h="1490">
                <a:moveTo>
                  <a:pt x="18008" y="7689"/>
                </a:moveTo>
                <a:cubicBezTo>
                  <a:pt x="17878" y="7795"/>
                  <a:pt x="17731" y="7930"/>
                  <a:pt x="17587" y="8012"/>
                </a:cubicBezTo>
                <a:cubicBezTo>
                  <a:pt x="17487" y="8069"/>
                  <a:pt x="17391" y="8132"/>
                  <a:pt x="17289" y="8186"/>
                </a:cubicBezTo>
                <a:cubicBezTo>
                  <a:pt x="17173" y="8243"/>
                  <a:pt x="17123" y="8268"/>
                  <a:pt x="1704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2"/>
          <p:cNvSpPr/>
          <p:nvPr/>
        </p:nvSpPr>
        <p:spPr>
          <a:xfrm>
            <a:off x="1224000" y="3062160"/>
            <a:ext cx="1911240" cy="465120"/>
          </a:xfrm>
          <a:custGeom>
            <a:avLst/>
            <a:gdLst/>
            <a:ahLst/>
            <a:rect l="l" t="t" r="r" b="b"/>
            <a:pathLst>
              <a:path w="5309" h="1291">
                <a:moveTo>
                  <a:pt x="3894" y="8830"/>
                </a:moveTo>
                <a:cubicBezTo>
                  <a:pt x="3919" y="8904"/>
                  <a:pt x="3934" y="8976"/>
                  <a:pt x="3944" y="9054"/>
                </a:cubicBezTo>
                <a:cubicBezTo>
                  <a:pt x="3935" y="8994"/>
                  <a:pt x="3907" y="8935"/>
                  <a:pt x="3870" y="8880"/>
                </a:cubicBezTo>
                <a:cubicBezTo>
                  <a:pt x="3832" y="8825"/>
                  <a:pt x="3783" y="8809"/>
                  <a:pt x="3721" y="8806"/>
                </a:cubicBezTo>
                <a:cubicBezTo>
                  <a:pt x="3587" y="8799"/>
                  <a:pt x="3520" y="8931"/>
                  <a:pt x="3473" y="9029"/>
                </a:cubicBezTo>
                <a:cubicBezTo>
                  <a:pt x="3425" y="9128"/>
                  <a:pt x="3357" y="9261"/>
                  <a:pt x="3398" y="9376"/>
                </a:cubicBezTo>
                <a:cubicBezTo>
                  <a:pt x="3429" y="9463"/>
                  <a:pt x="3539" y="9516"/>
                  <a:pt x="3621" y="9525"/>
                </a:cubicBezTo>
                <a:cubicBezTo>
                  <a:pt x="3696" y="9533"/>
                  <a:pt x="3755" y="9483"/>
                  <a:pt x="3820" y="9451"/>
                </a:cubicBezTo>
              </a:path>
              <a:path w="5309" h="1291">
                <a:moveTo>
                  <a:pt x="4192" y="9054"/>
                </a:moveTo>
                <a:cubicBezTo>
                  <a:pt x="4185" y="9086"/>
                  <a:pt x="4054" y="9424"/>
                  <a:pt x="4142" y="9525"/>
                </a:cubicBezTo>
                <a:cubicBezTo>
                  <a:pt x="4194" y="9585"/>
                  <a:pt x="4253" y="9578"/>
                  <a:pt x="4316" y="9550"/>
                </a:cubicBezTo>
                <a:cubicBezTo>
                  <a:pt x="4396" y="9514"/>
                  <a:pt x="4487" y="9423"/>
                  <a:pt x="4539" y="9351"/>
                </a:cubicBezTo>
                <a:cubicBezTo>
                  <a:pt x="4614" y="9247"/>
                  <a:pt x="4531" y="9135"/>
                  <a:pt x="4465" y="9054"/>
                </a:cubicBezTo>
                <a:cubicBezTo>
                  <a:pt x="4412" y="8989"/>
                  <a:pt x="4340" y="9004"/>
                  <a:pt x="4266" y="9004"/>
                </a:cubicBezTo>
                <a:cubicBezTo>
                  <a:pt x="4250" y="9004"/>
                  <a:pt x="4233" y="9004"/>
                  <a:pt x="4217" y="9004"/>
                </a:cubicBezTo>
              </a:path>
              <a:path w="5309" h="1291">
                <a:moveTo>
                  <a:pt x="4911" y="8880"/>
                </a:moveTo>
                <a:cubicBezTo>
                  <a:pt x="4855" y="8936"/>
                  <a:pt x="4797" y="8958"/>
                  <a:pt x="4738" y="9004"/>
                </a:cubicBezTo>
                <a:cubicBezTo>
                  <a:pt x="4664" y="9062"/>
                  <a:pt x="4594" y="9103"/>
                  <a:pt x="4663" y="9203"/>
                </a:cubicBezTo>
                <a:cubicBezTo>
                  <a:pt x="4716" y="9279"/>
                  <a:pt x="4820" y="9334"/>
                  <a:pt x="4887" y="9401"/>
                </a:cubicBezTo>
                <a:cubicBezTo>
                  <a:pt x="4924" y="9439"/>
                  <a:pt x="5016" y="9554"/>
                  <a:pt x="4936" y="9599"/>
                </a:cubicBezTo>
                <a:cubicBezTo>
                  <a:pt x="4734" y="9711"/>
                  <a:pt x="4658" y="9531"/>
                  <a:pt x="4564" y="9426"/>
                </a:cubicBezTo>
              </a:path>
              <a:path w="5309" h="1291">
                <a:moveTo>
                  <a:pt x="5060" y="8508"/>
                </a:moveTo>
                <a:cubicBezTo>
                  <a:pt x="5189" y="8524"/>
                  <a:pt x="5228" y="8514"/>
                  <a:pt x="5234" y="8657"/>
                </a:cubicBezTo>
                <a:cubicBezTo>
                  <a:pt x="5239" y="8762"/>
                  <a:pt x="5183" y="8780"/>
                  <a:pt x="5135" y="8855"/>
                </a:cubicBezTo>
                <a:cubicBezTo>
                  <a:pt x="5103" y="8906"/>
                  <a:pt x="5082" y="8918"/>
                  <a:pt x="5035" y="8954"/>
                </a:cubicBezTo>
                <a:cubicBezTo>
                  <a:pt x="5105" y="9036"/>
                  <a:pt x="5150" y="9029"/>
                  <a:pt x="5259" y="9029"/>
                </a:cubicBezTo>
              </a:path>
              <a:path w="5309" h="1291">
                <a:moveTo>
                  <a:pt x="5531" y="9153"/>
                </a:moveTo>
                <a:cubicBezTo>
                  <a:pt x="5535" y="9269"/>
                  <a:pt x="5496" y="9508"/>
                  <a:pt x="5631" y="9575"/>
                </a:cubicBezTo>
                <a:cubicBezTo>
                  <a:pt x="5718" y="9618"/>
                  <a:pt x="5768" y="9632"/>
                  <a:pt x="5854" y="9599"/>
                </a:cubicBezTo>
              </a:path>
              <a:path w="5309" h="1291">
                <a:moveTo>
                  <a:pt x="5755" y="9029"/>
                </a:moveTo>
                <a:cubicBezTo>
                  <a:pt x="5650" y="9134"/>
                  <a:pt x="5559" y="9245"/>
                  <a:pt x="5457" y="9351"/>
                </a:cubicBezTo>
                <a:cubicBezTo>
                  <a:pt x="5383" y="9429"/>
                  <a:pt x="5264" y="9538"/>
                  <a:pt x="5209" y="9624"/>
                </a:cubicBezTo>
                <a:cubicBezTo>
                  <a:pt x="5209" y="9632"/>
                  <a:pt x="5209" y="9641"/>
                  <a:pt x="5209" y="9649"/>
                </a:cubicBezTo>
              </a:path>
              <a:path w="5309" h="1291">
                <a:moveTo>
                  <a:pt x="6325" y="9029"/>
                </a:moveTo>
                <a:cubicBezTo>
                  <a:pt x="6214" y="9071"/>
                  <a:pt x="6077" y="9111"/>
                  <a:pt x="5978" y="9178"/>
                </a:cubicBezTo>
                <a:cubicBezTo>
                  <a:pt x="6070" y="9252"/>
                  <a:pt x="6182" y="9306"/>
                  <a:pt x="6276" y="9376"/>
                </a:cubicBezTo>
                <a:cubicBezTo>
                  <a:pt x="6318" y="9408"/>
                  <a:pt x="6434" y="9516"/>
                  <a:pt x="6400" y="9575"/>
                </a:cubicBezTo>
                <a:cubicBezTo>
                  <a:pt x="6369" y="9629"/>
                  <a:pt x="6292" y="9664"/>
                  <a:pt x="6226" y="9649"/>
                </a:cubicBezTo>
                <a:cubicBezTo>
                  <a:pt x="6160" y="9634"/>
                  <a:pt x="6117" y="9610"/>
                  <a:pt x="6102" y="9550"/>
                </a:cubicBezTo>
              </a:path>
              <a:path w="5309" h="1291">
                <a:moveTo>
                  <a:pt x="6672" y="9128"/>
                </a:moveTo>
                <a:cubicBezTo>
                  <a:pt x="6686" y="9271"/>
                  <a:pt x="6672" y="9381"/>
                  <a:pt x="6672" y="9525"/>
                </a:cubicBezTo>
                <a:cubicBezTo>
                  <a:pt x="6672" y="9553"/>
                  <a:pt x="6679" y="9688"/>
                  <a:pt x="6648" y="9624"/>
                </a:cubicBezTo>
              </a:path>
              <a:path w="5309" h="1291">
                <a:moveTo>
                  <a:pt x="6573" y="8756"/>
                </a:moveTo>
                <a:cubicBezTo>
                  <a:pt x="6646" y="8756"/>
                  <a:pt x="6670" y="8755"/>
                  <a:pt x="6697" y="8806"/>
                </a:cubicBezTo>
              </a:path>
              <a:path w="5309" h="1291">
                <a:moveTo>
                  <a:pt x="6921" y="9426"/>
                </a:moveTo>
                <a:cubicBezTo>
                  <a:pt x="6921" y="9467"/>
                  <a:pt x="6921" y="9509"/>
                  <a:pt x="6921" y="9550"/>
                </a:cubicBezTo>
                <a:cubicBezTo>
                  <a:pt x="6921" y="9454"/>
                  <a:pt x="6919" y="9338"/>
                  <a:pt x="6970" y="9252"/>
                </a:cubicBezTo>
                <a:cubicBezTo>
                  <a:pt x="7022" y="9164"/>
                  <a:pt x="7113" y="9071"/>
                  <a:pt x="7218" y="9103"/>
                </a:cubicBezTo>
                <a:cubicBezTo>
                  <a:pt x="7304" y="9129"/>
                  <a:pt x="7342" y="9313"/>
                  <a:pt x="7367" y="9376"/>
                </a:cubicBezTo>
                <a:cubicBezTo>
                  <a:pt x="7401" y="9461"/>
                  <a:pt x="7417" y="9504"/>
                  <a:pt x="7417" y="9599"/>
                </a:cubicBezTo>
                <a:cubicBezTo>
                  <a:pt x="7417" y="9641"/>
                  <a:pt x="7417" y="9716"/>
                  <a:pt x="7417" y="9674"/>
                </a:cubicBezTo>
              </a:path>
              <a:path w="5309" h="1291">
                <a:moveTo>
                  <a:pt x="7516" y="8607"/>
                </a:moveTo>
                <a:cubicBezTo>
                  <a:pt x="7636" y="8603"/>
                  <a:pt x="7848" y="8545"/>
                  <a:pt x="7838" y="8756"/>
                </a:cubicBezTo>
                <a:cubicBezTo>
                  <a:pt x="7834" y="8839"/>
                  <a:pt x="7739" y="8910"/>
                  <a:pt x="7689" y="8954"/>
                </a:cubicBezTo>
                <a:cubicBezTo>
                  <a:pt x="7601" y="9033"/>
                  <a:pt x="7579" y="9130"/>
                  <a:pt x="7689" y="9203"/>
                </a:cubicBezTo>
                <a:cubicBezTo>
                  <a:pt x="7751" y="9244"/>
                  <a:pt x="7844" y="9227"/>
                  <a:pt x="7913" y="9227"/>
                </a:cubicBezTo>
              </a:path>
              <a:path w="5309" h="1291">
                <a:moveTo>
                  <a:pt x="8235" y="9302"/>
                </a:moveTo>
                <a:cubicBezTo>
                  <a:pt x="8388" y="9569"/>
                  <a:pt x="8393" y="9651"/>
                  <a:pt x="8682" y="9723"/>
                </a:cubicBezTo>
              </a:path>
              <a:path w="5309" h="1291">
                <a:moveTo>
                  <a:pt x="8706" y="9079"/>
                </a:moveTo>
                <a:cubicBezTo>
                  <a:pt x="8533" y="9179"/>
                  <a:pt x="8438" y="9284"/>
                  <a:pt x="8285" y="9401"/>
                </a:cubicBezTo>
                <a:cubicBezTo>
                  <a:pt x="8139" y="9512"/>
                  <a:pt x="8033" y="9658"/>
                  <a:pt x="7913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3"/>
          <p:cNvSpPr/>
          <p:nvPr/>
        </p:nvSpPr>
        <p:spPr>
          <a:xfrm>
            <a:off x="3751200" y="3321000"/>
            <a:ext cx="13356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0418" y="9227"/>
                </a:moveTo>
                <a:cubicBezTo>
                  <a:pt x="10500" y="9258"/>
                  <a:pt x="10603" y="9269"/>
                  <a:pt x="10691" y="9277"/>
                </a:cubicBezTo>
                <a:cubicBezTo>
                  <a:pt x="10724" y="9277"/>
                  <a:pt x="10757" y="9277"/>
                  <a:pt x="10790" y="9277"/>
                </a:cubicBezTo>
              </a:path>
              <a:path w="373" h="299">
                <a:moveTo>
                  <a:pt x="10418" y="9475"/>
                </a:moveTo>
                <a:cubicBezTo>
                  <a:pt x="10507" y="9542"/>
                  <a:pt x="10574" y="9525"/>
                  <a:pt x="1069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4"/>
          <p:cNvSpPr/>
          <p:nvPr/>
        </p:nvSpPr>
        <p:spPr>
          <a:xfrm>
            <a:off x="4098960" y="3187800"/>
            <a:ext cx="2509920" cy="652320"/>
          </a:xfrm>
          <a:custGeom>
            <a:avLst/>
            <a:gdLst/>
            <a:ahLst/>
            <a:rect l="l" t="t" r="r" b="b"/>
            <a:pathLst>
              <a:path w="6971" h="1812">
                <a:moveTo>
                  <a:pt x="11807" y="9252"/>
                </a:moveTo>
                <a:cubicBezTo>
                  <a:pt x="11685" y="9277"/>
                  <a:pt x="11562" y="9292"/>
                  <a:pt x="11460" y="9351"/>
                </a:cubicBezTo>
                <a:cubicBezTo>
                  <a:pt x="11475" y="9455"/>
                  <a:pt x="11520" y="9407"/>
                  <a:pt x="11584" y="9475"/>
                </a:cubicBezTo>
                <a:cubicBezTo>
                  <a:pt x="11666" y="9562"/>
                  <a:pt x="11762" y="9621"/>
                  <a:pt x="11832" y="9723"/>
                </a:cubicBezTo>
                <a:cubicBezTo>
                  <a:pt x="11889" y="9807"/>
                  <a:pt x="11867" y="9910"/>
                  <a:pt x="11757" y="9922"/>
                </a:cubicBezTo>
                <a:cubicBezTo>
                  <a:pt x="11677" y="9930"/>
                  <a:pt x="11514" y="9931"/>
                  <a:pt x="11435" y="9897"/>
                </a:cubicBezTo>
                <a:cubicBezTo>
                  <a:pt x="11357" y="9864"/>
                  <a:pt x="11391" y="9775"/>
                  <a:pt x="11410" y="9723"/>
                </a:cubicBezTo>
              </a:path>
              <a:path w="6971" h="1812">
                <a:moveTo>
                  <a:pt x="12105" y="9376"/>
                </a:moveTo>
                <a:cubicBezTo>
                  <a:pt x="12135" y="9533"/>
                  <a:pt x="12100" y="9642"/>
                  <a:pt x="12080" y="9798"/>
                </a:cubicBezTo>
                <a:cubicBezTo>
                  <a:pt x="12080" y="9859"/>
                  <a:pt x="12089" y="9875"/>
                  <a:pt x="12055" y="9897"/>
                </a:cubicBezTo>
              </a:path>
              <a:path w="6971" h="1812">
                <a:moveTo>
                  <a:pt x="12055" y="9004"/>
                </a:moveTo>
                <a:cubicBezTo>
                  <a:pt x="12127" y="8983"/>
                  <a:pt x="12102" y="8977"/>
                  <a:pt x="12154" y="9029"/>
                </a:cubicBezTo>
              </a:path>
              <a:path w="6971" h="1812">
                <a:moveTo>
                  <a:pt x="12353" y="9748"/>
                </a:moveTo>
                <a:cubicBezTo>
                  <a:pt x="12373" y="9907"/>
                  <a:pt x="12394" y="10012"/>
                  <a:pt x="12353" y="9872"/>
                </a:cubicBezTo>
                <a:cubicBezTo>
                  <a:pt x="12353" y="9766"/>
                  <a:pt x="12353" y="9677"/>
                  <a:pt x="12378" y="9575"/>
                </a:cubicBezTo>
                <a:cubicBezTo>
                  <a:pt x="12418" y="9414"/>
                  <a:pt x="12458" y="9371"/>
                  <a:pt x="12626" y="9351"/>
                </a:cubicBezTo>
                <a:cubicBezTo>
                  <a:pt x="12733" y="9339"/>
                  <a:pt x="12778" y="9470"/>
                  <a:pt x="12799" y="9550"/>
                </a:cubicBezTo>
                <a:cubicBezTo>
                  <a:pt x="12830" y="9672"/>
                  <a:pt x="12869" y="9796"/>
                  <a:pt x="12874" y="9922"/>
                </a:cubicBezTo>
                <a:cubicBezTo>
                  <a:pt x="12877" y="9992"/>
                  <a:pt x="12869" y="10187"/>
                  <a:pt x="12849" y="10120"/>
                </a:cubicBezTo>
                <a:cubicBezTo>
                  <a:pt x="12849" y="10095"/>
                  <a:pt x="12849" y="10071"/>
                  <a:pt x="12849" y="10046"/>
                </a:cubicBezTo>
              </a:path>
              <a:path w="6971" h="1812">
                <a:moveTo>
                  <a:pt x="12948" y="8855"/>
                </a:moveTo>
                <a:cubicBezTo>
                  <a:pt x="12996" y="8866"/>
                  <a:pt x="13340" y="8873"/>
                  <a:pt x="13246" y="9029"/>
                </a:cubicBezTo>
                <a:cubicBezTo>
                  <a:pt x="13203" y="9100"/>
                  <a:pt x="13153" y="9122"/>
                  <a:pt x="13097" y="9178"/>
                </a:cubicBezTo>
                <a:cubicBezTo>
                  <a:pt x="13047" y="9228"/>
                  <a:pt x="13065" y="9291"/>
                  <a:pt x="13122" y="9327"/>
                </a:cubicBezTo>
                <a:cubicBezTo>
                  <a:pt x="13187" y="9369"/>
                  <a:pt x="13246" y="9370"/>
                  <a:pt x="13320" y="9376"/>
                </a:cubicBezTo>
              </a:path>
              <a:path w="6971" h="1812">
                <a:moveTo>
                  <a:pt x="13494" y="9550"/>
                </a:moveTo>
                <a:cubicBezTo>
                  <a:pt x="13566" y="9832"/>
                  <a:pt x="13539" y="9975"/>
                  <a:pt x="13791" y="10096"/>
                </a:cubicBezTo>
                <a:cubicBezTo>
                  <a:pt x="13858" y="10118"/>
                  <a:pt x="13876" y="10122"/>
                  <a:pt x="13915" y="10145"/>
                </a:cubicBezTo>
              </a:path>
              <a:path w="6971" h="1812">
                <a:moveTo>
                  <a:pt x="13791" y="9475"/>
                </a:moveTo>
                <a:cubicBezTo>
                  <a:pt x="13644" y="9666"/>
                  <a:pt x="13515" y="9860"/>
                  <a:pt x="13370" y="10046"/>
                </a:cubicBezTo>
                <a:cubicBezTo>
                  <a:pt x="13345" y="10078"/>
                  <a:pt x="13214" y="10259"/>
                  <a:pt x="13221" y="10294"/>
                </a:cubicBezTo>
                <a:cubicBezTo>
                  <a:pt x="13229" y="10294"/>
                  <a:pt x="13238" y="10294"/>
                  <a:pt x="13246" y="10294"/>
                </a:cubicBezTo>
              </a:path>
              <a:path w="6971" h="1812">
                <a:moveTo>
                  <a:pt x="14263" y="8954"/>
                </a:moveTo>
                <a:cubicBezTo>
                  <a:pt x="14167" y="9083"/>
                  <a:pt x="14111" y="9148"/>
                  <a:pt x="14064" y="9302"/>
                </a:cubicBezTo>
                <a:cubicBezTo>
                  <a:pt x="14022" y="9439"/>
                  <a:pt x="13977" y="9577"/>
                  <a:pt x="13990" y="9723"/>
                </a:cubicBezTo>
                <a:cubicBezTo>
                  <a:pt x="14007" y="9912"/>
                  <a:pt x="14066" y="10068"/>
                  <a:pt x="14213" y="10170"/>
                </a:cubicBezTo>
                <a:cubicBezTo>
                  <a:pt x="14230" y="10178"/>
                  <a:pt x="14246" y="10187"/>
                  <a:pt x="14263" y="10195"/>
                </a:cubicBezTo>
              </a:path>
              <a:path w="6971" h="1812">
                <a:moveTo>
                  <a:pt x="14709" y="8954"/>
                </a:moveTo>
                <a:cubicBezTo>
                  <a:pt x="14750" y="9213"/>
                  <a:pt x="14759" y="9437"/>
                  <a:pt x="14759" y="9699"/>
                </a:cubicBezTo>
                <a:cubicBezTo>
                  <a:pt x="14759" y="9809"/>
                  <a:pt x="14758" y="9917"/>
                  <a:pt x="14734" y="10021"/>
                </a:cubicBezTo>
                <a:cubicBezTo>
                  <a:pt x="14720" y="10082"/>
                  <a:pt x="14709" y="10109"/>
                  <a:pt x="14709" y="10170"/>
                </a:cubicBezTo>
              </a:path>
              <a:path w="6971" h="1812">
                <a:moveTo>
                  <a:pt x="14957" y="9748"/>
                </a:moveTo>
                <a:cubicBezTo>
                  <a:pt x="15089" y="9748"/>
                  <a:pt x="15222" y="9748"/>
                  <a:pt x="15354" y="9748"/>
                </a:cubicBezTo>
              </a:path>
              <a:path w="6971" h="1812">
                <a:moveTo>
                  <a:pt x="15801" y="9550"/>
                </a:moveTo>
                <a:cubicBezTo>
                  <a:pt x="15688" y="9550"/>
                  <a:pt x="15607" y="9555"/>
                  <a:pt x="15503" y="9599"/>
                </a:cubicBezTo>
                <a:cubicBezTo>
                  <a:pt x="15244" y="9709"/>
                  <a:pt x="15736" y="10029"/>
                  <a:pt x="15751" y="10046"/>
                </a:cubicBezTo>
                <a:cubicBezTo>
                  <a:pt x="15775" y="10094"/>
                  <a:pt x="15783" y="10108"/>
                  <a:pt x="15776" y="10145"/>
                </a:cubicBezTo>
                <a:cubicBezTo>
                  <a:pt x="15768" y="10170"/>
                  <a:pt x="15759" y="10195"/>
                  <a:pt x="15751" y="10220"/>
                </a:cubicBezTo>
                <a:cubicBezTo>
                  <a:pt x="15620" y="10216"/>
                  <a:pt x="15379" y="10276"/>
                  <a:pt x="15379" y="10145"/>
                </a:cubicBezTo>
                <a:cubicBezTo>
                  <a:pt x="15387" y="10112"/>
                  <a:pt x="15396" y="10079"/>
                  <a:pt x="15404" y="10046"/>
                </a:cubicBezTo>
              </a:path>
              <a:path w="6971" h="1812">
                <a:moveTo>
                  <a:pt x="16049" y="9823"/>
                </a:moveTo>
                <a:cubicBezTo>
                  <a:pt x="16036" y="9992"/>
                  <a:pt x="15973" y="10420"/>
                  <a:pt x="16049" y="10269"/>
                </a:cubicBezTo>
              </a:path>
              <a:path w="6971" h="1812">
                <a:moveTo>
                  <a:pt x="15999" y="9376"/>
                </a:moveTo>
                <a:lnTo>
                  <a:pt x="15999" y="9376"/>
                </a:lnTo>
              </a:path>
              <a:path w="6971" h="1812">
                <a:moveTo>
                  <a:pt x="16321" y="10096"/>
                </a:moveTo>
                <a:cubicBezTo>
                  <a:pt x="16321" y="10154"/>
                  <a:pt x="16321" y="10228"/>
                  <a:pt x="16321" y="10170"/>
                </a:cubicBezTo>
                <a:cubicBezTo>
                  <a:pt x="16295" y="10061"/>
                  <a:pt x="16311" y="10000"/>
                  <a:pt x="16321" y="9897"/>
                </a:cubicBezTo>
                <a:cubicBezTo>
                  <a:pt x="16328" y="9823"/>
                  <a:pt x="16327" y="9687"/>
                  <a:pt x="16421" y="9649"/>
                </a:cubicBezTo>
                <a:cubicBezTo>
                  <a:pt x="16563" y="9591"/>
                  <a:pt x="16665" y="9695"/>
                  <a:pt x="16718" y="9823"/>
                </a:cubicBezTo>
                <a:cubicBezTo>
                  <a:pt x="16753" y="9909"/>
                  <a:pt x="16801" y="10081"/>
                  <a:pt x="16793" y="10170"/>
                </a:cubicBezTo>
                <a:cubicBezTo>
                  <a:pt x="16781" y="10308"/>
                  <a:pt x="16726" y="10010"/>
                  <a:pt x="16718" y="9872"/>
                </a:cubicBezTo>
              </a:path>
              <a:path w="6971" h="1812">
                <a:moveTo>
                  <a:pt x="16718" y="9178"/>
                </a:moveTo>
                <a:cubicBezTo>
                  <a:pt x="16875" y="9115"/>
                  <a:pt x="16895" y="9096"/>
                  <a:pt x="17041" y="9178"/>
                </a:cubicBezTo>
                <a:cubicBezTo>
                  <a:pt x="17049" y="9186"/>
                  <a:pt x="17058" y="9195"/>
                  <a:pt x="17066" y="9203"/>
                </a:cubicBezTo>
                <a:cubicBezTo>
                  <a:pt x="17037" y="9274"/>
                  <a:pt x="17010" y="9331"/>
                  <a:pt x="16942" y="9376"/>
                </a:cubicBezTo>
                <a:cubicBezTo>
                  <a:pt x="16925" y="9384"/>
                  <a:pt x="16909" y="9393"/>
                  <a:pt x="16892" y="9401"/>
                </a:cubicBezTo>
                <a:cubicBezTo>
                  <a:pt x="16947" y="9497"/>
                  <a:pt x="16970" y="9492"/>
                  <a:pt x="17066" y="9525"/>
                </a:cubicBezTo>
                <a:cubicBezTo>
                  <a:pt x="17082" y="9533"/>
                  <a:pt x="17099" y="9542"/>
                  <a:pt x="17115" y="9550"/>
                </a:cubicBezTo>
              </a:path>
              <a:path w="6971" h="1812">
                <a:moveTo>
                  <a:pt x="17388" y="9723"/>
                </a:moveTo>
                <a:cubicBezTo>
                  <a:pt x="17408" y="9965"/>
                  <a:pt x="17468" y="10082"/>
                  <a:pt x="17636" y="10269"/>
                </a:cubicBezTo>
                <a:cubicBezTo>
                  <a:pt x="17699" y="10339"/>
                  <a:pt x="17774" y="10360"/>
                  <a:pt x="17859" y="10393"/>
                </a:cubicBezTo>
              </a:path>
              <a:path w="6971" h="1812">
                <a:moveTo>
                  <a:pt x="18008" y="9723"/>
                </a:moveTo>
                <a:cubicBezTo>
                  <a:pt x="17728" y="9714"/>
                  <a:pt x="17664" y="9755"/>
                  <a:pt x="17438" y="9947"/>
                </a:cubicBezTo>
                <a:cubicBezTo>
                  <a:pt x="17375" y="10001"/>
                  <a:pt x="17232" y="10141"/>
                  <a:pt x="17239" y="10244"/>
                </a:cubicBezTo>
                <a:cubicBezTo>
                  <a:pt x="17247" y="10252"/>
                  <a:pt x="17256" y="10261"/>
                  <a:pt x="17264" y="10269"/>
                </a:cubicBezTo>
              </a:path>
              <a:path w="6971" h="1812">
                <a:moveTo>
                  <a:pt x="18008" y="8905"/>
                </a:moveTo>
                <a:cubicBezTo>
                  <a:pt x="18179" y="8942"/>
                  <a:pt x="18203" y="9027"/>
                  <a:pt x="18256" y="9203"/>
                </a:cubicBezTo>
                <a:cubicBezTo>
                  <a:pt x="18327" y="9441"/>
                  <a:pt x="18389" y="9669"/>
                  <a:pt x="18355" y="9922"/>
                </a:cubicBezTo>
                <a:cubicBezTo>
                  <a:pt x="18337" y="10056"/>
                  <a:pt x="18288" y="10382"/>
                  <a:pt x="18182" y="10492"/>
                </a:cubicBezTo>
                <a:cubicBezTo>
                  <a:pt x="18112" y="10565"/>
                  <a:pt x="17972" y="10622"/>
                  <a:pt x="17884" y="106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5"/>
          <p:cNvSpPr/>
          <p:nvPr/>
        </p:nvSpPr>
        <p:spPr>
          <a:xfrm>
            <a:off x="1089000" y="3295800"/>
            <a:ext cx="2036880" cy="785520"/>
          </a:xfrm>
          <a:custGeom>
            <a:avLst/>
            <a:gdLst/>
            <a:ahLst/>
            <a:rect l="l" t="t" r="r" b="b"/>
            <a:pathLst>
              <a:path w="5657" h="2184">
                <a:moveTo>
                  <a:pt x="3026" y="9897"/>
                </a:moveTo>
                <a:cubicBezTo>
                  <a:pt x="3334" y="9897"/>
                  <a:pt x="3638" y="9910"/>
                  <a:pt x="3944" y="9922"/>
                </a:cubicBezTo>
                <a:cubicBezTo>
                  <a:pt x="4367" y="9938"/>
                  <a:pt x="4787" y="9913"/>
                  <a:pt x="5209" y="9947"/>
                </a:cubicBezTo>
                <a:cubicBezTo>
                  <a:pt x="5705" y="9987"/>
                  <a:pt x="6202" y="10026"/>
                  <a:pt x="6697" y="10071"/>
                </a:cubicBezTo>
                <a:cubicBezTo>
                  <a:pt x="7036" y="10102"/>
                  <a:pt x="7377" y="10090"/>
                  <a:pt x="7714" y="10145"/>
                </a:cubicBezTo>
                <a:cubicBezTo>
                  <a:pt x="7945" y="10192"/>
                  <a:pt x="8010" y="10206"/>
                  <a:pt x="8161" y="10220"/>
                </a:cubicBezTo>
              </a:path>
              <a:path w="5657" h="2184">
                <a:moveTo>
                  <a:pt x="8632" y="10244"/>
                </a:moveTo>
                <a:lnTo>
                  <a:pt x="8632" y="10244"/>
                </a:lnTo>
              </a:path>
              <a:path w="5657" h="2184">
                <a:moveTo>
                  <a:pt x="5507" y="10393"/>
                </a:moveTo>
                <a:cubicBezTo>
                  <a:pt x="5384" y="10447"/>
                  <a:pt x="5280" y="10478"/>
                  <a:pt x="5184" y="10567"/>
                </a:cubicBezTo>
                <a:cubicBezTo>
                  <a:pt x="5154" y="10597"/>
                  <a:pt x="5143" y="10611"/>
                  <a:pt x="5135" y="10641"/>
                </a:cubicBezTo>
                <a:cubicBezTo>
                  <a:pt x="5187" y="10695"/>
                  <a:pt x="5248" y="10722"/>
                  <a:pt x="5308" y="10765"/>
                </a:cubicBezTo>
                <a:cubicBezTo>
                  <a:pt x="5390" y="10823"/>
                  <a:pt x="5556" y="10861"/>
                  <a:pt x="5556" y="10988"/>
                </a:cubicBezTo>
                <a:cubicBezTo>
                  <a:pt x="5556" y="11107"/>
                  <a:pt x="5456" y="11166"/>
                  <a:pt x="5358" y="11187"/>
                </a:cubicBezTo>
                <a:cubicBezTo>
                  <a:pt x="5326" y="11194"/>
                  <a:pt x="5151" y="11207"/>
                  <a:pt x="5135" y="11162"/>
                </a:cubicBezTo>
                <a:cubicBezTo>
                  <a:pt x="5135" y="11078"/>
                  <a:pt x="5129" y="11058"/>
                  <a:pt x="5159" y="11013"/>
                </a:cubicBezTo>
              </a:path>
              <a:path w="5657" h="2184">
                <a:moveTo>
                  <a:pt x="5953" y="10592"/>
                </a:moveTo>
                <a:cubicBezTo>
                  <a:pt x="5953" y="10747"/>
                  <a:pt x="5952" y="10917"/>
                  <a:pt x="5904" y="11063"/>
                </a:cubicBezTo>
                <a:cubicBezTo>
                  <a:pt x="5894" y="11092"/>
                  <a:pt x="5879" y="11193"/>
                  <a:pt x="5879" y="11088"/>
                </a:cubicBezTo>
              </a:path>
              <a:path w="5657" h="2184">
                <a:moveTo>
                  <a:pt x="5904" y="10443"/>
                </a:moveTo>
                <a:cubicBezTo>
                  <a:pt x="5938" y="10407"/>
                  <a:pt x="5960" y="10404"/>
                  <a:pt x="6003" y="10443"/>
                </a:cubicBezTo>
              </a:path>
              <a:path w="5657" h="2184">
                <a:moveTo>
                  <a:pt x="6127" y="10939"/>
                </a:moveTo>
                <a:cubicBezTo>
                  <a:pt x="6127" y="10997"/>
                  <a:pt x="6127" y="11054"/>
                  <a:pt x="6127" y="11112"/>
                </a:cubicBezTo>
                <a:cubicBezTo>
                  <a:pt x="6166" y="10986"/>
                  <a:pt x="6205" y="10920"/>
                  <a:pt x="6276" y="10815"/>
                </a:cubicBezTo>
                <a:cubicBezTo>
                  <a:pt x="6284" y="10798"/>
                  <a:pt x="6292" y="10782"/>
                  <a:pt x="6300" y="10765"/>
                </a:cubicBezTo>
                <a:cubicBezTo>
                  <a:pt x="6374" y="10802"/>
                  <a:pt x="6444" y="10829"/>
                  <a:pt x="6474" y="10914"/>
                </a:cubicBezTo>
                <a:cubicBezTo>
                  <a:pt x="6509" y="11012"/>
                  <a:pt x="6513" y="11148"/>
                  <a:pt x="6548" y="11237"/>
                </a:cubicBezTo>
                <a:cubicBezTo>
                  <a:pt x="6556" y="11237"/>
                  <a:pt x="6565" y="11237"/>
                  <a:pt x="6573" y="11237"/>
                </a:cubicBezTo>
              </a:path>
              <a:path w="5657" h="2184">
                <a:moveTo>
                  <a:pt x="6747" y="10443"/>
                </a:moveTo>
                <a:cubicBezTo>
                  <a:pt x="6838" y="10450"/>
                  <a:pt x="6947" y="10437"/>
                  <a:pt x="6921" y="10567"/>
                </a:cubicBezTo>
                <a:cubicBezTo>
                  <a:pt x="6901" y="10666"/>
                  <a:pt x="6804" y="10640"/>
                  <a:pt x="6846" y="10740"/>
                </a:cubicBezTo>
                <a:cubicBezTo>
                  <a:pt x="6882" y="10827"/>
                  <a:pt x="6965" y="10790"/>
                  <a:pt x="7045" y="10790"/>
                </a:cubicBezTo>
              </a:path>
              <a:path w="5657" h="2184">
                <a:moveTo>
                  <a:pt x="7268" y="10790"/>
                </a:moveTo>
                <a:cubicBezTo>
                  <a:pt x="7268" y="11010"/>
                  <a:pt x="7264" y="11052"/>
                  <a:pt x="7417" y="11212"/>
                </a:cubicBezTo>
                <a:cubicBezTo>
                  <a:pt x="7492" y="11287"/>
                  <a:pt x="7544" y="11314"/>
                  <a:pt x="7640" y="11311"/>
                </a:cubicBezTo>
              </a:path>
              <a:path w="5657" h="2184">
                <a:moveTo>
                  <a:pt x="7615" y="10716"/>
                </a:moveTo>
                <a:cubicBezTo>
                  <a:pt x="7427" y="10824"/>
                  <a:pt x="7244" y="10929"/>
                  <a:pt x="7094" y="11088"/>
                </a:cubicBezTo>
                <a:cubicBezTo>
                  <a:pt x="7016" y="11170"/>
                  <a:pt x="6943" y="11250"/>
                  <a:pt x="6871" y="11336"/>
                </a:cubicBezTo>
              </a:path>
              <a:path w="5657" h="2184">
                <a:moveTo>
                  <a:pt x="5755" y="11013"/>
                </a:moveTo>
                <a:cubicBezTo>
                  <a:pt x="5883" y="10885"/>
                  <a:pt x="5999" y="10840"/>
                  <a:pt x="6176" y="10790"/>
                </a:cubicBezTo>
                <a:cubicBezTo>
                  <a:pt x="6663" y="10652"/>
                  <a:pt x="7140" y="10582"/>
                  <a:pt x="7640" y="10517"/>
                </a:cubicBezTo>
                <a:cubicBezTo>
                  <a:pt x="7856" y="10489"/>
                  <a:pt x="8046" y="10505"/>
                  <a:pt x="8260" y="10517"/>
                </a:cubicBezTo>
              </a:path>
              <a:path w="5657" h="2184">
                <a:moveTo>
                  <a:pt x="6474" y="9525"/>
                </a:moveTo>
                <a:cubicBezTo>
                  <a:pt x="6697" y="9409"/>
                  <a:pt x="6918" y="9362"/>
                  <a:pt x="7169" y="9327"/>
                </a:cubicBezTo>
                <a:cubicBezTo>
                  <a:pt x="7548" y="9274"/>
                  <a:pt x="7931" y="9262"/>
                  <a:pt x="8310" y="9227"/>
                </a:cubicBezTo>
                <a:cubicBezTo>
                  <a:pt x="8484" y="9199"/>
                  <a:pt x="8559" y="9185"/>
                  <a:pt x="8682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6"/>
          <p:cNvSpPr/>
          <p:nvPr/>
        </p:nvSpPr>
        <p:spPr>
          <a:xfrm>
            <a:off x="4170240" y="3394080"/>
            <a:ext cx="1224000" cy="928800"/>
          </a:xfrm>
          <a:custGeom>
            <a:avLst/>
            <a:gdLst/>
            <a:ahLst/>
            <a:rect l="l" t="t" r="r" b="b"/>
            <a:pathLst>
              <a:path w="3399" h="2580">
                <a:moveTo>
                  <a:pt x="12849" y="10864"/>
                </a:moveTo>
                <a:cubicBezTo>
                  <a:pt x="12762" y="10872"/>
                  <a:pt x="12657" y="10900"/>
                  <a:pt x="12576" y="10939"/>
                </a:cubicBezTo>
                <a:cubicBezTo>
                  <a:pt x="12525" y="10963"/>
                  <a:pt x="12298" y="11025"/>
                  <a:pt x="12303" y="11088"/>
                </a:cubicBezTo>
                <a:cubicBezTo>
                  <a:pt x="12311" y="11201"/>
                  <a:pt x="12434" y="11232"/>
                  <a:pt x="12502" y="11286"/>
                </a:cubicBezTo>
                <a:cubicBezTo>
                  <a:pt x="12619" y="11379"/>
                  <a:pt x="12687" y="11492"/>
                  <a:pt x="12626" y="11609"/>
                </a:cubicBezTo>
                <a:cubicBezTo>
                  <a:pt x="12570" y="11716"/>
                  <a:pt x="12459" y="11711"/>
                  <a:pt x="12353" y="11683"/>
                </a:cubicBezTo>
                <a:cubicBezTo>
                  <a:pt x="12239" y="11653"/>
                  <a:pt x="12215" y="11642"/>
                  <a:pt x="12204" y="11534"/>
                </a:cubicBezTo>
              </a:path>
              <a:path w="3399" h="2580">
                <a:moveTo>
                  <a:pt x="13022" y="11237"/>
                </a:moveTo>
                <a:cubicBezTo>
                  <a:pt x="13015" y="11415"/>
                  <a:pt x="13010" y="11593"/>
                  <a:pt x="12923" y="11757"/>
                </a:cubicBezTo>
                <a:cubicBezTo>
                  <a:pt x="12893" y="11787"/>
                  <a:pt x="12882" y="11789"/>
                  <a:pt x="12874" y="11733"/>
                </a:cubicBezTo>
              </a:path>
              <a:path w="3399" h="2580">
                <a:moveTo>
                  <a:pt x="13221" y="11559"/>
                </a:moveTo>
                <a:cubicBezTo>
                  <a:pt x="13200" y="11641"/>
                  <a:pt x="13192" y="11692"/>
                  <a:pt x="13196" y="11609"/>
                </a:cubicBezTo>
                <a:cubicBezTo>
                  <a:pt x="13214" y="11517"/>
                  <a:pt x="13257" y="11425"/>
                  <a:pt x="13295" y="11336"/>
                </a:cubicBezTo>
                <a:cubicBezTo>
                  <a:pt x="13335" y="11241"/>
                  <a:pt x="13377" y="11237"/>
                  <a:pt x="13469" y="11237"/>
                </a:cubicBezTo>
                <a:cubicBezTo>
                  <a:pt x="13568" y="11237"/>
                  <a:pt x="13648" y="11460"/>
                  <a:pt x="13667" y="11534"/>
                </a:cubicBezTo>
                <a:cubicBezTo>
                  <a:pt x="13693" y="11638"/>
                  <a:pt x="13683" y="11734"/>
                  <a:pt x="13667" y="11832"/>
                </a:cubicBezTo>
                <a:cubicBezTo>
                  <a:pt x="13667" y="11873"/>
                  <a:pt x="13667" y="11897"/>
                  <a:pt x="13667" y="11857"/>
                </a:cubicBezTo>
              </a:path>
              <a:path w="3399" h="2580">
                <a:moveTo>
                  <a:pt x="13816" y="10864"/>
                </a:moveTo>
                <a:cubicBezTo>
                  <a:pt x="13901" y="10842"/>
                  <a:pt x="14011" y="10824"/>
                  <a:pt x="14089" y="10889"/>
                </a:cubicBezTo>
                <a:cubicBezTo>
                  <a:pt x="14161" y="10949"/>
                  <a:pt x="14128" y="11048"/>
                  <a:pt x="14089" y="11112"/>
                </a:cubicBezTo>
                <a:cubicBezTo>
                  <a:pt x="14060" y="11160"/>
                  <a:pt x="13961" y="11201"/>
                  <a:pt x="14039" y="11261"/>
                </a:cubicBezTo>
                <a:cubicBezTo>
                  <a:pt x="14097" y="11305"/>
                  <a:pt x="14145" y="11305"/>
                  <a:pt x="14213" y="11311"/>
                </a:cubicBezTo>
              </a:path>
              <a:path w="3399" h="2580">
                <a:moveTo>
                  <a:pt x="14461" y="11311"/>
                </a:moveTo>
                <a:cubicBezTo>
                  <a:pt x="14483" y="11497"/>
                  <a:pt x="14468" y="11665"/>
                  <a:pt x="14610" y="11807"/>
                </a:cubicBezTo>
                <a:cubicBezTo>
                  <a:pt x="14748" y="11926"/>
                  <a:pt x="14767" y="11949"/>
                  <a:pt x="14858" y="12005"/>
                </a:cubicBezTo>
              </a:path>
              <a:path w="3399" h="2580">
                <a:moveTo>
                  <a:pt x="14982" y="11435"/>
                </a:moveTo>
                <a:cubicBezTo>
                  <a:pt x="14773" y="11493"/>
                  <a:pt x="14574" y="11566"/>
                  <a:pt x="14362" y="11609"/>
                </a:cubicBezTo>
                <a:cubicBezTo>
                  <a:pt x="14321" y="11617"/>
                  <a:pt x="14279" y="11625"/>
                  <a:pt x="14238" y="11633"/>
                </a:cubicBezTo>
              </a:path>
              <a:path w="3399" h="2580">
                <a:moveTo>
                  <a:pt x="12154" y="11584"/>
                </a:moveTo>
                <a:cubicBezTo>
                  <a:pt x="12406" y="11458"/>
                  <a:pt x="12643" y="11404"/>
                  <a:pt x="12923" y="11361"/>
                </a:cubicBezTo>
                <a:cubicBezTo>
                  <a:pt x="13228" y="11314"/>
                  <a:pt x="13535" y="11310"/>
                  <a:pt x="13841" y="11286"/>
                </a:cubicBezTo>
                <a:cubicBezTo>
                  <a:pt x="14043" y="11270"/>
                  <a:pt x="14275" y="11221"/>
                  <a:pt x="14461" y="11187"/>
                </a:cubicBezTo>
              </a:path>
              <a:path w="3399" h="2580">
                <a:moveTo>
                  <a:pt x="11584" y="9847"/>
                </a:moveTo>
                <a:cubicBezTo>
                  <a:pt x="11800" y="9650"/>
                  <a:pt x="11945" y="9600"/>
                  <a:pt x="12229" y="9525"/>
                </a:cubicBezTo>
                <a:cubicBezTo>
                  <a:pt x="12519" y="9449"/>
                  <a:pt x="12823" y="9438"/>
                  <a:pt x="13122" y="9426"/>
                </a:cubicBezTo>
                <a:cubicBezTo>
                  <a:pt x="13303" y="9419"/>
                  <a:pt x="13486" y="9426"/>
                  <a:pt x="1366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7"/>
          <p:cNvSpPr/>
          <p:nvPr/>
        </p:nvSpPr>
        <p:spPr>
          <a:xfrm>
            <a:off x="2286000" y="4357800"/>
            <a:ext cx="1322280" cy="635040"/>
          </a:xfrm>
          <a:custGeom>
            <a:avLst/>
            <a:gdLst/>
            <a:ahLst/>
            <a:rect l="l" t="t" r="r" b="b"/>
            <a:pathLst>
              <a:path w="3672" h="1762">
                <a:moveTo>
                  <a:pt x="6846" y="13022"/>
                </a:moveTo>
                <a:cubicBezTo>
                  <a:pt x="6846" y="12930"/>
                  <a:pt x="6849" y="12835"/>
                  <a:pt x="6821" y="12750"/>
                </a:cubicBezTo>
                <a:cubicBezTo>
                  <a:pt x="6801" y="12691"/>
                  <a:pt x="6720" y="12609"/>
                  <a:pt x="6648" y="12650"/>
                </a:cubicBezTo>
                <a:cubicBezTo>
                  <a:pt x="6586" y="12685"/>
                  <a:pt x="6487" y="12773"/>
                  <a:pt x="6449" y="12849"/>
                </a:cubicBezTo>
                <a:cubicBezTo>
                  <a:pt x="6370" y="13005"/>
                  <a:pt x="6325" y="13171"/>
                  <a:pt x="6375" y="13345"/>
                </a:cubicBezTo>
                <a:cubicBezTo>
                  <a:pt x="6419" y="13498"/>
                  <a:pt x="6561" y="13643"/>
                  <a:pt x="6722" y="13643"/>
                </a:cubicBezTo>
                <a:cubicBezTo>
                  <a:pt x="6845" y="13618"/>
                  <a:pt x="6886" y="13610"/>
                  <a:pt x="6945" y="13543"/>
                </a:cubicBezTo>
              </a:path>
              <a:path w="3672" h="1762">
                <a:moveTo>
                  <a:pt x="7268" y="13022"/>
                </a:moveTo>
                <a:cubicBezTo>
                  <a:pt x="7175" y="13116"/>
                  <a:pt x="7049" y="13195"/>
                  <a:pt x="7069" y="13345"/>
                </a:cubicBezTo>
                <a:cubicBezTo>
                  <a:pt x="7085" y="13461"/>
                  <a:pt x="7178" y="13599"/>
                  <a:pt x="7293" y="13643"/>
                </a:cubicBezTo>
                <a:cubicBezTo>
                  <a:pt x="7393" y="13681"/>
                  <a:pt x="7435" y="13623"/>
                  <a:pt x="7466" y="13543"/>
                </a:cubicBezTo>
                <a:cubicBezTo>
                  <a:pt x="7512" y="13425"/>
                  <a:pt x="7495" y="13291"/>
                  <a:pt x="7466" y="13171"/>
                </a:cubicBezTo>
                <a:cubicBezTo>
                  <a:pt x="7434" y="13040"/>
                  <a:pt x="7408" y="12995"/>
                  <a:pt x="7317" y="12923"/>
                </a:cubicBezTo>
                <a:cubicBezTo>
                  <a:pt x="7196" y="12827"/>
                  <a:pt x="7301" y="12830"/>
                  <a:pt x="7392" y="12799"/>
                </a:cubicBezTo>
              </a:path>
              <a:path w="3672" h="1762">
                <a:moveTo>
                  <a:pt x="7838" y="12799"/>
                </a:moveTo>
                <a:cubicBezTo>
                  <a:pt x="7788" y="12799"/>
                  <a:pt x="7739" y="12799"/>
                  <a:pt x="7689" y="12799"/>
                </a:cubicBezTo>
                <a:cubicBezTo>
                  <a:pt x="7707" y="12924"/>
                  <a:pt x="7777" y="13018"/>
                  <a:pt x="7863" y="13122"/>
                </a:cubicBezTo>
                <a:cubicBezTo>
                  <a:pt x="7956" y="13235"/>
                  <a:pt x="8048" y="13295"/>
                  <a:pt x="8062" y="13444"/>
                </a:cubicBezTo>
                <a:cubicBezTo>
                  <a:pt x="8062" y="13461"/>
                  <a:pt x="8062" y="13477"/>
                  <a:pt x="8062" y="13494"/>
                </a:cubicBezTo>
                <a:cubicBezTo>
                  <a:pt x="7994" y="13535"/>
                  <a:pt x="7889" y="13542"/>
                  <a:pt x="7813" y="13494"/>
                </a:cubicBezTo>
                <a:cubicBezTo>
                  <a:pt x="7705" y="13426"/>
                  <a:pt x="7596" y="13338"/>
                  <a:pt x="7640" y="13196"/>
                </a:cubicBezTo>
                <a:cubicBezTo>
                  <a:pt x="7673" y="13113"/>
                  <a:pt x="7706" y="13031"/>
                  <a:pt x="7739" y="12948"/>
                </a:cubicBezTo>
              </a:path>
              <a:path w="3672" h="1762">
                <a:moveTo>
                  <a:pt x="8037" y="12129"/>
                </a:moveTo>
                <a:cubicBezTo>
                  <a:pt x="8177" y="12110"/>
                  <a:pt x="8174" y="12107"/>
                  <a:pt x="8235" y="12229"/>
                </a:cubicBezTo>
                <a:cubicBezTo>
                  <a:pt x="8270" y="12299"/>
                  <a:pt x="8241" y="12382"/>
                  <a:pt x="8210" y="12452"/>
                </a:cubicBezTo>
                <a:cubicBezTo>
                  <a:pt x="8177" y="12529"/>
                  <a:pt x="8171" y="12622"/>
                  <a:pt x="8210" y="12700"/>
                </a:cubicBezTo>
                <a:cubicBezTo>
                  <a:pt x="8248" y="12777"/>
                  <a:pt x="8386" y="12800"/>
                  <a:pt x="8458" y="12824"/>
                </a:cubicBezTo>
              </a:path>
              <a:path w="3672" h="1762">
                <a:moveTo>
                  <a:pt x="8582" y="13097"/>
                </a:moveTo>
                <a:cubicBezTo>
                  <a:pt x="8678" y="13265"/>
                  <a:pt x="8745" y="13386"/>
                  <a:pt x="8905" y="13494"/>
                </a:cubicBezTo>
                <a:cubicBezTo>
                  <a:pt x="8967" y="13526"/>
                  <a:pt x="8999" y="13534"/>
                  <a:pt x="9054" y="13519"/>
                </a:cubicBezTo>
              </a:path>
              <a:path w="3672" h="1762">
                <a:moveTo>
                  <a:pt x="8880" y="13022"/>
                </a:moveTo>
                <a:cubicBezTo>
                  <a:pt x="8626" y="13267"/>
                  <a:pt x="8395" y="13458"/>
                  <a:pt x="8235" y="13767"/>
                </a:cubicBezTo>
                <a:cubicBezTo>
                  <a:pt x="8191" y="13852"/>
                  <a:pt x="8174" y="13854"/>
                  <a:pt x="8235" y="13866"/>
                </a:cubicBezTo>
              </a:path>
              <a:path w="3672" h="1762">
                <a:moveTo>
                  <a:pt x="9302" y="13097"/>
                </a:moveTo>
                <a:cubicBezTo>
                  <a:pt x="9461" y="13107"/>
                  <a:pt x="9728" y="13097"/>
                  <a:pt x="9897" y="13146"/>
                </a:cubicBezTo>
              </a:path>
              <a:path w="3672" h="1762">
                <a:moveTo>
                  <a:pt x="9525" y="13469"/>
                </a:moveTo>
                <a:cubicBezTo>
                  <a:pt x="9708" y="13502"/>
                  <a:pt x="9838" y="13503"/>
                  <a:pt x="10021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8"/>
          <p:cNvSpPr/>
          <p:nvPr/>
        </p:nvSpPr>
        <p:spPr>
          <a:xfrm>
            <a:off x="3894120" y="4554360"/>
            <a:ext cx="1133640" cy="581040"/>
          </a:xfrm>
          <a:custGeom>
            <a:avLst/>
            <a:gdLst/>
            <a:ahLst/>
            <a:rect l="l" t="t" r="r" b="b"/>
            <a:pathLst>
              <a:path w="3151" h="1614">
                <a:moveTo>
                  <a:pt x="10840" y="12725"/>
                </a:moveTo>
                <a:cubicBezTo>
                  <a:pt x="10818" y="12910"/>
                  <a:pt x="10815" y="13084"/>
                  <a:pt x="10815" y="13271"/>
                </a:cubicBezTo>
                <a:cubicBezTo>
                  <a:pt x="10815" y="13461"/>
                  <a:pt x="10815" y="13651"/>
                  <a:pt x="10815" y="13841"/>
                </a:cubicBezTo>
              </a:path>
              <a:path w="3151" h="1614">
                <a:moveTo>
                  <a:pt x="11038" y="13320"/>
                </a:moveTo>
                <a:cubicBezTo>
                  <a:pt x="11186" y="13292"/>
                  <a:pt x="11309" y="13271"/>
                  <a:pt x="11460" y="13271"/>
                </a:cubicBezTo>
              </a:path>
              <a:path w="3151" h="1614">
                <a:moveTo>
                  <a:pt x="11733" y="13072"/>
                </a:moveTo>
                <a:cubicBezTo>
                  <a:pt x="11572" y="13090"/>
                  <a:pt x="11542" y="13052"/>
                  <a:pt x="11485" y="13122"/>
                </a:cubicBezTo>
                <a:cubicBezTo>
                  <a:pt x="11530" y="13241"/>
                  <a:pt x="11588" y="13362"/>
                  <a:pt x="11658" y="13469"/>
                </a:cubicBezTo>
                <a:cubicBezTo>
                  <a:pt x="11738" y="13590"/>
                  <a:pt x="11800" y="13669"/>
                  <a:pt x="11807" y="13816"/>
                </a:cubicBezTo>
                <a:cubicBezTo>
                  <a:pt x="11807" y="13833"/>
                  <a:pt x="11807" y="13849"/>
                  <a:pt x="11807" y="13866"/>
                </a:cubicBezTo>
                <a:cubicBezTo>
                  <a:pt x="11645" y="13852"/>
                  <a:pt x="11610" y="13864"/>
                  <a:pt x="11559" y="13717"/>
                </a:cubicBezTo>
                <a:cubicBezTo>
                  <a:pt x="11532" y="13636"/>
                  <a:pt x="11523" y="13604"/>
                  <a:pt x="11534" y="13543"/>
                </a:cubicBezTo>
              </a:path>
              <a:path w="3151" h="1614">
                <a:moveTo>
                  <a:pt x="12005" y="13271"/>
                </a:moveTo>
                <a:cubicBezTo>
                  <a:pt x="12005" y="13461"/>
                  <a:pt x="11998" y="13655"/>
                  <a:pt x="12030" y="13841"/>
                </a:cubicBezTo>
                <a:cubicBezTo>
                  <a:pt x="12030" y="13824"/>
                  <a:pt x="12030" y="13808"/>
                  <a:pt x="12030" y="13791"/>
                </a:cubicBezTo>
              </a:path>
              <a:path w="3151" h="1614">
                <a:moveTo>
                  <a:pt x="12080" y="12824"/>
                </a:moveTo>
                <a:cubicBezTo>
                  <a:pt x="12159" y="12794"/>
                  <a:pt x="12170" y="12790"/>
                  <a:pt x="12229" y="12849"/>
                </a:cubicBezTo>
              </a:path>
              <a:path w="3151" h="1614">
                <a:moveTo>
                  <a:pt x="12353" y="13643"/>
                </a:moveTo>
                <a:cubicBezTo>
                  <a:pt x="12353" y="13770"/>
                  <a:pt x="12385" y="13795"/>
                  <a:pt x="12328" y="13841"/>
                </a:cubicBezTo>
                <a:cubicBezTo>
                  <a:pt x="12328" y="13718"/>
                  <a:pt x="12320" y="13613"/>
                  <a:pt x="12328" y="13494"/>
                </a:cubicBezTo>
                <a:cubicBezTo>
                  <a:pt x="12333" y="13417"/>
                  <a:pt x="12340" y="13259"/>
                  <a:pt x="12452" y="13246"/>
                </a:cubicBezTo>
                <a:cubicBezTo>
                  <a:pt x="12576" y="13232"/>
                  <a:pt x="12634" y="13389"/>
                  <a:pt x="12675" y="13469"/>
                </a:cubicBezTo>
                <a:cubicBezTo>
                  <a:pt x="12744" y="13602"/>
                  <a:pt x="12758" y="13744"/>
                  <a:pt x="12774" y="13891"/>
                </a:cubicBezTo>
                <a:cubicBezTo>
                  <a:pt x="12774" y="13935"/>
                  <a:pt x="12777" y="13955"/>
                  <a:pt x="12750" y="13915"/>
                </a:cubicBezTo>
              </a:path>
              <a:path w="3151" h="1614">
                <a:moveTo>
                  <a:pt x="12774" y="12650"/>
                </a:moveTo>
                <a:cubicBezTo>
                  <a:pt x="12917" y="12688"/>
                  <a:pt x="13051" y="12704"/>
                  <a:pt x="13122" y="12824"/>
                </a:cubicBezTo>
                <a:cubicBezTo>
                  <a:pt x="13177" y="12916"/>
                  <a:pt x="13088" y="12972"/>
                  <a:pt x="13022" y="13022"/>
                </a:cubicBezTo>
                <a:cubicBezTo>
                  <a:pt x="12909" y="13109"/>
                  <a:pt x="12844" y="13103"/>
                  <a:pt x="12898" y="13246"/>
                </a:cubicBezTo>
                <a:cubicBezTo>
                  <a:pt x="12929" y="13329"/>
                  <a:pt x="13021" y="13325"/>
                  <a:pt x="13097" y="13345"/>
                </a:cubicBezTo>
              </a:path>
              <a:path w="3151" h="1614">
                <a:moveTo>
                  <a:pt x="13469" y="13419"/>
                </a:moveTo>
                <a:cubicBezTo>
                  <a:pt x="13523" y="13664"/>
                  <a:pt x="13579" y="13890"/>
                  <a:pt x="13742" y="14089"/>
                </a:cubicBezTo>
                <a:cubicBezTo>
                  <a:pt x="13829" y="14176"/>
                  <a:pt x="13853" y="14195"/>
                  <a:pt x="13891" y="14263"/>
                </a:cubicBezTo>
              </a:path>
              <a:path w="3151" h="1614">
                <a:moveTo>
                  <a:pt x="13965" y="13469"/>
                </a:moveTo>
                <a:cubicBezTo>
                  <a:pt x="13707" y="13590"/>
                  <a:pt x="13602" y="13677"/>
                  <a:pt x="13419" y="13891"/>
                </a:cubicBezTo>
                <a:cubicBezTo>
                  <a:pt x="13320" y="14015"/>
                  <a:pt x="13287" y="14056"/>
                  <a:pt x="13196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9"/>
          <p:cNvSpPr/>
          <p:nvPr/>
        </p:nvSpPr>
        <p:spPr>
          <a:xfrm>
            <a:off x="2554200" y="5180040"/>
            <a:ext cx="2500560" cy="598320"/>
          </a:xfrm>
          <a:custGeom>
            <a:avLst/>
            <a:gdLst/>
            <a:ahLst/>
            <a:rect l="l" t="t" r="r" b="b"/>
            <a:pathLst>
              <a:path w="6946" h="1663">
                <a:moveTo>
                  <a:pt x="7838" y="14858"/>
                </a:moveTo>
                <a:cubicBezTo>
                  <a:pt x="7801" y="14991"/>
                  <a:pt x="7771" y="15183"/>
                  <a:pt x="7689" y="15304"/>
                </a:cubicBezTo>
                <a:cubicBezTo>
                  <a:pt x="7681" y="15185"/>
                  <a:pt x="7653" y="15095"/>
                  <a:pt x="7615" y="14982"/>
                </a:cubicBezTo>
                <a:cubicBezTo>
                  <a:pt x="7595" y="14921"/>
                  <a:pt x="7524" y="14784"/>
                  <a:pt x="7441" y="14784"/>
                </a:cubicBezTo>
                <a:cubicBezTo>
                  <a:pt x="7253" y="14784"/>
                  <a:pt x="7219" y="14866"/>
                  <a:pt x="7144" y="15007"/>
                </a:cubicBezTo>
                <a:cubicBezTo>
                  <a:pt x="7057" y="15170"/>
                  <a:pt x="7105" y="15290"/>
                  <a:pt x="7169" y="15453"/>
                </a:cubicBezTo>
                <a:cubicBezTo>
                  <a:pt x="7224" y="15593"/>
                  <a:pt x="7274" y="15704"/>
                  <a:pt x="7441" y="15726"/>
                </a:cubicBezTo>
                <a:cubicBezTo>
                  <a:pt x="7576" y="15726"/>
                  <a:pt x="7628" y="15723"/>
                  <a:pt x="7714" y="15677"/>
                </a:cubicBezTo>
              </a:path>
              <a:path w="6946" h="1663">
                <a:moveTo>
                  <a:pt x="7863" y="15205"/>
                </a:moveTo>
                <a:cubicBezTo>
                  <a:pt x="7740" y="15430"/>
                  <a:pt x="7622" y="15555"/>
                  <a:pt x="7739" y="15801"/>
                </a:cubicBezTo>
                <a:cubicBezTo>
                  <a:pt x="7789" y="15906"/>
                  <a:pt x="7858" y="15995"/>
                  <a:pt x="7987" y="15974"/>
                </a:cubicBezTo>
                <a:cubicBezTo>
                  <a:pt x="8125" y="15952"/>
                  <a:pt x="8231" y="15815"/>
                  <a:pt x="8235" y="15677"/>
                </a:cubicBezTo>
                <a:cubicBezTo>
                  <a:pt x="8238" y="15554"/>
                  <a:pt x="8195" y="15412"/>
                  <a:pt x="8136" y="15304"/>
                </a:cubicBezTo>
                <a:cubicBezTo>
                  <a:pt x="8075" y="15192"/>
                  <a:pt x="8005" y="15110"/>
                  <a:pt x="7913" y="15032"/>
                </a:cubicBezTo>
                <a:cubicBezTo>
                  <a:pt x="7839" y="14970"/>
                  <a:pt x="8051" y="14960"/>
                  <a:pt x="8062" y="14957"/>
                </a:cubicBezTo>
              </a:path>
              <a:path w="6946" h="1663">
                <a:moveTo>
                  <a:pt x="8434" y="14982"/>
                </a:moveTo>
                <a:cubicBezTo>
                  <a:pt x="8320" y="14993"/>
                  <a:pt x="8311" y="15026"/>
                  <a:pt x="8334" y="15156"/>
                </a:cubicBezTo>
                <a:cubicBezTo>
                  <a:pt x="8361" y="15314"/>
                  <a:pt x="8458" y="15452"/>
                  <a:pt x="8508" y="15602"/>
                </a:cubicBezTo>
                <a:cubicBezTo>
                  <a:pt x="8545" y="15711"/>
                  <a:pt x="8571" y="15850"/>
                  <a:pt x="8409" y="15850"/>
                </a:cubicBezTo>
                <a:cubicBezTo>
                  <a:pt x="8322" y="15850"/>
                  <a:pt x="8188" y="15756"/>
                  <a:pt x="8161" y="15677"/>
                </a:cubicBezTo>
                <a:cubicBezTo>
                  <a:pt x="8136" y="15603"/>
                  <a:pt x="8149" y="15525"/>
                  <a:pt x="8161" y="15453"/>
                </a:cubicBezTo>
              </a:path>
              <a:path w="6946" h="1663">
                <a:moveTo>
                  <a:pt x="8756" y="14387"/>
                </a:moveTo>
                <a:cubicBezTo>
                  <a:pt x="8841" y="14393"/>
                  <a:pt x="8973" y="14380"/>
                  <a:pt x="9004" y="14486"/>
                </a:cubicBezTo>
                <a:cubicBezTo>
                  <a:pt x="9023" y="14550"/>
                  <a:pt x="8944" y="14715"/>
                  <a:pt x="8905" y="14759"/>
                </a:cubicBezTo>
                <a:cubicBezTo>
                  <a:pt x="8861" y="14808"/>
                  <a:pt x="8759" y="14843"/>
                  <a:pt x="8830" y="14932"/>
                </a:cubicBezTo>
                <a:cubicBezTo>
                  <a:pt x="8854" y="14962"/>
                  <a:pt x="8944" y="14969"/>
                  <a:pt x="8979" y="14982"/>
                </a:cubicBezTo>
              </a:path>
              <a:path w="6946" h="1663">
                <a:moveTo>
                  <a:pt x="9153" y="15156"/>
                </a:moveTo>
                <a:cubicBezTo>
                  <a:pt x="9208" y="15384"/>
                  <a:pt x="9286" y="15530"/>
                  <a:pt x="9451" y="15701"/>
                </a:cubicBezTo>
                <a:cubicBezTo>
                  <a:pt x="9513" y="15764"/>
                  <a:pt x="9547" y="15781"/>
                  <a:pt x="9624" y="15751"/>
                </a:cubicBezTo>
              </a:path>
              <a:path w="6946" h="1663">
                <a:moveTo>
                  <a:pt x="9376" y="15131"/>
                </a:moveTo>
                <a:cubicBezTo>
                  <a:pt x="9250" y="15296"/>
                  <a:pt x="9064" y="15462"/>
                  <a:pt x="8954" y="15627"/>
                </a:cubicBezTo>
                <a:cubicBezTo>
                  <a:pt x="8926" y="15669"/>
                  <a:pt x="8863" y="15817"/>
                  <a:pt x="8880" y="15825"/>
                </a:cubicBezTo>
              </a:path>
              <a:path w="6946" h="1663">
                <a:moveTo>
                  <a:pt x="9674" y="15180"/>
                </a:moveTo>
                <a:cubicBezTo>
                  <a:pt x="9776" y="15164"/>
                  <a:pt x="9870" y="15151"/>
                  <a:pt x="9971" y="15131"/>
                </a:cubicBezTo>
              </a:path>
              <a:path w="6946" h="1663">
                <a:moveTo>
                  <a:pt x="9699" y="15429"/>
                </a:moveTo>
                <a:cubicBezTo>
                  <a:pt x="9839" y="15504"/>
                  <a:pt x="9855" y="15493"/>
                  <a:pt x="10021" y="15478"/>
                </a:cubicBezTo>
              </a:path>
              <a:path w="6946" h="1663">
                <a:moveTo>
                  <a:pt x="10666" y="15230"/>
                </a:moveTo>
                <a:cubicBezTo>
                  <a:pt x="10666" y="15365"/>
                  <a:pt x="10684" y="15458"/>
                  <a:pt x="10641" y="15354"/>
                </a:cubicBezTo>
                <a:cubicBezTo>
                  <a:pt x="10641" y="15278"/>
                  <a:pt x="10657" y="15198"/>
                  <a:pt x="10616" y="15131"/>
                </a:cubicBezTo>
                <a:cubicBezTo>
                  <a:pt x="10534" y="14996"/>
                  <a:pt x="10411" y="15248"/>
                  <a:pt x="10393" y="15280"/>
                </a:cubicBezTo>
                <a:cubicBezTo>
                  <a:pt x="10332" y="15387"/>
                  <a:pt x="10305" y="15533"/>
                  <a:pt x="10344" y="15652"/>
                </a:cubicBezTo>
                <a:cubicBezTo>
                  <a:pt x="10383" y="15770"/>
                  <a:pt x="10469" y="15847"/>
                  <a:pt x="10567" y="15900"/>
                </a:cubicBezTo>
              </a:path>
              <a:path w="6946" h="1663">
                <a:moveTo>
                  <a:pt x="10939" y="15131"/>
                </a:moveTo>
                <a:cubicBezTo>
                  <a:pt x="10862" y="15207"/>
                  <a:pt x="10823" y="15292"/>
                  <a:pt x="10815" y="15404"/>
                </a:cubicBezTo>
                <a:cubicBezTo>
                  <a:pt x="10810" y="15473"/>
                  <a:pt x="10805" y="15751"/>
                  <a:pt x="10914" y="15801"/>
                </a:cubicBezTo>
                <a:cubicBezTo>
                  <a:pt x="11026" y="15852"/>
                  <a:pt x="11064" y="15723"/>
                  <a:pt x="11088" y="15652"/>
                </a:cubicBezTo>
                <a:cubicBezTo>
                  <a:pt x="11151" y="15466"/>
                  <a:pt x="11137" y="15381"/>
                  <a:pt x="11088" y="15180"/>
                </a:cubicBezTo>
                <a:cubicBezTo>
                  <a:pt x="11065" y="15087"/>
                  <a:pt x="11006" y="14992"/>
                  <a:pt x="10914" y="14957"/>
                </a:cubicBezTo>
                <a:cubicBezTo>
                  <a:pt x="10906" y="14957"/>
                  <a:pt x="10897" y="14957"/>
                  <a:pt x="10889" y="14957"/>
                </a:cubicBezTo>
              </a:path>
              <a:path w="6946" h="1663">
                <a:moveTo>
                  <a:pt x="11460" y="14982"/>
                </a:moveTo>
                <a:cubicBezTo>
                  <a:pt x="11412" y="14958"/>
                  <a:pt x="11398" y="14950"/>
                  <a:pt x="11361" y="14957"/>
                </a:cubicBezTo>
                <a:cubicBezTo>
                  <a:pt x="11333" y="15028"/>
                  <a:pt x="11392" y="15140"/>
                  <a:pt x="11410" y="15230"/>
                </a:cubicBezTo>
                <a:cubicBezTo>
                  <a:pt x="11453" y="15450"/>
                  <a:pt x="11524" y="15553"/>
                  <a:pt x="11460" y="15776"/>
                </a:cubicBezTo>
                <a:cubicBezTo>
                  <a:pt x="11432" y="15874"/>
                  <a:pt x="11319" y="15905"/>
                  <a:pt x="11237" y="15850"/>
                </a:cubicBezTo>
                <a:cubicBezTo>
                  <a:pt x="11131" y="15778"/>
                  <a:pt x="11163" y="15682"/>
                  <a:pt x="11187" y="15577"/>
                </a:cubicBezTo>
              </a:path>
              <a:path w="6946" h="1663">
                <a:moveTo>
                  <a:pt x="11559" y="14412"/>
                </a:moveTo>
                <a:cubicBezTo>
                  <a:pt x="11702" y="14395"/>
                  <a:pt x="11839" y="14403"/>
                  <a:pt x="11956" y="14511"/>
                </a:cubicBezTo>
                <a:cubicBezTo>
                  <a:pt x="12018" y="14569"/>
                  <a:pt x="12068" y="14721"/>
                  <a:pt x="11981" y="14784"/>
                </a:cubicBezTo>
                <a:cubicBezTo>
                  <a:pt x="11920" y="14828"/>
                  <a:pt x="11761" y="14815"/>
                  <a:pt x="11733" y="14908"/>
                </a:cubicBezTo>
                <a:cubicBezTo>
                  <a:pt x="11706" y="14998"/>
                  <a:pt x="11795" y="15021"/>
                  <a:pt x="11857" y="15056"/>
                </a:cubicBezTo>
              </a:path>
              <a:path w="6946" h="1663">
                <a:moveTo>
                  <a:pt x="12179" y="15205"/>
                </a:moveTo>
                <a:cubicBezTo>
                  <a:pt x="12226" y="15442"/>
                  <a:pt x="12249" y="15646"/>
                  <a:pt x="12427" y="15825"/>
                </a:cubicBezTo>
                <a:cubicBezTo>
                  <a:pt x="12460" y="15850"/>
                  <a:pt x="12493" y="15875"/>
                  <a:pt x="12526" y="15900"/>
                </a:cubicBezTo>
              </a:path>
              <a:path w="6946" h="1663">
                <a:moveTo>
                  <a:pt x="12774" y="15131"/>
                </a:moveTo>
                <a:cubicBezTo>
                  <a:pt x="12580" y="15233"/>
                  <a:pt x="12447" y="15368"/>
                  <a:pt x="12303" y="15528"/>
                </a:cubicBezTo>
                <a:cubicBezTo>
                  <a:pt x="12183" y="15662"/>
                  <a:pt x="12058" y="15801"/>
                  <a:pt x="11956" y="15949"/>
                </a:cubicBezTo>
                <a:cubicBezTo>
                  <a:pt x="11929" y="16003"/>
                  <a:pt x="11917" y="16024"/>
                  <a:pt x="11881" y="16049"/>
                </a:cubicBezTo>
              </a:path>
              <a:path w="6946" h="1663">
                <a:moveTo>
                  <a:pt x="12948" y="15577"/>
                </a:moveTo>
                <a:cubicBezTo>
                  <a:pt x="12966" y="15610"/>
                  <a:pt x="13056" y="15861"/>
                  <a:pt x="13171" y="15801"/>
                </a:cubicBezTo>
                <a:cubicBezTo>
                  <a:pt x="13288" y="15740"/>
                  <a:pt x="13373" y="15574"/>
                  <a:pt x="13469" y="15478"/>
                </a:cubicBezTo>
                <a:cubicBezTo>
                  <a:pt x="13614" y="15333"/>
                  <a:pt x="13741" y="15170"/>
                  <a:pt x="13891" y="15032"/>
                </a:cubicBezTo>
                <a:cubicBezTo>
                  <a:pt x="13940" y="14991"/>
                  <a:pt x="13990" y="14949"/>
                  <a:pt x="14039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20"/>
          <p:cNvSpPr/>
          <p:nvPr/>
        </p:nvSpPr>
        <p:spPr>
          <a:xfrm>
            <a:off x="4500720" y="1544760"/>
            <a:ext cx="3625560" cy="134640"/>
          </a:xfrm>
          <a:custGeom>
            <a:avLst/>
            <a:gdLst/>
            <a:ahLst/>
            <a:rect l="l" t="t" r="r" b="b"/>
            <a:pathLst>
              <a:path w="10071" h="373">
                <a:moveTo>
                  <a:pt x="12502" y="4539"/>
                </a:moveTo>
                <a:cubicBezTo>
                  <a:pt x="12567" y="4554"/>
                  <a:pt x="12635" y="4576"/>
                  <a:pt x="12700" y="4589"/>
                </a:cubicBezTo>
                <a:cubicBezTo>
                  <a:pt x="12781" y="4605"/>
                  <a:pt x="12867" y="4603"/>
                  <a:pt x="12948" y="4614"/>
                </a:cubicBezTo>
                <a:cubicBezTo>
                  <a:pt x="13097" y="4634"/>
                  <a:pt x="13244" y="4628"/>
                  <a:pt x="13395" y="4638"/>
                </a:cubicBezTo>
                <a:cubicBezTo>
                  <a:pt x="13858" y="4668"/>
                  <a:pt x="14320" y="4663"/>
                  <a:pt x="14784" y="4663"/>
                </a:cubicBezTo>
                <a:cubicBezTo>
                  <a:pt x="15116" y="4663"/>
                  <a:pt x="15444" y="4642"/>
                  <a:pt x="15776" y="4638"/>
                </a:cubicBezTo>
                <a:cubicBezTo>
                  <a:pt x="16230" y="4633"/>
                  <a:pt x="16688" y="4599"/>
                  <a:pt x="17140" y="4564"/>
                </a:cubicBezTo>
                <a:cubicBezTo>
                  <a:pt x="17619" y="4527"/>
                  <a:pt x="18099" y="4524"/>
                  <a:pt x="18579" y="4490"/>
                </a:cubicBezTo>
                <a:cubicBezTo>
                  <a:pt x="19133" y="4450"/>
                  <a:pt x="19688" y="4424"/>
                  <a:pt x="20241" y="4390"/>
                </a:cubicBezTo>
                <a:cubicBezTo>
                  <a:pt x="20654" y="4364"/>
                  <a:pt x="21069" y="4392"/>
                  <a:pt x="21481" y="4366"/>
                </a:cubicBezTo>
                <a:cubicBezTo>
                  <a:pt x="21818" y="4344"/>
                  <a:pt x="22166" y="4366"/>
                  <a:pt x="22498" y="4316"/>
                </a:cubicBezTo>
                <a:cubicBezTo>
                  <a:pt x="22538" y="4296"/>
                  <a:pt x="22544" y="4287"/>
                  <a:pt x="22572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21"/>
          <p:cNvSpPr/>
          <p:nvPr/>
        </p:nvSpPr>
        <p:spPr>
          <a:xfrm>
            <a:off x="1204920" y="1562040"/>
            <a:ext cx="2152800" cy="63720"/>
          </a:xfrm>
          <a:custGeom>
            <a:avLst/>
            <a:gdLst/>
            <a:ahLst/>
            <a:rect l="l" t="t" r="r" b="b"/>
            <a:pathLst>
              <a:path w="5979" h="174">
                <a:moveTo>
                  <a:pt x="3349" y="4341"/>
                </a:moveTo>
                <a:cubicBezTo>
                  <a:pt x="3515" y="4367"/>
                  <a:pt x="3676" y="4387"/>
                  <a:pt x="3845" y="4390"/>
                </a:cubicBezTo>
                <a:cubicBezTo>
                  <a:pt x="4045" y="4394"/>
                  <a:pt x="4238" y="4415"/>
                  <a:pt x="4440" y="4415"/>
                </a:cubicBezTo>
                <a:cubicBezTo>
                  <a:pt x="4987" y="4415"/>
                  <a:pt x="5532" y="4427"/>
                  <a:pt x="6077" y="4440"/>
                </a:cubicBezTo>
                <a:cubicBezTo>
                  <a:pt x="6615" y="4453"/>
                  <a:pt x="7152" y="4446"/>
                  <a:pt x="7689" y="4465"/>
                </a:cubicBezTo>
                <a:cubicBezTo>
                  <a:pt x="7996" y="4476"/>
                  <a:pt x="8301" y="4502"/>
                  <a:pt x="8607" y="4514"/>
                </a:cubicBezTo>
                <a:cubicBezTo>
                  <a:pt x="8785" y="4521"/>
                  <a:pt x="9163" y="4586"/>
                  <a:pt x="9327" y="4490"/>
                </a:cubicBezTo>
                <a:cubicBezTo>
                  <a:pt x="9327" y="4473"/>
                  <a:pt x="9327" y="4457"/>
                  <a:pt x="9327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22"/>
          <p:cNvSpPr/>
          <p:nvPr/>
        </p:nvSpPr>
        <p:spPr>
          <a:xfrm>
            <a:off x="3786120" y="3679920"/>
            <a:ext cx="2448000" cy="222120"/>
          </a:xfrm>
          <a:custGeom>
            <a:avLst/>
            <a:gdLst/>
            <a:ahLst/>
            <a:rect l="l" t="t" r="r" b="b"/>
            <a:pathLst>
              <a:path w="6798" h="621">
                <a:moveTo>
                  <a:pt x="10517" y="10244"/>
                </a:moveTo>
                <a:cubicBezTo>
                  <a:pt x="10671" y="10244"/>
                  <a:pt x="10814" y="10226"/>
                  <a:pt x="10964" y="10220"/>
                </a:cubicBezTo>
                <a:cubicBezTo>
                  <a:pt x="11488" y="10200"/>
                  <a:pt x="12005" y="10251"/>
                  <a:pt x="12526" y="10269"/>
                </a:cubicBezTo>
                <a:cubicBezTo>
                  <a:pt x="13018" y="10286"/>
                  <a:pt x="13501" y="10333"/>
                  <a:pt x="13990" y="10393"/>
                </a:cubicBezTo>
                <a:cubicBezTo>
                  <a:pt x="14521" y="10458"/>
                  <a:pt x="15047" y="10550"/>
                  <a:pt x="15577" y="10616"/>
                </a:cubicBezTo>
                <a:cubicBezTo>
                  <a:pt x="16002" y="10669"/>
                  <a:pt x="16418" y="10761"/>
                  <a:pt x="16842" y="10815"/>
                </a:cubicBezTo>
                <a:cubicBezTo>
                  <a:pt x="17003" y="10836"/>
                  <a:pt x="17152" y="10840"/>
                  <a:pt x="17314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3"/>
          <p:cNvSpPr/>
          <p:nvPr/>
        </p:nvSpPr>
        <p:spPr>
          <a:xfrm>
            <a:off x="6269040" y="3821040"/>
            <a:ext cx="17640" cy="36720"/>
          </a:xfrm>
          <a:custGeom>
            <a:avLst/>
            <a:gdLst/>
            <a:ahLst/>
            <a:rect l="l" t="t" r="r" b="b"/>
            <a:pathLst>
              <a:path w="50" h="101">
                <a:moveTo>
                  <a:pt x="17462" y="10716"/>
                </a:moveTo>
                <a:cubicBezTo>
                  <a:pt x="17446" y="10683"/>
                  <a:pt x="17429" y="10649"/>
                  <a:pt x="17413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Ink 5"/>
          <p:cNvSpPr/>
          <p:nvPr/>
        </p:nvSpPr>
        <p:spPr>
          <a:xfrm>
            <a:off x="7035840" y="3170160"/>
            <a:ext cx="1849320" cy="554040"/>
          </a:xfrm>
          <a:custGeom>
            <a:avLst/>
            <a:gdLst/>
            <a:ahLst/>
            <a:rect l="l" t="t" r="r" b="b"/>
            <a:pathLst>
              <a:path w="5136" h="1539">
                <a:moveTo>
                  <a:pt x="19546" y="10344"/>
                </a:moveTo>
                <a:cubicBezTo>
                  <a:pt x="19599" y="10312"/>
                  <a:pt x="19661" y="10305"/>
                  <a:pt x="19720" y="10269"/>
                </a:cubicBezTo>
                <a:cubicBezTo>
                  <a:pt x="19832" y="10201"/>
                  <a:pt x="19946" y="10145"/>
                  <a:pt x="20067" y="10096"/>
                </a:cubicBezTo>
                <a:cubicBezTo>
                  <a:pt x="20181" y="10050"/>
                  <a:pt x="20299" y="10016"/>
                  <a:pt x="20414" y="9971"/>
                </a:cubicBezTo>
                <a:cubicBezTo>
                  <a:pt x="20502" y="9936"/>
                  <a:pt x="20609" y="9942"/>
                  <a:pt x="20687" y="9897"/>
                </a:cubicBezTo>
                <a:cubicBezTo>
                  <a:pt x="20695" y="9889"/>
                  <a:pt x="20704" y="9880"/>
                  <a:pt x="20712" y="9872"/>
                </a:cubicBezTo>
              </a:path>
              <a:path w="5136" h="1539">
                <a:moveTo>
                  <a:pt x="20166" y="9674"/>
                </a:moveTo>
                <a:cubicBezTo>
                  <a:pt x="20276" y="9595"/>
                  <a:pt x="20321" y="9605"/>
                  <a:pt x="20439" y="9575"/>
                </a:cubicBezTo>
                <a:cubicBezTo>
                  <a:pt x="20530" y="9552"/>
                  <a:pt x="20615" y="9550"/>
                  <a:pt x="20712" y="9550"/>
                </a:cubicBezTo>
                <a:cubicBezTo>
                  <a:pt x="20789" y="9550"/>
                  <a:pt x="20822" y="9581"/>
                  <a:pt x="20836" y="9649"/>
                </a:cubicBezTo>
                <a:cubicBezTo>
                  <a:pt x="20847" y="9705"/>
                  <a:pt x="20826" y="9797"/>
                  <a:pt x="20811" y="9847"/>
                </a:cubicBezTo>
                <a:cubicBezTo>
                  <a:pt x="20788" y="9922"/>
                  <a:pt x="20726" y="10008"/>
                  <a:pt x="20687" y="10071"/>
                </a:cubicBezTo>
                <a:cubicBezTo>
                  <a:pt x="20673" y="10094"/>
                  <a:pt x="20662" y="10178"/>
                  <a:pt x="20662" y="10120"/>
                </a:cubicBezTo>
              </a:path>
              <a:path w="5136" h="1539">
                <a:moveTo>
                  <a:pt x="21406" y="9451"/>
                </a:moveTo>
                <a:cubicBezTo>
                  <a:pt x="21375" y="9435"/>
                  <a:pt x="21359" y="9410"/>
                  <a:pt x="21332" y="9376"/>
                </a:cubicBezTo>
                <a:cubicBezTo>
                  <a:pt x="21235" y="9425"/>
                  <a:pt x="21241" y="9422"/>
                  <a:pt x="21208" y="9525"/>
                </a:cubicBezTo>
                <a:cubicBezTo>
                  <a:pt x="21187" y="9588"/>
                  <a:pt x="21158" y="9704"/>
                  <a:pt x="21183" y="9773"/>
                </a:cubicBezTo>
                <a:cubicBezTo>
                  <a:pt x="21223" y="9884"/>
                  <a:pt x="21270" y="9953"/>
                  <a:pt x="21382" y="9971"/>
                </a:cubicBezTo>
                <a:cubicBezTo>
                  <a:pt x="21431" y="9971"/>
                  <a:pt x="21448" y="9971"/>
                  <a:pt x="21481" y="9971"/>
                </a:cubicBezTo>
              </a:path>
              <a:path w="5136" h="1539">
                <a:moveTo>
                  <a:pt x="21779" y="9451"/>
                </a:moveTo>
                <a:cubicBezTo>
                  <a:pt x="21732" y="9515"/>
                  <a:pt x="21627" y="9628"/>
                  <a:pt x="21654" y="9723"/>
                </a:cubicBezTo>
                <a:cubicBezTo>
                  <a:pt x="21678" y="9805"/>
                  <a:pt x="21716" y="9833"/>
                  <a:pt x="21779" y="9872"/>
                </a:cubicBezTo>
                <a:cubicBezTo>
                  <a:pt x="21863" y="9925"/>
                  <a:pt x="21946" y="9834"/>
                  <a:pt x="22002" y="9773"/>
                </a:cubicBezTo>
                <a:cubicBezTo>
                  <a:pt x="22060" y="9711"/>
                  <a:pt x="22051" y="9657"/>
                  <a:pt x="22051" y="9575"/>
                </a:cubicBezTo>
                <a:cubicBezTo>
                  <a:pt x="22051" y="9471"/>
                  <a:pt x="22011" y="9435"/>
                  <a:pt x="21927" y="9376"/>
                </a:cubicBezTo>
                <a:cubicBezTo>
                  <a:pt x="21873" y="9338"/>
                  <a:pt x="21802" y="9338"/>
                  <a:pt x="21754" y="9376"/>
                </a:cubicBezTo>
                <a:cubicBezTo>
                  <a:pt x="21679" y="9436"/>
                  <a:pt x="21758" y="9511"/>
                  <a:pt x="21803" y="9550"/>
                </a:cubicBezTo>
              </a:path>
              <a:path w="5136" h="1539">
                <a:moveTo>
                  <a:pt x="22175" y="9475"/>
                </a:moveTo>
                <a:cubicBezTo>
                  <a:pt x="22175" y="9591"/>
                  <a:pt x="22150" y="9666"/>
                  <a:pt x="22200" y="9748"/>
                </a:cubicBezTo>
                <a:cubicBezTo>
                  <a:pt x="22200" y="9640"/>
                  <a:pt x="22174" y="9496"/>
                  <a:pt x="22225" y="9401"/>
                </a:cubicBezTo>
                <a:cubicBezTo>
                  <a:pt x="22259" y="9337"/>
                  <a:pt x="22319" y="9342"/>
                  <a:pt x="22374" y="9376"/>
                </a:cubicBezTo>
                <a:cubicBezTo>
                  <a:pt x="22428" y="9409"/>
                  <a:pt x="22427" y="9499"/>
                  <a:pt x="22448" y="9550"/>
                </a:cubicBezTo>
                <a:cubicBezTo>
                  <a:pt x="22470" y="9605"/>
                  <a:pt x="22474" y="9651"/>
                  <a:pt x="22498" y="9699"/>
                </a:cubicBezTo>
                <a:cubicBezTo>
                  <a:pt x="22498" y="9627"/>
                  <a:pt x="22498" y="9538"/>
                  <a:pt x="22523" y="9475"/>
                </a:cubicBezTo>
                <a:cubicBezTo>
                  <a:pt x="22538" y="9436"/>
                  <a:pt x="22549" y="9365"/>
                  <a:pt x="22572" y="9327"/>
                </a:cubicBezTo>
                <a:cubicBezTo>
                  <a:pt x="22610" y="9264"/>
                  <a:pt x="22667" y="9262"/>
                  <a:pt x="22721" y="9302"/>
                </a:cubicBezTo>
                <a:cubicBezTo>
                  <a:pt x="22772" y="9339"/>
                  <a:pt x="22775" y="9422"/>
                  <a:pt x="22796" y="9475"/>
                </a:cubicBezTo>
                <a:cubicBezTo>
                  <a:pt x="22806" y="9501"/>
                  <a:pt x="22862" y="9649"/>
                  <a:pt x="22895" y="9649"/>
                </a:cubicBezTo>
                <a:cubicBezTo>
                  <a:pt x="22895" y="9641"/>
                  <a:pt x="22895" y="9632"/>
                  <a:pt x="22895" y="9624"/>
                </a:cubicBezTo>
              </a:path>
              <a:path w="5136" h="1539">
                <a:moveTo>
                  <a:pt x="23068" y="9401"/>
                </a:moveTo>
                <a:cubicBezTo>
                  <a:pt x="23084" y="9464"/>
                  <a:pt x="23092" y="9523"/>
                  <a:pt x="23118" y="9575"/>
                </a:cubicBezTo>
                <a:cubicBezTo>
                  <a:pt x="23118" y="9482"/>
                  <a:pt x="23129" y="9412"/>
                  <a:pt x="23143" y="9327"/>
                </a:cubicBezTo>
                <a:cubicBezTo>
                  <a:pt x="23153" y="9266"/>
                  <a:pt x="23149" y="9271"/>
                  <a:pt x="23192" y="9227"/>
                </a:cubicBezTo>
                <a:cubicBezTo>
                  <a:pt x="23273" y="9290"/>
                  <a:pt x="23327" y="9356"/>
                  <a:pt x="23341" y="9451"/>
                </a:cubicBezTo>
                <a:cubicBezTo>
                  <a:pt x="23341" y="9476"/>
                  <a:pt x="23341" y="9500"/>
                  <a:pt x="23341" y="9525"/>
                </a:cubicBezTo>
                <a:cubicBezTo>
                  <a:pt x="23375" y="9436"/>
                  <a:pt x="23347" y="9370"/>
                  <a:pt x="23366" y="9277"/>
                </a:cubicBezTo>
                <a:cubicBezTo>
                  <a:pt x="23382" y="9200"/>
                  <a:pt x="23413" y="9141"/>
                  <a:pt x="23465" y="9079"/>
                </a:cubicBezTo>
                <a:cubicBezTo>
                  <a:pt x="23544" y="9134"/>
                  <a:pt x="23527" y="9168"/>
                  <a:pt x="23564" y="9252"/>
                </a:cubicBezTo>
                <a:cubicBezTo>
                  <a:pt x="23593" y="9317"/>
                  <a:pt x="23652" y="9344"/>
                  <a:pt x="23688" y="9401"/>
                </a:cubicBezTo>
                <a:cubicBezTo>
                  <a:pt x="23712" y="9449"/>
                  <a:pt x="23718" y="9466"/>
                  <a:pt x="23763" y="9451"/>
                </a:cubicBezTo>
              </a:path>
              <a:path w="5136" h="1539">
                <a:moveTo>
                  <a:pt x="23862" y="9004"/>
                </a:moveTo>
                <a:cubicBezTo>
                  <a:pt x="23821" y="9085"/>
                  <a:pt x="23768" y="9162"/>
                  <a:pt x="23763" y="9252"/>
                </a:cubicBezTo>
                <a:cubicBezTo>
                  <a:pt x="23760" y="9313"/>
                  <a:pt x="23797" y="9388"/>
                  <a:pt x="23862" y="9401"/>
                </a:cubicBezTo>
                <a:cubicBezTo>
                  <a:pt x="23932" y="9415"/>
                  <a:pt x="23994" y="9408"/>
                  <a:pt x="24036" y="9351"/>
                </a:cubicBezTo>
                <a:cubicBezTo>
                  <a:pt x="24084" y="9285"/>
                  <a:pt x="24108" y="9187"/>
                  <a:pt x="24085" y="9103"/>
                </a:cubicBezTo>
                <a:cubicBezTo>
                  <a:pt x="24072" y="9055"/>
                  <a:pt x="23987" y="8991"/>
                  <a:pt x="23937" y="8979"/>
                </a:cubicBezTo>
                <a:cubicBezTo>
                  <a:pt x="23892" y="8979"/>
                  <a:pt x="23879" y="8982"/>
                  <a:pt x="23862" y="8954"/>
                </a:cubicBezTo>
              </a:path>
              <a:path w="5136" h="1539">
                <a:moveTo>
                  <a:pt x="24185" y="9203"/>
                </a:moveTo>
                <a:cubicBezTo>
                  <a:pt x="24165" y="9304"/>
                  <a:pt x="24146" y="9324"/>
                  <a:pt x="24185" y="9376"/>
                </a:cubicBezTo>
                <a:cubicBezTo>
                  <a:pt x="24213" y="9300"/>
                  <a:pt x="24230" y="9235"/>
                  <a:pt x="24234" y="9153"/>
                </a:cubicBezTo>
                <a:cubicBezTo>
                  <a:pt x="24239" y="9048"/>
                  <a:pt x="24242" y="8953"/>
                  <a:pt x="24259" y="8855"/>
                </a:cubicBezTo>
                <a:cubicBezTo>
                  <a:pt x="24259" y="8839"/>
                  <a:pt x="24259" y="8822"/>
                  <a:pt x="24259" y="8806"/>
                </a:cubicBezTo>
                <a:cubicBezTo>
                  <a:pt x="24331" y="8846"/>
                  <a:pt x="24351" y="8894"/>
                  <a:pt x="24408" y="8954"/>
                </a:cubicBezTo>
                <a:cubicBezTo>
                  <a:pt x="24474" y="9024"/>
                  <a:pt x="24514" y="9107"/>
                  <a:pt x="24581" y="9178"/>
                </a:cubicBezTo>
                <a:cubicBezTo>
                  <a:pt x="24636" y="9236"/>
                  <a:pt x="24665" y="9299"/>
                  <a:pt x="24681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6"/>
          <p:cNvSpPr/>
          <p:nvPr/>
        </p:nvSpPr>
        <p:spPr>
          <a:xfrm>
            <a:off x="7697880" y="3517920"/>
            <a:ext cx="1438200" cy="635040"/>
          </a:xfrm>
          <a:custGeom>
            <a:avLst/>
            <a:gdLst/>
            <a:ahLst/>
            <a:rect l="l" t="t" r="r" b="b"/>
            <a:pathLst>
              <a:path w="3994" h="1762">
                <a:moveTo>
                  <a:pt x="21903" y="11112"/>
                </a:moveTo>
                <a:cubicBezTo>
                  <a:pt x="21871" y="11050"/>
                  <a:pt x="21884" y="10983"/>
                  <a:pt x="21853" y="10914"/>
                </a:cubicBezTo>
                <a:cubicBezTo>
                  <a:pt x="21812" y="10823"/>
                  <a:pt x="21754" y="10794"/>
                  <a:pt x="21654" y="10815"/>
                </a:cubicBezTo>
                <a:cubicBezTo>
                  <a:pt x="21563" y="10834"/>
                  <a:pt x="21485" y="10889"/>
                  <a:pt x="21431" y="10964"/>
                </a:cubicBezTo>
                <a:cubicBezTo>
                  <a:pt x="21378" y="11036"/>
                  <a:pt x="21371" y="11126"/>
                  <a:pt x="21382" y="11212"/>
                </a:cubicBezTo>
                <a:cubicBezTo>
                  <a:pt x="21397" y="11330"/>
                  <a:pt x="21431" y="11414"/>
                  <a:pt x="21530" y="11485"/>
                </a:cubicBezTo>
                <a:cubicBezTo>
                  <a:pt x="21572" y="11515"/>
                  <a:pt x="21676" y="11563"/>
                  <a:pt x="21729" y="11534"/>
                </a:cubicBezTo>
                <a:cubicBezTo>
                  <a:pt x="21824" y="11482"/>
                  <a:pt x="21839" y="11403"/>
                  <a:pt x="21853" y="11311"/>
                </a:cubicBezTo>
                <a:cubicBezTo>
                  <a:pt x="21861" y="11261"/>
                  <a:pt x="21870" y="11212"/>
                  <a:pt x="21878" y="11162"/>
                </a:cubicBezTo>
              </a:path>
              <a:path w="3994" h="1762">
                <a:moveTo>
                  <a:pt x="21828" y="10889"/>
                </a:moveTo>
                <a:cubicBezTo>
                  <a:pt x="21801" y="10752"/>
                  <a:pt x="21770" y="10624"/>
                  <a:pt x="21754" y="10492"/>
                </a:cubicBezTo>
                <a:cubicBezTo>
                  <a:pt x="21782" y="10603"/>
                  <a:pt x="21799" y="10726"/>
                  <a:pt x="21803" y="10840"/>
                </a:cubicBezTo>
                <a:cubicBezTo>
                  <a:pt x="21807" y="10958"/>
                  <a:pt x="21828" y="11067"/>
                  <a:pt x="21828" y="11187"/>
                </a:cubicBezTo>
                <a:cubicBezTo>
                  <a:pt x="21828" y="11268"/>
                  <a:pt x="21841" y="11336"/>
                  <a:pt x="21853" y="11410"/>
                </a:cubicBezTo>
                <a:cubicBezTo>
                  <a:pt x="21864" y="11481"/>
                  <a:pt x="21919" y="11481"/>
                  <a:pt x="21977" y="11435"/>
                </a:cubicBezTo>
                <a:cubicBezTo>
                  <a:pt x="22094" y="11341"/>
                  <a:pt x="22164" y="11244"/>
                  <a:pt x="22225" y="11112"/>
                </a:cubicBezTo>
                <a:cubicBezTo>
                  <a:pt x="22247" y="11066"/>
                  <a:pt x="22273" y="10967"/>
                  <a:pt x="22250" y="10914"/>
                </a:cubicBezTo>
                <a:cubicBezTo>
                  <a:pt x="22233" y="10889"/>
                  <a:pt x="22217" y="10865"/>
                  <a:pt x="22200" y="10840"/>
                </a:cubicBezTo>
                <a:cubicBezTo>
                  <a:pt x="22110" y="10851"/>
                  <a:pt x="22049" y="10888"/>
                  <a:pt x="22027" y="10988"/>
                </a:cubicBezTo>
                <a:cubicBezTo>
                  <a:pt x="22006" y="11087"/>
                  <a:pt x="22025" y="11199"/>
                  <a:pt x="22076" y="11286"/>
                </a:cubicBezTo>
                <a:cubicBezTo>
                  <a:pt x="22121" y="11363"/>
                  <a:pt x="22158" y="11456"/>
                  <a:pt x="22225" y="11509"/>
                </a:cubicBezTo>
                <a:cubicBezTo>
                  <a:pt x="22282" y="11537"/>
                  <a:pt x="22305" y="11543"/>
                  <a:pt x="22349" y="11509"/>
                </a:cubicBezTo>
              </a:path>
              <a:path w="3994" h="1762">
                <a:moveTo>
                  <a:pt x="22374" y="10889"/>
                </a:moveTo>
                <a:cubicBezTo>
                  <a:pt x="22374" y="11011"/>
                  <a:pt x="22364" y="11082"/>
                  <a:pt x="22399" y="11187"/>
                </a:cubicBezTo>
                <a:cubicBezTo>
                  <a:pt x="22399" y="11330"/>
                  <a:pt x="22399" y="11088"/>
                  <a:pt x="22399" y="11063"/>
                </a:cubicBezTo>
                <a:cubicBezTo>
                  <a:pt x="22399" y="10951"/>
                  <a:pt x="22384" y="10823"/>
                  <a:pt x="22423" y="10716"/>
                </a:cubicBezTo>
                <a:cubicBezTo>
                  <a:pt x="22435" y="10684"/>
                  <a:pt x="22499" y="10640"/>
                  <a:pt x="22523" y="10616"/>
                </a:cubicBezTo>
                <a:cubicBezTo>
                  <a:pt x="22614" y="10669"/>
                  <a:pt x="22584" y="10692"/>
                  <a:pt x="22622" y="10790"/>
                </a:cubicBezTo>
                <a:cubicBezTo>
                  <a:pt x="22664" y="10900"/>
                  <a:pt x="22718" y="11006"/>
                  <a:pt x="22771" y="11112"/>
                </a:cubicBezTo>
                <a:cubicBezTo>
                  <a:pt x="22793" y="11156"/>
                  <a:pt x="22796" y="11167"/>
                  <a:pt x="22820" y="11187"/>
                </a:cubicBezTo>
              </a:path>
              <a:path w="3994" h="1762">
                <a:moveTo>
                  <a:pt x="22870" y="10641"/>
                </a:moveTo>
                <a:cubicBezTo>
                  <a:pt x="22810" y="10762"/>
                  <a:pt x="22772" y="10854"/>
                  <a:pt x="22820" y="10988"/>
                </a:cubicBezTo>
                <a:cubicBezTo>
                  <a:pt x="22838" y="11039"/>
                  <a:pt x="22888" y="11099"/>
                  <a:pt x="22944" y="11112"/>
                </a:cubicBezTo>
                <a:cubicBezTo>
                  <a:pt x="22984" y="11121"/>
                  <a:pt x="23115" y="11127"/>
                  <a:pt x="23143" y="11088"/>
                </a:cubicBezTo>
                <a:cubicBezTo>
                  <a:pt x="23191" y="11022"/>
                  <a:pt x="23192" y="10918"/>
                  <a:pt x="23192" y="10840"/>
                </a:cubicBezTo>
                <a:cubicBezTo>
                  <a:pt x="23192" y="10742"/>
                  <a:pt x="23161" y="10678"/>
                  <a:pt x="23118" y="10592"/>
                </a:cubicBezTo>
                <a:cubicBezTo>
                  <a:pt x="23083" y="10522"/>
                  <a:pt x="23039" y="10502"/>
                  <a:pt x="22969" y="10492"/>
                </a:cubicBezTo>
                <a:cubicBezTo>
                  <a:pt x="22903" y="10575"/>
                  <a:pt x="22895" y="10638"/>
                  <a:pt x="22920" y="10740"/>
                </a:cubicBezTo>
                <a:cubicBezTo>
                  <a:pt x="22946" y="10848"/>
                  <a:pt x="22989" y="10925"/>
                  <a:pt x="23044" y="11013"/>
                </a:cubicBezTo>
                <a:cubicBezTo>
                  <a:pt x="23078" y="11068"/>
                  <a:pt x="23079" y="11075"/>
                  <a:pt x="23143" y="11088"/>
                </a:cubicBezTo>
              </a:path>
              <a:path w="3994" h="1762">
                <a:moveTo>
                  <a:pt x="23292" y="10740"/>
                </a:moveTo>
                <a:cubicBezTo>
                  <a:pt x="23297" y="10838"/>
                  <a:pt x="23293" y="10933"/>
                  <a:pt x="23341" y="11013"/>
                </a:cubicBezTo>
                <a:cubicBezTo>
                  <a:pt x="23341" y="10938"/>
                  <a:pt x="23306" y="10862"/>
                  <a:pt x="23316" y="10790"/>
                </a:cubicBezTo>
                <a:cubicBezTo>
                  <a:pt x="23329" y="10693"/>
                  <a:pt x="23351" y="10606"/>
                  <a:pt x="23391" y="10517"/>
                </a:cubicBezTo>
                <a:cubicBezTo>
                  <a:pt x="23446" y="10525"/>
                  <a:pt x="23481" y="10540"/>
                  <a:pt x="23515" y="10592"/>
                </a:cubicBezTo>
                <a:cubicBezTo>
                  <a:pt x="23562" y="10664"/>
                  <a:pt x="23565" y="10740"/>
                  <a:pt x="23589" y="10815"/>
                </a:cubicBezTo>
                <a:cubicBezTo>
                  <a:pt x="23608" y="10873"/>
                  <a:pt x="23639" y="10932"/>
                  <a:pt x="23664" y="10988"/>
                </a:cubicBezTo>
                <a:cubicBezTo>
                  <a:pt x="23673" y="10912"/>
                  <a:pt x="23704" y="10842"/>
                  <a:pt x="23713" y="10765"/>
                </a:cubicBezTo>
                <a:cubicBezTo>
                  <a:pt x="23725" y="10659"/>
                  <a:pt x="23739" y="10503"/>
                  <a:pt x="23688" y="10418"/>
                </a:cubicBezTo>
                <a:cubicBezTo>
                  <a:pt x="23688" y="10491"/>
                  <a:pt x="23691" y="10573"/>
                  <a:pt x="23713" y="10641"/>
                </a:cubicBezTo>
                <a:cubicBezTo>
                  <a:pt x="23744" y="10739"/>
                  <a:pt x="23832" y="10809"/>
                  <a:pt x="23887" y="10889"/>
                </a:cubicBezTo>
                <a:cubicBezTo>
                  <a:pt x="23951" y="10983"/>
                  <a:pt x="23972" y="11013"/>
                  <a:pt x="24085" y="10988"/>
                </a:cubicBezTo>
              </a:path>
              <a:path w="3994" h="1762">
                <a:moveTo>
                  <a:pt x="24085" y="10517"/>
                </a:moveTo>
                <a:cubicBezTo>
                  <a:pt x="24108" y="10609"/>
                  <a:pt x="24101" y="10701"/>
                  <a:pt x="24135" y="10790"/>
                </a:cubicBezTo>
                <a:cubicBezTo>
                  <a:pt x="24158" y="10849"/>
                  <a:pt x="24177" y="10877"/>
                  <a:pt x="24185" y="10939"/>
                </a:cubicBezTo>
                <a:cubicBezTo>
                  <a:pt x="24185" y="10889"/>
                  <a:pt x="24185" y="10873"/>
                  <a:pt x="24185" y="10840"/>
                </a:cubicBezTo>
              </a:path>
              <a:path w="3994" h="1762">
                <a:moveTo>
                  <a:pt x="24061" y="10170"/>
                </a:moveTo>
                <a:cubicBezTo>
                  <a:pt x="24104" y="10125"/>
                  <a:pt x="24110" y="10096"/>
                  <a:pt x="24160" y="10120"/>
                </a:cubicBezTo>
              </a:path>
              <a:path w="3994" h="1762">
                <a:moveTo>
                  <a:pt x="24259" y="10468"/>
                </a:moveTo>
                <a:cubicBezTo>
                  <a:pt x="24282" y="10582"/>
                  <a:pt x="24304" y="10680"/>
                  <a:pt x="24333" y="10790"/>
                </a:cubicBezTo>
                <a:cubicBezTo>
                  <a:pt x="24333" y="10698"/>
                  <a:pt x="24321" y="10630"/>
                  <a:pt x="24309" y="10542"/>
                </a:cubicBezTo>
                <a:cubicBezTo>
                  <a:pt x="24298" y="10465"/>
                  <a:pt x="24264" y="10151"/>
                  <a:pt x="24333" y="10368"/>
                </a:cubicBezTo>
                <a:cubicBezTo>
                  <a:pt x="24363" y="10464"/>
                  <a:pt x="24412" y="10551"/>
                  <a:pt x="24457" y="10641"/>
                </a:cubicBezTo>
                <a:cubicBezTo>
                  <a:pt x="24495" y="10718"/>
                  <a:pt x="24558" y="10744"/>
                  <a:pt x="24631" y="10691"/>
                </a:cubicBezTo>
                <a:cubicBezTo>
                  <a:pt x="24705" y="10637"/>
                  <a:pt x="24717" y="10555"/>
                  <a:pt x="24730" y="10468"/>
                </a:cubicBezTo>
                <a:cubicBezTo>
                  <a:pt x="24730" y="10418"/>
                  <a:pt x="24730" y="10401"/>
                  <a:pt x="24730" y="10368"/>
                </a:cubicBezTo>
                <a:cubicBezTo>
                  <a:pt x="24697" y="10270"/>
                  <a:pt x="24616" y="10342"/>
                  <a:pt x="24557" y="10418"/>
                </a:cubicBezTo>
                <a:cubicBezTo>
                  <a:pt x="24503" y="10487"/>
                  <a:pt x="24541" y="10555"/>
                  <a:pt x="24581" y="10616"/>
                </a:cubicBezTo>
                <a:cubicBezTo>
                  <a:pt x="24589" y="10624"/>
                  <a:pt x="24598" y="10633"/>
                  <a:pt x="24606" y="10641"/>
                </a:cubicBezTo>
                <a:cubicBezTo>
                  <a:pt x="24663" y="10601"/>
                  <a:pt x="24681" y="10398"/>
                  <a:pt x="24681" y="10468"/>
                </a:cubicBezTo>
                <a:cubicBezTo>
                  <a:pt x="24681" y="10677"/>
                  <a:pt x="24954" y="10495"/>
                  <a:pt x="24954" y="10319"/>
                </a:cubicBezTo>
                <a:cubicBezTo>
                  <a:pt x="24954" y="10174"/>
                  <a:pt x="24947" y="10060"/>
                  <a:pt x="24904" y="9922"/>
                </a:cubicBezTo>
                <a:cubicBezTo>
                  <a:pt x="24772" y="9463"/>
                  <a:pt x="24993" y="10209"/>
                  <a:pt x="25003" y="10492"/>
                </a:cubicBezTo>
                <a:cubicBezTo>
                  <a:pt x="25011" y="10728"/>
                  <a:pt x="25111" y="9811"/>
                  <a:pt x="25127" y="10046"/>
                </a:cubicBezTo>
                <a:cubicBezTo>
                  <a:pt x="25144" y="10289"/>
                  <a:pt x="25043" y="10123"/>
                  <a:pt x="25127" y="10269"/>
                </a:cubicBezTo>
                <a:cubicBezTo>
                  <a:pt x="25145" y="10169"/>
                  <a:pt x="25120" y="10044"/>
                  <a:pt x="25102" y="9947"/>
                </a:cubicBezTo>
                <a:cubicBezTo>
                  <a:pt x="25102" y="9766"/>
                  <a:pt x="25183" y="9852"/>
                  <a:pt x="25375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90-x)sec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n(-x)cot(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-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4"/>
          <p:cNvSpPr/>
          <p:nvPr/>
        </p:nvSpPr>
        <p:spPr>
          <a:xfrm>
            <a:off x="750960" y="1044720"/>
            <a:ext cx="901800" cy="339480"/>
          </a:xfrm>
          <a:custGeom>
            <a:avLst/>
            <a:gdLst/>
            <a:ahLst/>
            <a:rect l="l" t="t" r="r" b="b"/>
            <a:pathLst>
              <a:path w="2506" h="944">
                <a:moveTo>
                  <a:pt x="2505" y="3125"/>
                </a:moveTo>
                <a:cubicBezTo>
                  <a:pt x="2477" y="3153"/>
                  <a:pt x="2468" y="3167"/>
                  <a:pt x="2480" y="3200"/>
                </a:cubicBezTo>
                <a:cubicBezTo>
                  <a:pt x="2441" y="3160"/>
                  <a:pt x="2417" y="3116"/>
                  <a:pt x="2381" y="3076"/>
                </a:cubicBezTo>
                <a:cubicBezTo>
                  <a:pt x="2373" y="3068"/>
                  <a:pt x="2364" y="3059"/>
                  <a:pt x="2356" y="3051"/>
                </a:cubicBezTo>
                <a:cubicBezTo>
                  <a:pt x="2301" y="3096"/>
                  <a:pt x="2266" y="3110"/>
                  <a:pt x="2232" y="3175"/>
                </a:cubicBezTo>
                <a:cubicBezTo>
                  <a:pt x="2197" y="3242"/>
                  <a:pt x="2155" y="3301"/>
                  <a:pt x="2133" y="3373"/>
                </a:cubicBezTo>
                <a:cubicBezTo>
                  <a:pt x="2110" y="3449"/>
                  <a:pt x="2062" y="3563"/>
                  <a:pt x="2084" y="3646"/>
                </a:cubicBezTo>
                <a:cubicBezTo>
                  <a:pt x="2093" y="3680"/>
                  <a:pt x="2145" y="3810"/>
                  <a:pt x="2183" y="3820"/>
                </a:cubicBezTo>
                <a:cubicBezTo>
                  <a:pt x="2246" y="3837"/>
                  <a:pt x="2402" y="3834"/>
                  <a:pt x="2456" y="3795"/>
                </a:cubicBezTo>
                <a:cubicBezTo>
                  <a:pt x="2497" y="3754"/>
                  <a:pt x="2505" y="3746"/>
                  <a:pt x="2530" y="3721"/>
                </a:cubicBezTo>
              </a:path>
              <a:path w="2506" h="944">
                <a:moveTo>
                  <a:pt x="2704" y="3274"/>
                </a:moveTo>
                <a:cubicBezTo>
                  <a:pt x="2676" y="3380"/>
                  <a:pt x="2654" y="3463"/>
                  <a:pt x="2654" y="3572"/>
                </a:cubicBezTo>
                <a:cubicBezTo>
                  <a:pt x="2654" y="3647"/>
                  <a:pt x="2657" y="3685"/>
                  <a:pt x="2704" y="3746"/>
                </a:cubicBezTo>
                <a:cubicBezTo>
                  <a:pt x="2744" y="3798"/>
                  <a:pt x="2814" y="3818"/>
                  <a:pt x="2877" y="3795"/>
                </a:cubicBezTo>
                <a:cubicBezTo>
                  <a:pt x="2954" y="3767"/>
                  <a:pt x="3054" y="3619"/>
                  <a:pt x="3076" y="3547"/>
                </a:cubicBezTo>
                <a:cubicBezTo>
                  <a:pt x="3130" y="3368"/>
                  <a:pt x="3102" y="3318"/>
                  <a:pt x="2977" y="3200"/>
                </a:cubicBezTo>
                <a:cubicBezTo>
                  <a:pt x="2900" y="3127"/>
                  <a:pt x="2828" y="3194"/>
                  <a:pt x="2778" y="3249"/>
                </a:cubicBezTo>
                <a:cubicBezTo>
                  <a:pt x="2726" y="3305"/>
                  <a:pt x="2732" y="3363"/>
                  <a:pt x="2704" y="3423"/>
                </a:cubicBezTo>
                <a:cubicBezTo>
                  <a:pt x="2673" y="3489"/>
                  <a:pt x="2702" y="3520"/>
                  <a:pt x="2753" y="3572"/>
                </a:cubicBezTo>
                <a:cubicBezTo>
                  <a:pt x="2778" y="3597"/>
                  <a:pt x="2786" y="3605"/>
                  <a:pt x="2803" y="3621"/>
                </a:cubicBezTo>
              </a:path>
              <a:path w="2506" h="944">
                <a:moveTo>
                  <a:pt x="3497" y="2902"/>
                </a:moveTo>
                <a:cubicBezTo>
                  <a:pt x="3497" y="2993"/>
                  <a:pt x="3483" y="3063"/>
                  <a:pt x="3473" y="3150"/>
                </a:cubicBezTo>
                <a:cubicBezTo>
                  <a:pt x="3463" y="3238"/>
                  <a:pt x="3497" y="3330"/>
                  <a:pt x="3497" y="3423"/>
                </a:cubicBezTo>
                <a:cubicBezTo>
                  <a:pt x="3497" y="3495"/>
                  <a:pt x="3494" y="3649"/>
                  <a:pt x="3522" y="3721"/>
                </a:cubicBezTo>
                <a:cubicBezTo>
                  <a:pt x="3540" y="3768"/>
                  <a:pt x="3568" y="3765"/>
                  <a:pt x="3522" y="3795"/>
                </a:cubicBezTo>
              </a:path>
              <a:path w="2506" h="944">
                <a:moveTo>
                  <a:pt x="3349" y="3349"/>
                </a:moveTo>
                <a:cubicBezTo>
                  <a:pt x="3433" y="3340"/>
                  <a:pt x="3481" y="3324"/>
                  <a:pt x="3572" y="3324"/>
                </a:cubicBezTo>
                <a:cubicBezTo>
                  <a:pt x="3636" y="3324"/>
                  <a:pt x="3664" y="3310"/>
                  <a:pt x="3721" y="3299"/>
                </a:cubicBezTo>
              </a:path>
              <a:path w="2506" h="944">
                <a:moveTo>
                  <a:pt x="4093" y="3249"/>
                </a:moveTo>
                <a:cubicBezTo>
                  <a:pt x="4104" y="3325"/>
                  <a:pt x="4146" y="3405"/>
                  <a:pt x="4192" y="3473"/>
                </a:cubicBezTo>
                <a:cubicBezTo>
                  <a:pt x="4227" y="3525"/>
                  <a:pt x="4292" y="3608"/>
                  <a:pt x="4341" y="3646"/>
                </a:cubicBezTo>
                <a:cubicBezTo>
                  <a:pt x="4394" y="3687"/>
                  <a:pt x="4440" y="3696"/>
                  <a:pt x="4490" y="3721"/>
                </a:cubicBezTo>
                <a:cubicBezTo>
                  <a:pt x="4541" y="3747"/>
                  <a:pt x="4541" y="3734"/>
                  <a:pt x="4589" y="3696"/>
                </a:cubicBezTo>
              </a:path>
              <a:path w="2506" h="944">
                <a:moveTo>
                  <a:pt x="4465" y="3150"/>
                </a:moveTo>
                <a:cubicBezTo>
                  <a:pt x="4400" y="3268"/>
                  <a:pt x="4334" y="3364"/>
                  <a:pt x="4266" y="3473"/>
                </a:cubicBezTo>
                <a:cubicBezTo>
                  <a:pt x="4218" y="3549"/>
                  <a:pt x="4167" y="3623"/>
                  <a:pt x="4118" y="3696"/>
                </a:cubicBezTo>
                <a:cubicBezTo>
                  <a:pt x="4084" y="3747"/>
                  <a:pt x="4013" y="3830"/>
                  <a:pt x="4043" y="38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5"/>
          <p:cNvSpPr/>
          <p:nvPr/>
        </p:nvSpPr>
        <p:spPr>
          <a:xfrm>
            <a:off x="1866960" y="1295280"/>
            <a:ext cx="27000" cy="349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5184" y="3696"/>
                </a:moveTo>
                <a:cubicBezTo>
                  <a:pt x="5184" y="3644"/>
                  <a:pt x="5203" y="3617"/>
                  <a:pt x="5259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6"/>
          <p:cNvSpPr/>
          <p:nvPr/>
        </p:nvSpPr>
        <p:spPr>
          <a:xfrm>
            <a:off x="2071800" y="1081080"/>
            <a:ext cx="857160" cy="27612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6251" y="3101"/>
                </a:moveTo>
                <a:cubicBezTo>
                  <a:pt x="6205" y="2987"/>
                  <a:pt x="6198" y="3001"/>
                  <a:pt x="6077" y="3001"/>
                </a:cubicBezTo>
                <a:cubicBezTo>
                  <a:pt x="5986" y="3001"/>
                  <a:pt x="5934" y="3036"/>
                  <a:pt x="5854" y="3076"/>
                </a:cubicBezTo>
                <a:cubicBezTo>
                  <a:pt x="5756" y="3125"/>
                  <a:pt x="5733" y="3138"/>
                  <a:pt x="5779" y="3249"/>
                </a:cubicBezTo>
                <a:cubicBezTo>
                  <a:pt x="5805" y="3312"/>
                  <a:pt x="5977" y="3417"/>
                  <a:pt x="6028" y="3448"/>
                </a:cubicBezTo>
                <a:cubicBezTo>
                  <a:pt x="6065" y="3470"/>
                  <a:pt x="6182" y="3531"/>
                  <a:pt x="6176" y="3597"/>
                </a:cubicBezTo>
                <a:cubicBezTo>
                  <a:pt x="6170" y="3657"/>
                  <a:pt x="6128" y="3675"/>
                  <a:pt x="6077" y="3696"/>
                </a:cubicBezTo>
                <a:cubicBezTo>
                  <a:pt x="6007" y="3724"/>
                  <a:pt x="5926" y="3758"/>
                  <a:pt x="5854" y="3770"/>
                </a:cubicBezTo>
                <a:cubicBezTo>
                  <a:pt x="5813" y="3770"/>
                  <a:pt x="5796" y="3779"/>
                  <a:pt x="5804" y="3746"/>
                </a:cubicBezTo>
              </a:path>
              <a:path w="2382" h="770">
                <a:moveTo>
                  <a:pt x="6300" y="3448"/>
                </a:moveTo>
                <a:cubicBezTo>
                  <a:pt x="6426" y="3383"/>
                  <a:pt x="6524" y="3328"/>
                  <a:pt x="6648" y="3274"/>
                </a:cubicBezTo>
                <a:cubicBezTo>
                  <a:pt x="6720" y="3243"/>
                  <a:pt x="6739" y="3168"/>
                  <a:pt x="6772" y="3101"/>
                </a:cubicBezTo>
                <a:cubicBezTo>
                  <a:pt x="6797" y="3051"/>
                  <a:pt x="6777" y="2974"/>
                  <a:pt x="6697" y="3001"/>
                </a:cubicBezTo>
                <a:cubicBezTo>
                  <a:pt x="6640" y="3020"/>
                  <a:pt x="6538" y="3078"/>
                  <a:pt x="6499" y="3125"/>
                </a:cubicBezTo>
                <a:cubicBezTo>
                  <a:pt x="6430" y="3209"/>
                  <a:pt x="6353" y="3346"/>
                  <a:pt x="6325" y="3448"/>
                </a:cubicBezTo>
                <a:cubicBezTo>
                  <a:pt x="6306" y="3517"/>
                  <a:pt x="6333" y="3595"/>
                  <a:pt x="6375" y="3646"/>
                </a:cubicBezTo>
                <a:cubicBezTo>
                  <a:pt x="6417" y="3697"/>
                  <a:pt x="6481" y="3672"/>
                  <a:pt x="6524" y="3646"/>
                </a:cubicBezTo>
              </a:path>
              <a:path w="2382" h="770">
                <a:moveTo>
                  <a:pt x="7094" y="3150"/>
                </a:moveTo>
                <a:cubicBezTo>
                  <a:pt x="7188" y="3150"/>
                  <a:pt x="7251" y="3171"/>
                  <a:pt x="7193" y="3125"/>
                </a:cubicBezTo>
                <a:cubicBezTo>
                  <a:pt x="7132" y="3089"/>
                  <a:pt x="7099" y="3099"/>
                  <a:pt x="7045" y="3150"/>
                </a:cubicBezTo>
                <a:cubicBezTo>
                  <a:pt x="6985" y="3206"/>
                  <a:pt x="6915" y="3317"/>
                  <a:pt x="6896" y="3398"/>
                </a:cubicBezTo>
                <a:cubicBezTo>
                  <a:pt x="6875" y="3488"/>
                  <a:pt x="6882" y="3538"/>
                  <a:pt x="6896" y="3621"/>
                </a:cubicBezTo>
                <a:cubicBezTo>
                  <a:pt x="6908" y="3693"/>
                  <a:pt x="6945" y="3717"/>
                  <a:pt x="7020" y="3721"/>
                </a:cubicBezTo>
                <a:cubicBezTo>
                  <a:pt x="7138" y="3728"/>
                  <a:pt x="7212" y="3642"/>
                  <a:pt x="7293" y="3572"/>
                </a:cubicBezTo>
              </a:path>
              <a:path w="2382" h="770">
                <a:moveTo>
                  <a:pt x="7541" y="3175"/>
                </a:moveTo>
                <a:cubicBezTo>
                  <a:pt x="7563" y="3265"/>
                  <a:pt x="7582" y="3347"/>
                  <a:pt x="7640" y="3423"/>
                </a:cubicBezTo>
                <a:cubicBezTo>
                  <a:pt x="7683" y="3480"/>
                  <a:pt x="7780" y="3533"/>
                  <a:pt x="7838" y="3572"/>
                </a:cubicBezTo>
                <a:cubicBezTo>
                  <a:pt x="7908" y="3619"/>
                  <a:pt x="8002" y="3639"/>
                  <a:pt x="8086" y="3621"/>
                </a:cubicBezTo>
                <a:cubicBezTo>
                  <a:pt x="8103" y="3613"/>
                  <a:pt x="8119" y="3605"/>
                  <a:pt x="8136" y="3597"/>
                </a:cubicBezTo>
              </a:path>
              <a:path w="2382" h="770">
                <a:moveTo>
                  <a:pt x="7962" y="3150"/>
                </a:moveTo>
                <a:cubicBezTo>
                  <a:pt x="7834" y="3254"/>
                  <a:pt x="7707" y="3417"/>
                  <a:pt x="7565" y="3497"/>
                </a:cubicBezTo>
                <a:cubicBezTo>
                  <a:pt x="7482" y="3544"/>
                  <a:pt x="7465" y="3559"/>
                  <a:pt x="7417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7"/>
          <p:cNvSpPr/>
          <p:nvPr/>
        </p:nvSpPr>
        <p:spPr>
          <a:xfrm>
            <a:off x="812880" y="1571760"/>
            <a:ext cx="2438280" cy="758520"/>
          </a:xfrm>
          <a:custGeom>
            <a:avLst/>
            <a:gdLst/>
            <a:ahLst/>
            <a:rect l="l" t="t" r="r" b="b"/>
            <a:pathLst>
              <a:path w="6773" h="2109">
                <a:moveTo>
                  <a:pt x="2927" y="4490"/>
                </a:moveTo>
                <a:cubicBezTo>
                  <a:pt x="2927" y="4579"/>
                  <a:pt x="2929" y="4633"/>
                  <a:pt x="2902" y="4713"/>
                </a:cubicBezTo>
                <a:cubicBezTo>
                  <a:pt x="2887" y="4674"/>
                  <a:pt x="2881" y="4579"/>
                  <a:pt x="2828" y="4564"/>
                </a:cubicBezTo>
                <a:cubicBezTo>
                  <a:pt x="2727" y="4535"/>
                  <a:pt x="2682" y="4617"/>
                  <a:pt x="2629" y="4688"/>
                </a:cubicBezTo>
                <a:cubicBezTo>
                  <a:pt x="2566" y="4771"/>
                  <a:pt x="2535" y="4860"/>
                  <a:pt x="2530" y="4961"/>
                </a:cubicBezTo>
                <a:cubicBezTo>
                  <a:pt x="2527" y="5029"/>
                  <a:pt x="2522" y="5152"/>
                  <a:pt x="2555" y="5209"/>
                </a:cubicBezTo>
                <a:cubicBezTo>
                  <a:pt x="2593" y="5276"/>
                  <a:pt x="2677" y="5323"/>
                  <a:pt x="2753" y="5308"/>
                </a:cubicBezTo>
                <a:cubicBezTo>
                  <a:pt x="2801" y="5284"/>
                  <a:pt x="2816" y="5276"/>
                  <a:pt x="2853" y="5283"/>
                </a:cubicBezTo>
              </a:path>
              <a:path w="6773" h="2109">
                <a:moveTo>
                  <a:pt x="3249" y="4663"/>
                </a:moveTo>
                <a:cubicBezTo>
                  <a:pt x="3228" y="4787"/>
                  <a:pt x="3205" y="4909"/>
                  <a:pt x="3200" y="5035"/>
                </a:cubicBezTo>
                <a:cubicBezTo>
                  <a:pt x="3198" y="5074"/>
                  <a:pt x="3217" y="5159"/>
                  <a:pt x="3249" y="5184"/>
                </a:cubicBezTo>
                <a:cubicBezTo>
                  <a:pt x="3323" y="5241"/>
                  <a:pt x="3387" y="5172"/>
                  <a:pt x="3448" y="5135"/>
                </a:cubicBezTo>
                <a:cubicBezTo>
                  <a:pt x="3515" y="5095"/>
                  <a:pt x="3555" y="5016"/>
                  <a:pt x="3572" y="4936"/>
                </a:cubicBezTo>
                <a:cubicBezTo>
                  <a:pt x="3585" y="4875"/>
                  <a:pt x="3580" y="4783"/>
                  <a:pt x="3547" y="4738"/>
                </a:cubicBezTo>
                <a:cubicBezTo>
                  <a:pt x="3487" y="4656"/>
                  <a:pt x="3480" y="4608"/>
                  <a:pt x="3349" y="4614"/>
                </a:cubicBezTo>
                <a:cubicBezTo>
                  <a:pt x="3335" y="4615"/>
                  <a:pt x="3237" y="4679"/>
                  <a:pt x="3225" y="4688"/>
                </a:cubicBezTo>
                <a:cubicBezTo>
                  <a:pt x="3217" y="4696"/>
                  <a:pt x="3208" y="4705"/>
                  <a:pt x="3200" y="4713"/>
                </a:cubicBezTo>
              </a:path>
              <a:path w="6773" h="2109">
                <a:moveTo>
                  <a:pt x="4018" y="4564"/>
                </a:moveTo>
                <a:cubicBezTo>
                  <a:pt x="3947" y="4602"/>
                  <a:pt x="3862" y="4641"/>
                  <a:pt x="3795" y="4688"/>
                </a:cubicBezTo>
                <a:cubicBezTo>
                  <a:pt x="3722" y="4739"/>
                  <a:pt x="3760" y="4774"/>
                  <a:pt x="3795" y="4837"/>
                </a:cubicBezTo>
                <a:cubicBezTo>
                  <a:pt x="3839" y="4916"/>
                  <a:pt x="3904" y="4971"/>
                  <a:pt x="3969" y="5035"/>
                </a:cubicBezTo>
                <a:cubicBezTo>
                  <a:pt x="4017" y="5083"/>
                  <a:pt x="4052" y="5125"/>
                  <a:pt x="4018" y="5184"/>
                </a:cubicBezTo>
                <a:cubicBezTo>
                  <a:pt x="3975" y="5259"/>
                  <a:pt x="3833" y="5241"/>
                  <a:pt x="3770" y="5209"/>
                </a:cubicBezTo>
                <a:cubicBezTo>
                  <a:pt x="3705" y="5176"/>
                  <a:pt x="3696" y="5192"/>
                  <a:pt x="3696" y="5110"/>
                </a:cubicBezTo>
              </a:path>
              <a:path w="6773" h="2109">
                <a:moveTo>
                  <a:pt x="4242" y="4638"/>
                </a:moveTo>
                <a:cubicBezTo>
                  <a:pt x="4262" y="4711"/>
                  <a:pt x="4276" y="4847"/>
                  <a:pt x="4316" y="4911"/>
                </a:cubicBezTo>
                <a:cubicBezTo>
                  <a:pt x="4360" y="4981"/>
                  <a:pt x="4418" y="5045"/>
                  <a:pt x="4490" y="5085"/>
                </a:cubicBezTo>
                <a:cubicBezTo>
                  <a:pt x="4555" y="5122"/>
                  <a:pt x="4614" y="5155"/>
                  <a:pt x="4688" y="5159"/>
                </a:cubicBezTo>
                <a:cubicBezTo>
                  <a:pt x="4776" y="5164"/>
                  <a:pt x="4800" y="5171"/>
                  <a:pt x="4812" y="5085"/>
                </a:cubicBezTo>
              </a:path>
              <a:path w="6773" h="2109">
                <a:moveTo>
                  <a:pt x="4638" y="4589"/>
                </a:moveTo>
                <a:cubicBezTo>
                  <a:pt x="4497" y="4718"/>
                  <a:pt x="4378" y="4851"/>
                  <a:pt x="4242" y="4986"/>
                </a:cubicBezTo>
                <a:cubicBezTo>
                  <a:pt x="4196" y="5032"/>
                  <a:pt x="4129" y="5085"/>
                  <a:pt x="4093" y="5135"/>
                </a:cubicBezTo>
                <a:cubicBezTo>
                  <a:pt x="4085" y="5151"/>
                  <a:pt x="4076" y="5168"/>
                  <a:pt x="4068" y="5184"/>
                </a:cubicBezTo>
              </a:path>
              <a:path w="6773" h="2109">
                <a:moveTo>
                  <a:pt x="2456" y="5556"/>
                </a:moveTo>
                <a:cubicBezTo>
                  <a:pt x="2545" y="5556"/>
                  <a:pt x="2616" y="5540"/>
                  <a:pt x="2704" y="5531"/>
                </a:cubicBezTo>
                <a:cubicBezTo>
                  <a:pt x="3068" y="5493"/>
                  <a:pt x="3457" y="5538"/>
                  <a:pt x="3820" y="5556"/>
                </a:cubicBezTo>
                <a:cubicBezTo>
                  <a:pt x="3924" y="5561"/>
                  <a:pt x="4477" y="5547"/>
                  <a:pt x="4465" y="5531"/>
                </a:cubicBezTo>
                <a:cubicBezTo>
                  <a:pt x="4457" y="5523"/>
                  <a:pt x="4448" y="5515"/>
                  <a:pt x="4440" y="5507"/>
                </a:cubicBezTo>
              </a:path>
              <a:path w="6773" h="2109">
                <a:moveTo>
                  <a:pt x="3373" y="5755"/>
                </a:moveTo>
                <a:cubicBezTo>
                  <a:pt x="3326" y="5792"/>
                  <a:pt x="3278" y="5826"/>
                  <a:pt x="3225" y="5854"/>
                </a:cubicBezTo>
                <a:cubicBezTo>
                  <a:pt x="3176" y="5880"/>
                  <a:pt x="3123" y="5932"/>
                  <a:pt x="3076" y="5953"/>
                </a:cubicBezTo>
                <a:cubicBezTo>
                  <a:pt x="3043" y="5953"/>
                  <a:pt x="3034" y="5961"/>
                  <a:pt x="3051" y="6003"/>
                </a:cubicBezTo>
                <a:cubicBezTo>
                  <a:pt x="3108" y="6037"/>
                  <a:pt x="3181" y="6048"/>
                  <a:pt x="3249" y="6077"/>
                </a:cubicBezTo>
                <a:cubicBezTo>
                  <a:pt x="3331" y="6112"/>
                  <a:pt x="3428" y="6143"/>
                  <a:pt x="3497" y="6201"/>
                </a:cubicBezTo>
                <a:cubicBezTo>
                  <a:pt x="3562" y="6255"/>
                  <a:pt x="3631" y="6301"/>
                  <a:pt x="3572" y="6375"/>
                </a:cubicBezTo>
                <a:cubicBezTo>
                  <a:pt x="3518" y="6443"/>
                  <a:pt x="3445" y="6432"/>
                  <a:pt x="3373" y="6449"/>
                </a:cubicBezTo>
                <a:cubicBezTo>
                  <a:pt x="3314" y="6463"/>
                  <a:pt x="3214" y="6499"/>
                  <a:pt x="3150" y="6474"/>
                </a:cubicBezTo>
                <a:cubicBezTo>
                  <a:pt x="3078" y="6446"/>
                  <a:pt x="3184" y="6369"/>
                  <a:pt x="3200" y="6350"/>
                </a:cubicBezTo>
              </a:path>
              <a:path w="6773" h="2109">
                <a:moveTo>
                  <a:pt x="3795" y="6028"/>
                </a:moveTo>
                <a:cubicBezTo>
                  <a:pt x="3813" y="6111"/>
                  <a:pt x="3841" y="6194"/>
                  <a:pt x="3845" y="6276"/>
                </a:cubicBezTo>
                <a:cubicBezTo>
                  <a:pt x="3845" y="6342"/>
                  <a:pt x="3845" y="6359"/>
                  <a:pt x="3845" y="6400"/>
                </a:cubicBezTo>
              </a:path>
              <a:path w="6773" h="2109">
                <a:moveTo>
                  <a:pt x="3795" y="5804"/>
                </a:moveTo>
                <a:lnTo>
                  <a:pt x="3795" y="5804"/>
                </a:lnTo>
              </a:path>
              <a:path w="6773" h="2109">
                <a:moveTo>
                  <a:pt x="4043" y="6226"/>
                </a:moveTo>
                <a:cubicBezTo>
                  <a:pt x="4043" y="6276"/>
                  <a:pt x="4043" y="6325"/>
                  <a:pt x="4043" y="6375"/>
                </a:cubicBezTo>
                <a:cubicBezTo>
                  <a:pt x="4043" y="6290"/>
                  <a:pt x="4048" y="6208"/>
                  <a:pt x="4068" y="6127"/>
                </a:cubicBezTo>
                <a:cubicBezTo>
                  <a:pt x="4096" y="6017"/>
                  <a:pt x="4164" y="5911"/>
                  <a:pt x="4291" y="5928"/>
                </a:cubicBezTo>
                <a:cubicBezTo>
                  <a:pt x="4406" y="5944"/>
                  <a:pt x="4394" y="6053"/>
                  <a:pt x="4415" y="6127"/>
                </a:cubicBezTo>
                <a:cubicBezTo>
                  <a:pt x="4434" y="6191"/>
                  <a:pt x="4461" y="6236"/>
                  <a:pt x="4465" y="6300"/>
                </a:cubicBezTo>
                <a:cubicBezTo>
                  <a:pt x="4467" y="6341"/>
                  <a:pt x="4463" y="6458"/>
                  <a:pt x="4490" y="6350"/>
                </a:cubicBezTo>
              </a:path>
              <a:path w="6773" h="2109">
                <a:moveTo>
                  <a:pt x="4638" y="5928"/>
                </a:moveTo>
                <a:cubicBezTo>
                  <a:pt x="4706" y="6038"/>
                  <a:pt x="4753" y="6104"/>
                  <a:pt x="4812" y="6226"/>
                </a:cubicBezTo>
                <a:cubicBezTo>
                  <a:pt x="4852" y="6309"/>
                  <a:pt x="4916" y="6347"/>
                  <a:pt x="4986" y="6400"/>
                </a:cubicBezTo>
                <a:cubicBezTo>
                  <a:pt x="5033" y="6435"/>
                  <a:pt x="5095" y="6474"/>
                  <a:pt x="5159" y="6449"/>
                </a:cubicBezTo>
                <a:cubicBezTo>
                  <a:pt x="5189" y="6419"/>
                  <a:pt x="5200" y="6405"/>
                  <a:pt x="5209" y="6375"/>
                </a:cubicBezTo>
              </a:path>
              <a:path w="6773" h="2109">
                <a:moveTo>
                  <a:pt x="5035" y="6003"/>
                </a:moveTo>
                <a:cubicBezTo>
                  <a:pt x="4961" y="6102"/>
                  <a:pt x="4878" y="6218"/>
                  <a:pt x="4787" y="6300"/>
                </a:cubicBezTo>
                <a:cubicBezTo>
                  <a:pt x="4725" y="6356"/>
                  <a:pt x="4711" y="6374"/>
                  <a:pt x="4663" y="6350"/>
                </a:cubicBezTo>
              </a:path>
              <a:path w="6773" h="2109">
                <a:moveTo>
                  <a:pt x="5730" y="5581"/>
                </a:moveTo>
                <a:cubicBezTo>
                  <a:pt x="5730" y="5564"/>
                  <a:pt x="5730" y="5548"/>
                  <a:pt x="5730" y="5531"/>
                </a:cubicBezTo>
              </a:path>
              <a:path w="6773" h="2109">
                <a:moveTo>
                  <a:pt x="7193" y="4366"/>
                </a:moveTo>
                <a:cubicBezTo>
                  <a:pt x="7169" y="4431"/>
                  <a:pt x="7151" y="4520"/>
                  <a:pt x="7144" y="4589"/>
                </a:cubicBezTo>
                <a:cubicBezTo>
                  <a:pt x="7126" y="4776"/>
                  <a:pt x="7139" y="4981"/>
                  <a:pt x="7169" y="5159"/>
                </a:cubicBezTo>
                <a:cubicBezTo>
                  <a:pt x="7169" y="5209"/>
                  <a:pt x="7169" y="5226"/>
                  <a:pt x="7169" y="5259"/>
                </a:cubicBezTo>
              </a:path>
              <a:path w="6773" h="2109">
                <a:moveTo>
                  <a:pt x="6573" y="5457"/>
                </a:moveTo>
                <a:cubicBezTo>
                  <a:pt x="6706" y="5435"/>
                  <a:pt x="6838" y="5426"/>
                  <a:pt x="6970" y="5407"/>
                </a:cubicBezTo>
                <a:cubicBezTo>
                  <a:pt x="7128" y="5384"/>
                  <a:pt x="7282" y="5362"/>
                  <a:pt x="7441" y="5358"/>
                </a:cubicBezTo>
                <a:cubicBezTo>
                  <a:pt x="7569" y="5355"/>
                  <a:pt x="7940" y="5324"/>
                  <a:pt x="7813" y="5333"/>
                </a:cubicBezTo>
                <a:cubicBezTo>
                  <a:pt x="7755" y="5341"/>
                  <a:pt x="7698" y="5350"/>
                  <a:pt x="7640" y="5358"/>
                </a:cubicBezTo>
              </a:path>
              <a:path w="6773" h="2109">
                <a:moveTo>
                  <a:pt x="6796" y="5829"/>
                </a:moveTo>
                <a:cubicBezTo>
                  <a:pt x="6821" y="5870"/>
                  <a:pt x="6846" y="5912"/>
                  <a:pt x="6871" y="5953"/>
                </a:cubicBezTo>
                <a:cubicBezTo>
                  <a:pt x="6862" y="5883"/>
                  <a:pt x="6845" y="5833"/>
                  <a:pt x="6796" y="5779"/>
                </a:cubicBezTo>
                <a:cubicBezTo>
                  <a:pt x="6760" y="5739"/>
                  <a:pt x="6709" y="5686"/>
                  <a:pt x="6648" y="5705"/>
                </a:cubicBezTo>
                <a:cubicBezTo>
                  <a:pt x="6583" y="5725"/>
                  <a:pt x="6526" y="5821"/>
                  <a:pt x="6499" y="5879"/>
                </a:cubicBezTo>
                <a:cubicBezTo>
                  <a:pt x="6478" y="5925"/>
                  <a:pt x="6420" y="6052"/>
                  <a:pt x="6424" y="6102"/>
                </a:cubicBezTo>
                <a:cubicBezTo>
                  <a:pt x="6431" y="6182"/>
                  <a:pt x="6463" y="6233"/>
                  <a:pt x="6499" y="6300"/>
                </a:cubicBezTo>
                <a:cubicBezTo>
                  <a:pt x="6538" y="6374"/>
                  <a:pt x="6562" y="6395"/>
                  <a:pt x="6648" y="6400"/>
                </a:cubicBezTo>
                <a:cubicBezTo>
                  <a:pt x="6725" y="6404"/>
                  <a:pt x="6793" y="6373"/>
                  <a:pt x="6846" y="6325"/>
                </a:cubicBezTo>
                <a:cubicBezTo>
                  <a:pt x="6871" y="6300"/>
                  <a:pt x="6896" y="6276"/>
                  <a:pt x="6921" y="6251"/>
                </a:cubicBezTo>
              </a:path>
              <a:path w="6773" h="2109">
                <a:moveTo>
                  <a:pt x="7119" y="5829"/>
                </a:moveTo>
                <a:cubicBezTo>
                  <a:pt x="7097" y="5913"/>
                  <a:pt x="7026" y="6103"/>
                  <a:pt x="7045" y="6201"/>
                </a:cubicBezTo>
                <a:cubicBezTo>
                  <a:pt x="7064" y="6300"/>
                  <a:pt x="7094" y="6323"/>
                  <a:pt x="7169" y="6350"/>
                </a:cubicBezTo>
                <a:cubicBezTo>
                  <a:pt x="7241" y="6376"/>
                  <a:pt x="7329" y="6392"/>
                  <a:pt x="7392" y="6325"/>
                </a:cubicBezTo>
                <a:cubicBezTo>
                  <a:pt x="7448" y="6265"/>
                  <a:pt x="7446" y="6193"/>
                  <a:pt x="7466" y="6127"/>
                </a:cubicBezTo>
                <a:cubicBezTo>
                  <a:pt x="7490" y="6048"/>
                  <a:pt x="7502" y="5957"/>
                  <a:pt x="7466" y="5879"/>
                </a:cubicBezTo>
                <a:cubicBezTo>
                  <a:pt x="7449" y="5843"/>
                  <a:pt x="7378" y="5788"/>
                  <a:pt x="7342" y="5779"/>
                </a:cubicBezTo>
                <a:cubicBezTo>
                  <a:pt x="7284" y="5765"/>
                  <a:pt x="7205" y="5778"/>
                  <a:pt x="7169" y="5829"/>
                </a:cubicBezTo>
                <a:cubicBezTo>
                  <a:pt x="7145" y="5877"/>
                  <a:pt x="7137" y="5891"/>
                  <a:pt x="7144" y="5928"/>
                </a:cubicBezTo>
              </a:path>
              <a:path w="6773" h="2109">
                <a:moveTo>
                  <a:pt x="8037" y="5804"/>
                </a:moveTo>
                <a:cubicBezTo>
                  <a:pt x="7989" y="5711"/>
                  <a:pt x="7939" y="5773"/>
                  <a:pt x="7838" y="5804"/>
                </a:cubicBezTo>
                <a:cubicBezTo>
                  <a:pt x="7754" y="5830"/>
                  <a:pt x="7670" y="5820"/>
                  <a:pt x="7665" y="5904"/>
                </a:cubicBezTo>
                <a:cubicBezTo>
                  <a:pt x="7660" y="5985"/>
                  <a:pt x="7757" y="6005"/>
                  <a:pt x="7813" y="6052"/>
                </a:cubicBezTo>
                <a:cubicBezTo>
                  <a:pt x="7855" y="6087"/>
                  <a:pt x="7990" y="6188"/>
                  <a:pt x="7962" y="6251"/>
                </a:cubicBezTo>
                <a:cubicBezTo>
                  <a:pt x="7917" y="6353"/>
                  <a:pt x="7801" y="6325"/>
                  <a:pt x="7714" y="6325"/>
                </a:cubicBezTo>
                <a:cubicBezTo>
                  <a:pt x="7627" y="6325"/>
                  <a:pt x="7601" y="6304"/>
                  <a:pt x="7590" y="6226"/>
                </a:cubicBezTo>
              </a:path>
              <a:path w="6773" h="2109">
                <a:moveTo>
                  <a:pt x="8285" y="5779"/>
                </a:moveTo>
                <a:cubicBezTo>
                  <a:pt x="8341" y="5852"/>
                  <a:pt x="8408" y="5991"/>
                  <a:pt x="8483" y="6052"/>
                </a:cubicBezTo>
                <a:cubicBezTo>
                  <a:pt x="8573" y="6126"/>
                  <a:pt x="8636" y="6190"/>
                  <a:pt x="8731" y="6251"/>
                </a:cubicBezTo>
                <a:cubicBezTo>
                  <a:pt x="8811" y="6302"/>
                  <a:pt x="8908" y="6402"/>
                  <a:pt x="9004" y="6350"/>
                </a:cubicBezTo>
                <a:cubicBezTo>
                  <a:pt x="9012" y="6342"/>
                  <a:pt x="9021" y="6333"/>
                  <a:pt x="9029" y="6325"/>
                </a:cubicBezTo>
              </a:path>
              <a:path w="6773" h="2109">
                <a:moveTo>
                  <a:pt x="8706" y="5804"/>
                </a:moveTo>
                <a:cubicBezTo>
                  <a:pt x="8542" y="5941"/>
                  <a:pt x="8333" y="6088"/>
                  <a:pt x="8186" y="6251"/>
                </a:cubicBezTo>
                <a:cubicBezTo>
                  <a:pt x="8145" y="6301"/>
                  <a:pt x="8103" y="6350"/>
                  <a:pt x="8062" y="6400"/>
                </a:cubicBezTo>
              </a:path>
              <a:path w="6773" h="2109">
                <a:moveTo>
                  <a:pt x="2257" y="5407"/>
                </a:moveTo>
                <a:cubicBezTo>
                  <a:pt x="2323" y="5365"/>
                  <a:pt x="2379" y="5334"/>
                  <a:pt x="2456" y="5308"/>
                </a:cubicBezTo>
                <a:cubicBezTo>
                  <a:pt x="2613" y="5255"/>
                  <a:pt x="2751" y="5202"/>
                  <a:pt x="2902" y="5135"/>
                </a:cubicBezTo>
                <a:cubicBezTo>
                  <a:pt x="3109" y="5044"/>
                  <a:pt x="3314" y="4949"/>
                  <a:pt x="3522" y="4862"/>
                </a:cubicBezTo>
                <a:cubicBezTo>
                  <a:pt x="3660" y="4804"/>
                  <a:pt x="3813" y="4759"/>
                  <a:pt x="3944" y="4688"/>
                </a:cubicBezTo>
                <a:cubicBezTo>
                  <a:pt x="4028" y="4642"/>
                  <a:pt x="4029" y="4578"/>
                  <a:pt x="4043" y="4564"/>
                </a:cubicBezTo>
                <a:cubicBezTo>
                  <a:pt x="4043" y="4572"/>
                  <a:pt x="4043" y="4581"/>
                  <a:pt x="4043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8"/>
          <p:cNvSpPr/>
          <p:nvPr/>
        </p:nvSpPr>
        <p:spPr>
          <a:xfrm>
            <a:off x="1374840" y="2089080"/>
            <a:ext cx="1822320" cy="1339920"/>
          </a:xfrm>
          <a:custGeom>
            <a:avLst/>
            <a:gdLst/>
            <a:ahLst/>
            <a:rect l="l" t="t" r="r" b="b"/>
            <a:pathLst>
              <a:path w="5061" h="3722">
                <a:moveTo>
                  <a:pt x="6251" y="6375"/>
                </a:moveTo>
                <a:cubicBezTo>
                  <a:pt x="6345" y="6375"/>
                  <a:pt x="6409" y="6339"/>
                  <a:pt x="6499" y="6325"/>
                </a:cubicBezTo>
                <a:cubicBezTo>
                  <a:pt x="6703" y="6293"/>
                  <a:pt x="6890" y="6235"/>
                  <a:pt x="7094" y="6201"/>
                </a:cubicBezTo>
                <a:cubicBezTo>
                  <a:pt x="7297" y="6168"/>
                  <a:pt x="7488" y="6113"/>
                  <a:pt x="7689" y="6077"/>
                </a:cubicBezTo>
                <a:cubicBezTo>
                  <a:pt x="7890" y="6041"/>
                  <a:pt x="8084" y="5993"/>
                  <a:pt x="8285" y="5953"/>
                </a:cubicBezTo>
                <a:cubicBezTo>
                  <a:pt x="8419" y="5927"/>
                  <a:pt x="8555" y="5906"/>
                  <a:pt x="8682" y="5854"/>
                </a:cubicBezTo>
                <a:cubicBezTo>
                  <a:pt x="8743" y="5829"/>
                  <a:pt x="8829" y="5831"/>
                  <a:pt x="8880" y="5804"/>
                </a:cubicBezTo>
                <a:cubicBezTo>
                  <a:pt x="8863" y="5804"/>
                  <a:pt x="8847" y="5804"/>
                  <a:pt x="8830" y="5804"/>
                </a:cubicBezTo>
              </a:path>
              <a:path w="5061" h="3722">
                <a:moveTo>
                  <a:pt x="4887" y="6796"/>
                </a:moveTo>
                <a:cubicBezTo>
                  <a:pt x="4887" y="6942"/>
                  <a:pt x="4889" y="7080"/>
                  <a:pt x="4911" y="7218"/>
                </a:cubicBezTo>
                <a:cubicBezTo>
                  <a:pt x="4911" y="7235"/>
                  <a:pt x="4911" y="7251"/>
                  <a:pt x="4911" y="7268"/>
                </a:cubicBezTo>
              </a:path>
              <a:path w="5061" h="3722">
                <a:moveTo>
                  <a:pt x="4291" y="7441"/>
                </a:moveTo>
                <a:cubicBezTo>
                  <a:pt x="4402" y="7418"/>
                  <a:pt x="4504" y="7434"/>
                  <a:pt x="4614" y="7417"/>
                </a:cubicBezTo>
                <a:cubicBezTo>
                  <a:pt x="4772" y="7393"/>
                  <a:pt x="4923" y="7392"/>
                  <a:pt x="5085" y="7392"/>
                </a:cubicBezTo>
                <a:cubicBezTo>
                  <a:pt x="5168" y="7392"/>
                  <a:pt x="5250" y="7392"/>
                  <a:pt x="5333" y="7392"/>
                </a:cubicBezTo>
              </a:path>
              <a:path w="5061" h="3722">
                <a:moveTo>
                  <a:pt x="4589" y="7565"/>
                </a:moveTo>
                <a:cubicBezTo>
                  <a:pt x="4512" y="7589"/>
                  <a:pt x="4430" y="7647"/>
                  <a:pt x="4366" y="7665"/>
                </a:cubicBezTo>
                <a:cubicBezTo>
                  <a:pt x="4306" y="7682"/>
                  <a:pt x="4312" y="7668"/>
                  <a:pt x="4266" y="7714"/>
                </a:cubicBezTo>
                <a:cubicBezTo>
                  <a:pt x="4311" y="7768"/>
                  <a:pt x="4364" y="7783"/>
                  <a:pt x="4440" y="7813"/>
                </a:cubicBezTo>
                <a:cubicBezTo>
                  <a:pt x="4503" y="7838"/>
                  <a:pt x="4623" y="7857"/>
                  <a:pt x="4638" y="7938"/>
                </a:cubicBezTo>
                <a:cubicBezTo>
                  <a:pt x="4638" y="7971"/>
                  <a:pt x="4638" y="8004"/>
                  <a:pt x="4638" y="8037"/>
                </a:cubicBezTo>
                <a:cubicBezTo>
                  <a:pt x="4564" y="8062"/>
                  <a:pt x="4419" y="8099"/>
                  <a:pt x="4341" y="8086"/>
                </a:cubicBezTo>
                <a:cubicBezTo>
                  <a:pt x="4285" y="8077"/>
                  <a:pt x="4235" y="8063"/>
                  <a:pt x="4192" y="8037"/>
                </a:cubicBezTo>
              </a:path>
              <a:path w="5061" h="3722">
                <a:moveTo>
                  <a:pt x="4787" y="7888"/>
                </a:moveTo>
                <a:cubicBezTo>
                  <a:pt x="4803" y="8011"/>
                  <a:pt x="4838" y="8052"/>
                  <a:pt x="4787" y="8136"/>
                </a:cubicBezTo>
              </a:path>
              <a:path w="5061" h="3722">
                <a:moveTo>
                  <a:pt x="4812" y="7590"/>
                </a:moveTo>
                <a:cubicBezTo>
                  <a:pt x="4812" y="7582"/>
                  <a:pt x="4812" y="7573"/>
                  <a:pt x="4812" y="7565"/>
                </a:cubicBezTo>
              </a:path>
              <a:path w="5061" h="3722">
                <a:moveTo>
                  <a:pt x="4986" y="7987"/>
                </a:moveTo>
                <a:cubicBezTo>
                  <a:pt x="5005" y="8064"/>
                  <a:pt x="5030" y="8113"/>
                  <a:pt x="4986" y="8062"/>
                </a:cubicBezTo>
                <a:cubicBezTo>
                  <a:pt x="4986" y="7990"/>
                  <a:pt x="5007" y="7953"/>
                  <a:pt x="5011" y="7888"/>
                </a:cubicBezTo>
                <a:cubicBezTo>
                  <a:pt x="5015" y="7821"/>
                  <a:pt x="5038" y="7810"/>
                  <a:pt x="5085" y="7764"/>
                </a:cubicBezTo>
                <a:cubicBezTo>
                  <a:pt x="5133" y="7716"/>
                  <a:pt x="5171" y="7776"/>
                  <a:pt x="5209" y="7813"/>
                </a:cubicBezTo>
                <a:cubicBezTo>
                  <a:pt x="5268" y="7871"/>
                  <a:pt x="5296" y="7938"/>
                  <a:pt x="5333" y="8012"/>
                </a:cubicBezTo>
                <a:cubicBezTo>
                  <a:pt x="5355" y="8057"/>
                  <a:pt x="5373" y="8076"/>
                  <a:pt x="5407" y="8111"/>
                </a:cubicBezTo>
              </a:path>
              <a:path w="5061" h="3722">
                <a:moveTo>
                  <a:pt x="5606" y="7764"/>
                </a:moveTo>
                <a:cubicBezTo>
                  <a:pt x="5711" y="7891"/>
                  <a:pt x="5766" y="7978"/>
                  <a:pt x="5904" y="8062"/>
                </a:cubicBezTo>
                <a:cubicBezTo>
                  <a:pt x="5973" y="8104"/>
                  <a:pt x="6023" y="8111"/>
                  <a:pt x="6102" y="8111"/>
                </a:cubicBezTo>
              </a:path>
              <a:path w="5061" h="3722">
                <a:moveTo>
                  <a:pt x="5928" y="7764"/>
                </a:moveTo>
                <a:cubicBezTo>
                  <a:pt x="5793" y="7846"/>
                  <a:pt x="5703" y="7913"/>
                  <a:pt x="5606" y="8037"/>
                </a:cubicBezTo>
                <a:cubicBezTo>
                  <a:pt x="5553" y="8115"/>
                  <a:pt x="5533" y="8144"/>
                  <a:pt x="5482" y="8186"/>
                </a:cubicBezTo>
              </a:path>
              <a:path w="5061" h="3722">
                <a:moveTo>
                  <a:pt x="4440" y="8756"/>
                </a:moveTo>
                <a:cubicBezTo>
                  <a:pt x="4448" y="8773"/>
                  <a:pt x="4457" y="8789"/>
                  <a:pt x="4465" y="8806"/>
                </a:cubicBezTo>
                <a:cubicBezTo>
                  <a:pt x="4477" y="8769"/>
                  <a:pt x="4484" y="8657"/>
                  <a:pt x="4415" y="8632"/>
                </a:cubicBezTo>
                <a:cubicBezTo>
                  <a:pt x="4345" y="8607"/>
                  <a:pt x="4271" y="8642"/>
                  <a:pt x="4217" y="8682"/>
                </a:cubicBezTo>
                <a:cubicBezTo>
                  <a:pt x="4185" y="8706"/>
                  <a:pt x="4127" y="8790"/>
                  <a:pt x="4118" y="8830"/>
                </a:cubicBezTo>
                <a:cubicBezTo>
                  <a:pt x="4100" y="8907"/>
                  <a:pt x="4085" y="8953"/>
                  <a:pt x="4118" y="9029"/>
                </a:cubicBezTo>
                <a:cubicBezTo>
                  <a:pt x="4165" y="9138"/>
                  <a:pt x="4227" y="9160"/>
                  <a:pt x="4341" y="9178"/>
                </a:cubicBezTo>
                <a:cubicBezTo>
                  <a:pt x="4390" y="9178"/>
                  <a:pt x="4407" y="9178"/>
                  <a:pt x="4440" y="9178"/>
                </a:cubicBezTo>
              </a:path>
              <a:path w="5061" h="3722">
                <a:moveTo>
                  <a:pt x="5060" y="8682"/>
                </a:moveTo>
                <a:cubicBezTo>
                  <a:pt x="4957" y="8688"/>
                  <a:pt x="4879" y="8690"/>
                  <a:pt x="4787" y="8731"/>
                </a:cubicBezTo>
                <a:cubicBezTo>
                  <a:pt x="4744" y="8753"/>
                  <a:pt x="4732" y="8757"/>
                  <a:pt x="4713" y="8781"/>
                </a:cubicBezTo>
                <a:cubicBezTo>
                  <a:pt x="4761" y="8819"/>
                  <a:pt x="4811" y="8847"/>
                  <a:pt x="4862" y="8880"/>
                </a:cubicBezTo>
                <a:cubicBezTo>
                  <a:pt x="4917" y="8915"/>
                  <a:pt x="4994" y="8984"/>
                  <a:pt x="5011" y="9054"/>
                </a:cubicBezTo>
                <a:cubicBezTo>
                  <a:pt x="5032" y="9143"/>
                  <a:pt x="4947" y="9150"/>
                  <a:pt x="4887" y="9153"/>
                </a:cubicBezTo>
                <a:cubicBezTo>
                  <a:pt x="4789" y="9158"/>
                  <a:pt x="4734" y="9105"/>
                  <a:pt x="4663" y="9054"/>
                </a:cubicBezTo>
              </a:path>
              <a:path w="5061" h="3722">
                <a:moveTo>
                  <a:pt x="5531" y="8756"/>
                </a:moveTo>
                <a:cubicBezTo>
                  <a:pt x="5515" y="8688"/>
                  <a:pt x="5466" y="8680"/>
                  <a:pt x="5407" y="8706"/>
                </a:cubicBezTo>
                <a:cubicBezTo>
                  <a:pt x="5345" y="8733"/>
                  <a:pt x="5306" y="8783"/>
                  <a:pt x="5259" y="8830"/>
                </a:cubicBezTo>
                <a:cubicBezTo>
                  <a:pt x="5218" y="8871"/>
                  <a:pt x="5186" y="8944"/>
                  <a:pt x="5209" y="9004"/>
                </a:cubicBezTo>
                <a:cubicBezTo>
                  <a:pt x="5227" y="9050"/>
                  <a:pt x="5314" y="9133"/>
                  <a:pt x="5358" y="9153"/>
                </a:cubicBezTo>
                <a:cubicBezTo>
                  <a:pt x="5444" y="9192"/>
                  <a:pt x="5539" y="9178"/>
                  <a:pt x="5631" y="9178"/>
                </a:cubicBezTo>
              </a:path>
              <a:path w="5061" h="3722">
                <a:moveTo>
                  <a:pt x="5928" y="8781"/>
                </a:moveTo>
                <a:cubicBezTo>
                  <a:pt x="5989" y="8841"/>
                  <a:pt x="6021" y="8901"/>
                  <a:pt x="6077" y="8954"/>
                </a:cubicBezTo>
                <a:cubicBezTo>
                  <a:pt x="6148" y="9021"/>
                  <a:pt x="6193" y="9096"/>
                  <a:pt x="6276" y="9153"/>
                </a:cubicBezTo>
                <a:cubicBezTo>
                  <a:pt x="6332" y="9182"/>
                  <a:pt x="6356" y="9193"/>
                  <a:pt x="6400" y="9203"/>
                </a:cubicBezTo>
              </a:path>
              <a:path w="5061" h="3722">
                <a:moveTo>
                  <a:pt x="6201" y="8682"/>
                </a:moveTo>
                <a:cubicBezTo>
                  <a:pt x="6053" y="8768"/>
                  <a:pt x="5941" y="8858"/>
                  <a:pt x="5804" y="8954"/>
                </a:cubicBezTo>
                <a:cubicBezTo>
                  <a:pt x="5708" y="9022"/>
                  <a:pt x="5619" y="9100"/>
                  <a:pt x="5531" y="9178"/>
                </a:cubicBezTo>
              </a:path>
              <a:path w="5061" h="3722">
                <a:moveTo>
                  <a:pt x="3870" y="8558"/>
                </a:moveTo>
                <a:cubicBezTo>
                  <a:pt x="3852" y="8740"/>
                  <a:pt x="3856" y="8864"/>
                  <a:pt x="3870" y="9029"/>
                </a:cubicBezTo>
                <a:cubicBezTo>
                  <a:pt x="3875" y="9083"/>
                  <a:pt x="3851" y="9114"/>
                  <a:pt x="3845" y="9153"/>
                </a:cubicBezTo>
                <a:cubicBezTo>
                  <a:pt x="3858" y="9087"/>
                  <a:pt x="3870" y="9096"/>
                  <a:pt x="3870" y="9029"/>
                </a:cubicBezTo>
                <a:cubicBezTo>
                  <a:pt x="3870" y="8877"/>
                  <a:pt x="3864" y="8727"/>
                  <a:pt x="3894" y="8582"/>
                </a:cubicBezTo>
                <a:cubicBezTo>
                  <a:pt x="3906" y="8523"/>
                  <a:pt x="3920" y="8431"/>
                  <a:pt x="3969" y="8384"/>
                </a:cubicBezTo>
                <a:cubicBezTo>
                  <a:pt x="4019" y="8335"/>
                  <a:pt x="4124" y="8319"/>
                  <a:pt x="4192" y="8310"/>
                </a:cubicBezTo>
                <a:cubicBezTo>
                  <a:pt x="4390" y="8283"/>
                  <a:pt x="4613" y="8297"/>
                  <a:pt x="4812" y="8285"/>
                </a:cubicBezTo>
                <a:cubicBezTo>
                  <a:pt x="5167" y="8263"/>
                  <a:pt x="5525" y="8304"/>
                  <a:pt x="5879" y="8310"/>
                </a:cubicBezTo>
                <a:cubicBezTo>
                  <a:pt x="6080" y="8314"/>
                  <a:pt x="6276" y="8318"/>
                  <a:pt x="6474" y="8334"/>
                </a:cubicBezTo>
                <a:cubicBezTo>
                  <a:pt x="6599" y="8344"/>
                  <a:pt x="6689" y="8322"/>
                  <a:pt x="6796" y="8409"/>
                </a:cubicBezTo>
                <a:cubicBezTo>
                  <a:pt x="6857" y="8458"/>
                  <a:pt x="6842" y="8514"/>
                  <a:pt x="6846" y="8582"/>
                </a:cubicBezTo>
                <a:cubicBezTo>
                  <a:pt x="6851" y="8675"/>
                  <a:pt x="6827" y="8763"/>
                  <a:pt x="6821" y="8855"/>
                </a:cubicBezTo>
                <a:cubicBezTo>
                  <a:pt x="6814" y="8966"/>
                  <a:pt x="6824" y="9072"/>
                  <a:pt x="6846" y="9178"/>
                </a:cubicBezTo>
                <a:cubicBezTo>
                  <a:pt x="6864" y="9262"/>
                  <a:pt x="6871" y="9337"/>
                  <a:pt x="6871" y="9426"/>
                </a:cubicBezTo>
                <a:cubicBezTo>
                  <a:pt x="6871" y="9485"/>
                  <a:pt x="6884" y="9441"/>
                  <a:pt x="6871" y="9525"/>
                </a:cubicBezTo>
                <a:cubicBezTo>
                  <a:pt x="6768" y="9510"/>
                  <a:pt x="6722" y="9468"/>
                  <a:pt x="6623" y="9451"/>
                </a:cubicBezTo>
                <a:cubicBezTo>
                  <a:pt x="6518" y="9433"/>
                  <a:pt x="6405" y="9445"/>
                  <a:pt x="6300" y="9426"/>
                </a:cubicBezTo>
                <a:cubicBezTo>
                  <a:pt x="6145" y="9398"/>
                  <a:pt x="5988" y="9380"/>
                  <a:pt x="5829" y="9376"/>
                </a:cubicBezTo>
                <a:cubicBezTo>
                  <a:pt x="5645" y="9372"/>
                  <a:pt x="5466" y="9337"/>
                  <a:pt x="5283" y="9327"/>
                </a:cubicBezTo>
                <a:cubicBezTo>
                  <a:pt x="5052" y="9314"/>
                  <a:pt x="4818" y="9291"/>
                  <a:pt x="4589" y="9277"/>
                </a:cubicBezTo>
                <a:cubicBezTo>
                  <a:pt x="4440" y="9268"/>
                  <a:pt x="4290" y="9256"/>
                  <a:pt x="4142" y="9252"/>
                </a:cubicBezTo>
                <a:cubicBezTo>
                  <a:pt x="4034" y="9249"/>
                  <a:pt x="3889" y="9258"/>
                  <a:pt x="3820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9"/>
          <p:cNvSpPr/>
          <p:nvPr/>
        </p:nvSpPr>
        <p:spPr>
          <a:xfrm>
            <a:off x="1571760" y="4438800"/>
            <a:ext cx="2098440" cy="1071360"/>
          </a:xfrm>
          <a:custGeom>
            <a:avLst/>
            <a:gdLst/>
            <a:ahLst/>
            <a:rect l="l" t="t" r="r" b="b"/>
            <a:pathLst>
              <a:path w="5830" h="2977">
                <a:moveTo>
                  <a:pt x="5308" y="13816"/>
                </a:moveTo>
                <a:cubicBezTo>
                  <a:pt x="5255" y="13793"/>
                  <a:pt x="5153" y="13772"/>
                  <a:pt x="5085" y="13791"/>
                </a:cubicBezTo>
                <a:cubicBezTo>
                  <a:pt x="4979" y="13821"/>
                  <a:pt x="4905" y="13889"/>
                  <a:pt x="4837" y="13965"/>
                </a:cubicBezTo>
                <a:cubicBezTo>
                  <a:pt x="4774" y="14035"/>
                  <a:pt x="4727" y="14116"/>
                  <a:pt x="4713" y="14213"/>
                </a:cubicBezTo>
                <a:cubicBezTo>
                  <a:pt x="4698" y="14317"/>
                  <a:pt x="4708" y="14445"/>
                  <a:pt x="4762" y="14536"/>
                </a:cubicBezTo>
                <a:cubicBezTo>
                  <a:pt x="4801" y="14601"/>
                  <a:pt x="4917" y="14704"/>
                  <a:pt x="4986" y="14734"/>
                </a:cubicBezTo>
                <a:cubicBezTo>
                  <a:pt x="5075" y="14773"/>
                  <a:pt x="5173" y="14773"/>
                  <a:pt x="5259" y="14734"/>
                </a:cubicBezTo>
                <a:cubicBezTo>
                  <a:pt x="5305" y="14714"/>
                  <a:pt x="5339" y="14684"/>
                  <a:pt x="5383" y="14660"/>
                </a:cubicBezTo>
              </a:path>
              <a:path w="5830" h="2977">
                <a:moveTo>
                  <a:pt x="6028" y="13940"/>
                </a:moveTo>
                <a:cubicBezTo>
                  <a:pt x="5975" y="13878"/>
                  <a:pt x="5963" y="13883"/>
                  <a:pt x="5904" y="13891"/>
                </a:cubicBezTo>
                <a:cubicBezTo>
                  <a:pt x="5816" y="13904"/>
                  <a:pt x="5771" y="13926"/>
                  <a:pt x="5705" y="13990"/>
                </a:cubicBezTo>
                <a:cubicBezTo>
                  <a:pt x="5606" y="14086"/>
                  <a:pt x="5554" y="14162"/>
                  <a:pt x="5507" y="14288"/>
                </a:cubicBezTo>
                <a:cubicBezTo>
                  <a:pt x="5474" y="14376"/>
                  <a:pt x="5470" y="14451"/>
                  <a:pt x="5507" y="14536"/>
                </a:cubicBezTo>
                <a:cubicBezTo>
                  <a:pt x="5548" y="14629"/>
                  <a:pt x="5577" y="14630"/>
                  <a:pt x="5655" y="14684"/>
                </a:cubicBezTo>
                <a:cubicBezTo>
                  <a:pt x="5717" y="14727"/>
                  <a:pt x="5781" y="14711"/>
                  <a:pt x="5854" y="14684"/>
                </a:cubicBezTo>
                <a:cubicBezTo>
                  <a:pt x="5936" y="14654"/>
                  <a:pt x="5933" y="14601"/>
                  <a:pt x="5978" y="14536"/>
                </a:cubicBezTo>
                <a:cubicBezTo>
                  <a:pt x="6013" y="14485"/>
                  <a:pt x="6016" y="14375"/>
                  <a:pt x="6003" y="14312"/>
                </a:cubicBezTo>
                <a:cubicBezTo>
                  <a:pt x="5988" y="14243"/>
                  <a:pt x="5934" y="14154"/>
                  <a:pt x="5904" y="14089"/>
                </a:cubicBezTo>
                <a:cubicBezTo>
                  <a:pt x="5896" y="14072"/>
                  <a:pt x="5887" y="14056"/>
                  <a:pt x="5879" y="14039"/>
                </a:cubicBezTo>
              </a:path>
              <a:path w="5830" h="2977">
                <a:moveTo>
                  <a:pt x="6300" y="14015"/>
                </a:moveTo>
                <a:cubicBezTo>
                  <a:pt x="6256" y="14015"/>
                  <a:pt x="6243" y="14012"/>
                  <a:pt x="6226" y="14039"/>
                </a:cubicBezTo>
                <a:cubicBezTo>
                  <a:pt x="6255" y="14090"/>
                  <a:pt x="6283" y="14121"/>
                  <a:pt x="6325" y="14163"/>
                </a:cubicBezTo>
                <a:cubicBezTo>
                  <a:pt x="6378" y="14216"/>
                  <a:pt x="6438" y="14250"/>
                  <a:pt x="6474" y="14312"/>
                </a:cubicBezTo>
                <a:cubicBezTo>
                  <a:pt x="6510" y="14373"/>
                  <a:pt x="6556" y="14430"/>
                  <a:pt x="6598" y="14486"/>
                </a:cubicBezTo>
                <a:cubicBezTo>
                  <a:pt x="6651" y="14557"/>
                  <a:pt x="6628" y="14624"/>
                  <a:pt x="6573" y="14684"/>
                </a:cubicBezTo>
                <a:cubicBezTo>
                  <a:pt x="6524" y="14737"/>
                  <a:pt x="6504" y="14732"/>
                  <a:pt x="6449" y="14759"/>
                </a:cubicBezTo>
                <a:cubicBezTo>
                  <a:pt x="6391" y="14788"/>
                  <a:pt x="6341" y="14799"/>
                  <a:pt x="6276" y="14759"/>
                </a:cubicBezTo>
                <a:cubicBezTo>
                  <a:pt x="6224" y="14727"/>
                  <a:pt x="6209" y="14688"/>
                  <a:pt x="6201" y="14635"/>
                </a:cubicBezTo>
              </a:path>
              <a:path w="5830" h="2977">
                <a:moveTo>
                  <a:pt x="6846" y="14213"/>
                </a:moveTo>
                <a:cubicBezTo>
                  <a:pt x="6917" y="14290"/>
                  <a:pt x="6988" y="14375"/>
                  <a:pt x="7045" y="14461"/>
                </a:cubicBezTo>
                <a:cubicBezTo>
                  <a:pt x="7087" y="14525"/>
                  <a:pt x="7151" y="14572"/>
                  <a:pt x="7193" y="14635"/>
                </a:cubicBezTo>
                <a:cubicBezTo>
                  <a:pt x="7213" y="14665"/>
                  <a:pt x="7251" y="14747"/>
                  <a:pt x="7293" y="14759"/>
                </a:cubicBezTo>
                <a:cubicBezTo>
                  <a:pt x="7309" y="14759"/>
                  <a:pt x="7326" y="14759"/>
                  <a:pt x="7342" y="14759"/>
                </a:cubicBezTo>
              </a:path>
              <a:path w="5830" h="2977">
                <a:moveTo>
                  <a:pt x="7193" y="14163"/>
                </a:moveTo>
                <a:cubicBezTo>
                  <a:pt x="7160" y="14247"/>
                  <a:pt x="7112" y="14284"/>
                  <a:pt x="7069" y="14362"/>
                </a:cubicBezTo>
                <a:cubicBezTo>
                  <a:pt x="7033" y="14427"/>
                  <a:pt x="6986" y="14475"/>
                  <a:pt x="6945" y="14536"/>
                </a:cubicBezTo>
                <a:cubicBezTo>
                  <a:pt x="6925" y="14576"/>
                  <a:pt x="6927" y="14592"/>
                  <a:pt x="6896" y="14585"/>
                </a:cubicBezTo>
              </a:path>
              <a:path w="5830" h="2977">
                <a:moveTo>
                  <a:pt x="5383" y="12526"/>
                </a:moveTo>
                <a:cubicBezTo>
                  <a:pt x="5303" y="12606"/>
                  <a:pt x="5228" y="12686"/>
                  <a:pt x="5135" y="12750"/>
                </a:cubicBezTo>
                <a:cubicBezTo>
                  <a:pt x="5010" y="12836"/>
                  <a:pt x="4878" y="12927"/>
                  <a:pt x="4762" y="13022"/>
                </a:cubicBezTo>
                <a:cubicBezTo>
                  <a:pt x="4629" y="13131"/>
                  <a:pt x="4499" y="13230"/>
                  <a:pt x="4366" y="13345"/>
                </a:cubicBezTo>
              </a:path>
              <a:path w="5830" h="2977">
                <a:moveTo>
                  <a:pt x="7144" y="13146"/>
                </a:moveTo>
                <a:cubicBezTo>
                  <a:pt x="7069" y="13209"/>
                  <a:pt x="7002" y="13249"/>
                  <a:pt x="6921" y="13295"/>
                </a:cubicBezTo>
                <a:cubicBezTo>
                  <a:pt x="6807" y="13361"/>
                  <a:pt x="6714" y="13454"/>
                  <a:pt x="6598" y="13519"/>
                </a:cubicBezTo>
              </a:path>
              <a:path w="5830" h="2977">
                <a:moveTo>
                  <a:pt x="7392" y="12328"/>
                </a:moveTo>
                <a:cubicBezTo>
                  <a:pt x="7141" y="12479"/>
                  <a:pt x="6884" y="12624"/>
                  <a:pt x="6648" y="12799"/>
                </a:cubicBezTo>
                <a:cubicBezTo>
                  <a:pt x="6528" y="12895"/>
                  <a:pt x="6490" y="12926"/>
                  <a:pt x="6400" y="12973"/>
                </a:cubicBezTo>
              </a:path>
              <a:path w="5830" h="2977">
                <a:moveTo>
                  <a:pt x="6623" y="14015"/>
                </a:moveTo>
                <a:cubicBezTo>
                  <a:pt x="6530" y="14118"/>
                  <a:pt x="6451" y="14216"/>
                  <a:pt x="6350" y="14312"/>
                </a:cubicBezTo>
                <a:cubicBezTo>
                  <a:pt x="6061" y="14586"/>
                  <a:pt x="5685" y="14767"/>
                  <a:pt x="5407" y="15056"/>
                </a:cubicBezTo>
                <a:cubicBezTo>
                  <a:pt x="5341" y="15139"/>
                  <a:pt x="5275" y="15221"/>
                  <a:pt x="5209" y="15304"/>
                </a:cubicBezTo>
              </a:path>
              <a:path w="5830" h="2977">
                <a:moveTo>
                  <a:pt x="8905" y="13469"/>
                </a:moveTo>
                <a:cubicBezTo>
                  <a:pt x="9009" y="13469"/>
                  <a:pt x="9101" y="13490"/>
                  <a:pt x="9203" y="13494"/>
                </a:cubicBezTo>
                <a:cubicBezTo>
                  <a:pt x="9326" y="13499"/>
                  <a:pt x="9457" y="13533"/>
                  <a:pt x="9575" y="13568"/>
                </a:cubicBezTo>
                <a:cubicBezTo>
                  <a:pt x="9652" y="13591"/>
                  <a:pt x="9722" y="13625"/>
                  <a:pt x="9798" y="13643"/>
                </a:cubicBezTo>
                <a:cubicBezTo>
                  <a:pt x="9806" y="13643"/>
                  <a:pt x="9815" y="13643"/>
                  <a:pt x="9823" y="13643"/>
                </a:cubicBezTo>
              </a:path>
              <a:path w="5830" h="2977">
                <a:moveTo>
                  <a:pt x="10021" y="13022"/>
                </a:moveTo>
                <a:cubicBezTo>
                  <a:pt x="10045" y="13151"/>
                  <a:pt x="10081" y="13288"/>
                  <a:pt x="10096" y="13419"/>
                </a:cubicBezTo>
                <a:cubicBezTo>
                  <a:pt x="10113" y="13568"/>
                  <a:pt x="10142" y="13716"/>
                  <a:pt x="10145" y="13866"/>
                </a:cubicBezTo>
                <a:cubicBezTo>
                  <a:pt x="10149" y="14074"/>
                  <a:pt x="10184" y="14277"/>
                  <a:pt x="10195" y="14486"/>
                </a:cubicBezTo>
                <a:cubicBezTo>
                  <a:pt x="10203" y="14634"/>
                  <a:pt x="10195" y="14784"/>
                  <a:pt x="10195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0"/>
          <p:cNvSpPr/>
          <p:nvPr/>
        </p:nvSpPr>
        <p:spPr>
          <a:xfrm>
            <a:off x="1062000" y="4340160"/>
            <a:ext cx="1930320" cy="527040"/>
          </a:xfrm>
          <a:custGeom>
            <a:avLst/>
            <a:gdLst/>
            <a:ahLst/>
            <a:rect l="l" t="t" r="r" b="b"/>
            <a:pathLst>
              <a:path w="5359" h="1465">
                <a:moveTo>
                  <a:pt x="2952" y="12526"/>
                </a:moveTo>
                <a:cubicBezTo>
                  <a:pt x="3054" y="12499"/>
                  <a:pt x="3081" y="12514"/>
                  <a:pt x="3175" y="12526"/>
                </a:cubicBezTo>
                <a:cubicBezTo>
                  <a:pt x="3260" y="12537"/>
                  <a:pt x="3317" y="12520"/>
                  <a:pt x="3398" y="12551"/>
                </a:cubicBezTo>
              </a:path>
              <a:path w="5359" h="1465">
                <a:moveTo>
                  <a:pt x="3944" y="12452"/>
                </a:moveTo>
                <a:cubicBezTo>
                  <a:pt x="3899" y="12407"/>
                  <a:pt x="3850" y="12388"/>
                  <a:pt x="3795" y="12378"/>
                </a:cubicBezTo>
                <a:cubicBezTo>
                  <a:pt x="3746" y="12369"/>
                  <a:pt x="3661" y="12382"/>
                  <a:pt x="3621" y="12402"/>
                </a:cubicBezTo>
                <a:cubicBezTo>
                  <a:pt x="3613" y="12410"/>
                  <a:pt x="3605" y="12419"/>
                  <a:pt x="3597" y="12427"/>
                </a:cubicBezTo>
                <a:cubicBezTo>
                  <a:pt x="3610" y="12535"/>
                  <a:pt x="3639" y="12519"/>
                  <a:pt x="3721" y="12576"/>
                </a:cubicBezTo>
                <a:cubicBezTo>
                  <a:pt x="3791" y="12625"/>
                  <a:pt x="3848" y="12702"/>
                  <a:pt x="3919" y="12750"/>
                </a:cubicBezTo>
                <a:cubicBezTo>
                  <a:pt x="3959" y="12777"/>
                  <a:pt x="4004" y="12844"/>
                  <a:pt x="4018" y="12898"/>
                </a:cubicBezTo>
                <a:cubicBezTo>
                  <a:pt x="4033" y="12956"/>
                  <a:pt x="4029" y="13052"/>
                  <a:pt x="3994" y="13097"/>
                </a:cubicBezTo>
                <a:cubicBezTo>
                  <a:pt x="3953" y="13150"/>
                  <a:pt x="3910" y="13167"/>
                  <a:pt x="3845" y="13171"/>
                </a:cubicBezTo>
                <a:cubicBezTo>
                  <a:pt x="3754" y="13176"/>
                  <a:pt x="3664" y="13158"/>
                  <a:pt x="3597" y="13097"/>
                </a:cubicBezTo>
                <a:cubicBezTo>
                  <a:pt x="3553" y="13057"/>
                  <a:pt x="3555" y="13056"/>
                  <a:pt x="3547" y="12998"/>
                </a:cubicBezTo>
              </a:path>
              <a:path w="5359" h="1465">
                <a:moveTo>
                  <a:pt x="4192" y="12750"/>
                </a:moveTo>
                <a:cubicBezTo>
                  <a:pt x="4192" y="12854"/>
                  <a:pt x="4214" y="12927"/>
                  <a:pt x="4217" y="13022"/>
                </a:cubicBezTo>
                <a:cubicBezTo>
                  <a:pt x="4220" y="13106"/>
                  <a:pt x="4242" y="13165"/>
                  <a:pt x="4242" y="13246"/>
                </a:cubicBezTo>
              </a:path>
              <a:path w="5359" h="1465">
                <a:moveTo>
                  <a:pt x="4068" y="12278"/>
                </a:moveTo>
                <a:lnTo>
                  <a:pt x="4068" y="12278"/>
                </a:lnTo>
              </a:path>
              <a:path w="5359" h="1465">
                <a:moveTo>
                  <a:pt x="4366" y="12626"/>
                </a:moveTo>
                <a:cubicBezTo>
                  <a:pt x="4366" y="12725"/>
                  <a:pt x="4374" y="12814"/>
                  <a:pt x="4390" y="12898"/>
                </a:cubicBezTo>
                <a:cubicBezTo>
                  <a:pt x="4402" y="12959"/>
                  <a:pt x="4390" y="13035"/>
                  <a:pt x="4390" y="13097"/>
                </a:cubicBezTo>
                <a:cubicBezTo>
                  <a:pt x="4390" y="13008"/>
                  <a:pt x="4370" y="12936"/>
                  <a:pt x="4366" y="12849"/>
                </a:cubicBezTo>
                <a:cubicBezTo>
                  <a:pt x="4362" y="12757"/>
                  <a:pt x="4353" y="12660"/>
                  <a:pt x="4390" y="12576"/>
                </a:cubicBezTo>
                <a:cubicBezTo>
                  <a:pt x="4415" y="12519"/>
                  <a:pt x="4472" y="12475"/>
                  <a:pt x="4514" y="12427"/>
                </a:cubicBezTo>
                <a:cubicBezTo>
                  <a:pt x="4589" y="12342"/>
                  <a:pt x="4680" y="12403"/>
                  <a:pt x="4762" y="12452"/>
                </a:cubicBezTo>
                <a:cubicBezTo>
                  <a:pt x="4803" y="12477"/>
                  <a:pt x="4839" y="12538"/>
                  <a:pt x="4862" y="12576"/>
                </a:cubicBezTo>
                <a:cubicBezTo>
                  <a:pt x="4894" y="12629"/>
                  <a:pt x="4924" y="12738"/>
                  <a:pt x="4936" y="12799"/>
                </a:cubicBezTo>
                <a:cubicBezTo>
                  <a:pt x="4950" y="12872"/>
                  <a:pt x="4974" y="12951"/>
                  <a:pt x="4986" y="13022"/>
                </a:cubicBezTo>
                <a:cubicBezTo>
                  <a:pt x="4986" y="13067"/>
                  <a:pt x="4983" y="13080"/>
                  <a:pt x="5011" y="13097"/>
                </a:cubicBezTo>
              </a:path>
              <a:path w="5359" h="1465">
                <a:moveTo>
                  <a:pt x="5110" y="12526"/>
                </a:moveTo>
                <a:cubicBezTo>
                  <a:pt x="5174" y="12624"/>
                  <a:pt x="5277" y="12746"/>
                  <a:pt x="5333" y="12849"/>
                </a:cubicBezTo>
                <a:cubicBezTo>
                  <a:pt x="5390" y="12954"/>
                  <a:pt x="5449" y="13053"/>
                  <a:pt x="5531" y="13146"/>
                </a:cubicBezTo>
                <a:cubicBezTo>
                  <a:pt x="5562" y="13182"/>
                  <a:pt x="5585" y="13250"/>
                  <a:pt x="5631" y="13271"/>
                </a:cubicBezTo>
                <a:cubicBezTo>
                  <a:pt x="5639" y="13271"/>
                  <a:pt x="5647" y="13271"/>
                  <a:pt x="5655" y="13271"/>
                </a:cubicBezTo>
              </a:path>
              <a:path w="5359" h="1465">
                <a:moveTo>
                  <a:pt x="5581" y="12576"/>
                </a:moveTo>
                <a:cubicBezTo>
                  <a:pt x="5521" y="12660"/>
                  <a:pt x="5467" y="12743"/>
                  <a:pt x="5407" y="12824"/>
                </a:cubicBezTo>
                <a:cubicBezTo>
                  <a:pt x="5319" y="12943"/>
                  <a:pt x="5284" y="13088"/>
                  <a:pt x="5184" y="13196"/>
                </a:cubicBezTo>
                <a:cubicBezTo>
                  <a:pt x="5154" y="13226"/>
                  <a:pt x="5143" y="13240"/>
                  <a:pt x="5135" y="13271"/>
                </a:cubicBezTo>
              </a:path>
              <a:path w="5359" h="1465">
                <a:moveTo>
                  <a:pt x="6474" y="12154"/>
                </a:moveTo>
                <a:cubicBezTo>
                  <a:pt x="6465" y="12117"/>
                  <a:pt x="6446" y="12093"/>
                  <a:pt x="6424" y="12055"/>
                </a:cubicBezTo>
                <a:cubicBezTo>
                  <a:pt x="6367" y="12084"/>
                  <a:pt x="6300" y="12114"/>
                  <a:pt x="6251" y="12154"/>
                </a:cubicBezTo>
                <a:cubicBezTo>
                  <a:pt x="6185" y="12208"/>
                  <a:pt x="6173" y="12261"/>
                  <a:pt x="6127" y="12328"/>
                </a:cubicBezTo>
                <a:cubicBezTo>
                  <a:pt x="6104" y="12362"/>
                  <a:pt x="6066" y="12432"/>
                  <a:pt x="6077" y="12477"/>
                </a:cubicBezTo>
                <a:cubicBezTo>
                  <a:pt x="6094" y="12547"/>
                  <a:pt x="6158" y="12626"/>
                  <a:pt x="6226" y="12650"/>
                </a:cubicBezTo>
                <a:cubicBezTo>
                  <a:pt x="6274" y="12667"/>
                  <a:pt x="6321" y="12675"/>
                  <a:pt x="6375" y="12675"/>
                </a:cubicBezTo>
              </a:path>
              <a:path w="5359" h="1465">
                <a:moveTo>
                  <a:pt x="6796" y="12129"/>
                </a:moveTo>
                <a:cubicBezTo>
                  <a:pt x="6733" y="12163"/>
                  <a:pt x="6642" y="12196"/>
                  <a:pt x="6623" y="12278"/>
                </a:cubicBezTo>
                <a:cubicBezTo>
                  <a:pt x="6612" y="12324"/>
                  <a:pt x="6569" y="12434"/>
                  <a:pt x="6573" y="12477"/>
                </a:cubicBezTo>
                <a:cubicBezTo>
                  <a:pt x="6577" y="12521"/>
                  <a:pt x="6624" y="12619"/>
                  <a:pt x="6648" y="12650"/>
                </a:cubicBezTo>
                <a:cubicBezTo>
                  <a:pt x="6690" y="12703"/>
                  <a:pt x="6729" y="12721"/>
                  <a:pt x="6796" y="12725"/>
                </a:cubicBezTo>
                <a:cubicBezTo>
                  <a:pt x="6870" y="12729"/>
                  <a:pt x="6911" y="12720"/>
                  <a:pt x="6970" y="12675"/>
                </a:cubicBezTo>
                <a:cubicBezTo>
                  <a:pt x="7022" y="12636"/>
                  <a:pt x="7056" y="12591"/>
                  <a:pt x="7069" y="12526"/>
                </a:cubicBezTo>
                <a:cubicBezTo>
                  <a:pt x="7083" y="12453"/>
                  <a:pt x="7094" y="12425"/>
                  <a:pt x="7045" y="12353"/>
                </a:cubicBezTo>
                <a:cubicBezTo>
                  <a:pt x="7012" y="12305"/>
                  <a:pt x="6982" y="12290"/>
                  <a:pt x="6970" y="12229"/>
                </a:cubicBezTo>
              </a:path>
              <a:path w="5359" h="1465">
                <a:moveTo>
                  <a:pt x="7441" y="12179"/>
                </a:moveTo>
                <a:cubicBezTo>
                  <a:pt x="7397" y="12179"/>
                  <a:pt x="7383" y="12176"/>
                  <a:pt x="7367" y="12204"/>
                </a:cubicBezTo>
                <a:cubicBezTo>
                  <a:pt x="7408" y="12245"/>
                  <a:pt x="7445" y="12269"/>
                  <a:pt x="7491" y="12303"/>
                </a:cubicBezTo>
                <a:cubicBezTo>
                  <a:pt x="7583" y="12372"/>
                  <a:pt x="7608" y="12380"/>
                  <a:pt x="7665" y="12477"/>
                </a:cubicBezTo>
                <a:cubicBezTo>
                  <a:pt x="7707" y="12548"/>
                  <a:pt x="7721" y="12552"/>
                  <a:pt x="7665" y="12626"/>
                </a:cubicBezTo>
                <a:cubicBezTo>
                  <a:pt x="7595" y="12719"/>
                  <a:pt x="7461" y="12656"/>
                  <a:pt x="7392" y="12601"/>
                </a:cubicBezTo>
              </a:path>
              <a:path w="5359" h="1465">
                <a:moveTo>
                  <a:pt x="6152" y="12824"/>
                </a:moveTo>
                <a:cubicBezTo>
                  <a:pt x="6328" y="12824"/>
                  <a:pt x="6504" y="12832"/>
                  <a:pt x="6672" y="12849"/>
                </a:cubicBezTo>
                <a:cubicBezTo>
                  <a:pt x="6821" y="12864"/>
                  <a:pt x="6970" y="12881"/>
                  <a:pt x="7119" y="12898"/>
                </a:cubicBezTo>
                <a:cubicBezTo>
                  <a:pt x="7216" y="12909"/>
                  <a:pt x="7320" y="12918"/>
                  <a:pt x="7417" y="12923"/>
                </a:cubicBezTo>
                <a:cubicBezTo>
                  <a:pt x="7494" y="12927"/>
                  <a:pt x="7561" y="12948"/>
                  <a:pt x="7640" y="12948"/>
                </a:cubicBezTo>
                <a:cubicBezTo>
                  <a:pt x="7656" y="12948"/>
                  <a:pt x="7673" y="12948"/>
                  <a:pt x="7689" y="12948"/>
                </a:cubicBezTo>
              </a:path>
              <a:path w="5359" h="1465">
                <a:moveTo>
                  <a:pt x="6474" y="13097"/>
                </a:moveTo>
                <a:cubicBezTo>
                  <a:pt x="6370" y="13064"/>
                  <a:pt x="6333" y="13031"/>
                  <a:pt x="6251" y="13097"/>
                </a:cubicBezTo>
                <a:cubicBezTo>
                  <a:pt x="6243" y="13105"/>
                  <a:pt x="6234" y="13114"/>
                  <a:pt x="6226" y="13122"/>
                </a:cubicBezTo>
                <a:cubicBezTo>
                  <a:pt x="6283" y="13166"/>
                  <a:pt x="6334" y="13173"/>
                  <a:pt x="6400" y="13196"/>
                </a:cubicBezTo>
                <a:cubicBezTo>
                  <a:pt x="6471" y="13221"/>
                  <a:pt x="6541" y="13244"/>
                  <a:pt x="6598" y="13295"/>
                </a:cubicBezTo>
                <a:cubicBezTo>
                  <a:pt x="6662" y="13352"/>
                  <a:pt x="6698" y="13387"/>
                  <a:pt x="6648" y="13469"/>
                </a:cubicBezTo>
                <a:cubicBezTo>
                  <a:pt x="6611" y="13530"/>
                  <a:pt x="6561" y="13519"/>
                  <a:pt x="6499" y="13519"/>
                </a:cubicBezTo>
                <a:cubicBezTo>
                  <a:pt x="6451" y="13519"/>
                  <a:pt x="6345" y="13539"/>
                  <a:pt x="6325" y="13469"/>
                </a:cubicBezTo>
                <a:cubicBezTo>
                  <a:pt x="6325" y="13452"/>
                  <a:pt x="6325" y="13436"/>
                  <a:pt x="6325" y="13419"/>
                </a:cubicBezTo>
              </a:path>
              <a:path w="5359" h="1465">
                <a:moveTo>
                  <a:pt x="6896" y="13295"/>
                </a:moveTo>
                <a:cubicBezTo>
                  <a:pt x="6922" y="13365"/>
                  <a:pt x="6921" y="13418"/>
                  <a:pt x="6921" y="13494"/>
                </a:cubicBezTo>
              </a:path>
              <a:path w="5359" h="1465">
                <a:moveTo>
                  <a:pt x="6821" y="12973"/>
                </a:moveTo>
                <a:cubicBezTo>
                  <a:pt x="6829" y="12965"/>
                  <a:pt x="6838" y="12956"/>
                  <a:pt x="6846" y="12948"/>
                </a:cubicBezTo>
              </a:path>
              <a:path w="5359" h="1465">
                <a:moveTo>
                  <a:pt x="7119" y="13122"/>
                </a:moveTo>
                <a:cubicBezTo>
                  <a:pt x="7119" y="13194"/>
                  <a:pt x="7122" y="13258"/>
                  <a:pt x="7144" y="13320"/>
                </a:cubicBezTo>
                <a:cubicBezTo>
                  <a:pt x="7167" y="13384"/>
                  <a:pt x="7169" y="13587"/>
                  <a:pt x="7169" y="13519"/>
                </a:cubicBezTo>
                <a:cubicBezTo>
                  <a:pt x="7169" y="13289"/>
                  <a:pt x="7106" y="13165"/>
                  <a:pt x="7342" y="13047"/>
                </a:cubicBezTo>
                <a:cubicBezTo>
                  <a:pt x="7412" y="13012"/>
                  <a:pt x="7451" y="13083"/>
                  <a:pt x="7491" y="13122"/>
                </a:cubicBezTo>
                <a:cubicBezTo>
                  <a:pt x="7589" y="13218"/>
                  <a:pt x="7598" y="13307"/>
                  <a:pt x="7615" y="13444"/>
                </a:cubicBezTo>
                <a:cubicBezTo>
                  <a:pt x="7615" y="13489"/>
                  <a:pt x="7612" y="13502"/>
                  <a:pt x="7640" y="13519"/>
                </a:cubicBezTo>
              </a:path>
              <a:path w="5359" h="1465">
                <a:moveTo>
                  <a:pt x="7938" y="12725"/>
                </a:moveTo>
                <a:cubicBezTo>
                  <a:pt x="7992" y="12858"/>
                  <a:pt x="7993" y="12871"/>
                  <a:pt x="8086" y="12948"/>
                </a:cubicBezTo>
                <a:cubicBezTo>
                  <a:pt x="8138" y="12991"/>
                  <a:pt x="8163" y="13049"/>
                  <a:pt x="8210" y="13097"/>
                </a:cubicBezTo>
                <a:cubicBezTo>
                  <a:pt x="8253" y="13141"/>
                  <a:pt x="8249" y="13138"/>
                  <a:pt x="8310" y="13146"/>
                </a:cubicBezTo>
              </a:path>
              <a:path w="5359" h="1465">
                <a:moveTo>
                  <a:pt x="8235" y="12626"/>
                </a:moveTo>
                <a:cubicBezTo>
                  <a:pt x="8203" y="12665"/>
                  <a:pt x="8164" y="12708"/>
                  <a:pt x="8136" y="12750"/>
                </a:cubicBezTo>
                <a:cubicBezTo>
                  <a:pt x="8097" y="12809"/>
                  <a:pt x="8048" y="12863"/>
                  <a:pt x="8012" y="12923"/>
                </a:cubicBezTo>
                <a:cubicBezTo>
                  <a:pt x="7980" y="12976"/>
                  <a:pt x="7972" y="13029"/>
                  <a:pt x="7938" y="13072"/>
                </a:cubicBezTo>
                <a:cubicBezTo>
                  <a:pt x="7930" y="13080"/>
                  <a:pt x="7921" y="13089"/>
                  <a:pt x="7913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1"/>
          <p:cNvSpPr/>
          <p:nvPr/>
        </p:nvSpPr>
        <p:spPr>
          <a:xfrm>
            <a:off x="1312920" y="4857840"/>
            <a:ext cx="1768320" cy="63360"/>
          </a:xfrm>
          <a:custGeom>
            <a:avLst/>
            <a:gdLst/>
            <a:ahLst/>
            <a:rect l="l" t="t" r="r" b="b"/>
            <a:pathLst>
              <a:path w="4913" h="174">
                <a:moveTo>
                  <a:pt x="3646" y="13494"/>
                </a:moveTo>
                <a:cubicBezTo>
                  <a:pt x="3700" y="13507"/>
                  <a:pt x="3751" y="13527"/>
                  <a:pt x="3820" y="13519"/>
                </a:cubicBezTo>
                <a:cubicBezTo>
                  <a:pt x="3904" y="13509"/>
                  <a:pt x="3975" y="13494"/>
                  <a:pt x="4068" y="13494"/>
                </a:cubicBezTo>
                <a:cubicBezTo>
                  <a:pt x="4861" y="13494"/>
                  <a:pt x="5659" y="13469"/>
                  <a:pt x="6449" y="13519"/>
                </a:cubicBezTo>
                <a:cubicBezTo>
                  <a:pt x="6623" y="13530"/>
                  <a:pt x="6798" y="13529"/>
                  <a:pt x="6970" y="13543"/>
                </a:cubicBezTo>
                <a:cubicBezTo>
                  <a:pt x="7106" y="13554"/>
                  <a:pt x="7232" y="13547"/>
                  <a:pt x="7367" y="13568"/>
                </a:cubicBezTo>
                <a:cubicBezTo>
                  <a:pt x="7482" y="13586"/>
                  <a:pt x="7599" y="13579"/>
                  <a:pt x="7714" y="13593"/>
                </a:cubicBezTo>
                <a:cubicBezTo>
                  <a:pt x="7813" y="13605"/>
                  <a:pt x="7913" y="13603"/>
                  <a:pt x="8012" y="13618"/>
                </a:cubicBezTo>
                <a:cubicBezTo>
                  <a:pt x="8145" y="13638"/>
                  <a:pt x="8279" y="13658"/>
                  <a:pt x="8409" y="13667"/>
                </a:cubicBezTo>
                <a:cubicBezTo>
                  <a:pt x="8463" y="13671"/>
                  <a:pt x="8542" y="13646"/>
                  <a:pt x="8558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(1-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4"/>
          <p:cNvSpPr/>
          <p:nvPr/>
        </p:nvSpPr>
        <p:spPr>
          <a:xfrm>
            <a:off x="2017800" y="2116080"/>
            <a:ext cx="1206360" cy="44784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6524" y="6375"/>
                </a:moveTo>
                <a:cubicBezTo>
                  <a:pt x="6457" y="6335"/>
                  <a:pt x="6426" y="6371"/>
                  <a:pt x="6350" y="6375"/>
                </a:cubicBezTo>
                <a:cubicBezTo>
                  <a:pt x="6278" y="6379"/>
                  <a:pt x="6221" y="6413"/>
                  <a:pt x="6152" y="6424"/>
                </a:cubicBezTo>
                <a:cubicBezTo>
                  <a:pt x="6085" y="6435"/>
                  <a:pt x="6065" y="6463"/>
                  <a:pt x="6003" y="6499"/>
                </a:cubicBezTo>
                <a:cubicBezTo>
                  <a:pt x="6054" y="6550"/>
                  <a:pt x="6065" y="6551"/>
                  <a:pt x="6127" y="6573"/>
                </a:cubicBezTo>
                <a:cubicBezTo>
                  <a:pt x="6205" y="6601"/>
                  <a:pt x="6257" y="6662"/>
                  <a:pt x="6325" y="6697"/>
                </a:cubicBezTo>
                <a:cubicBezTo>
                  <a:pt x="6403" y="6737"/>
                  <a:pt x="6507" y="6748"/>
                  <a:pt x="6499" y="6871"/>
                </a:cubicBezTo>
                <a:cubicBezTo>
                  <a:pt x="6495" y="6929"/>
                  <a:pt x="6336" y="6943"/>
                  <a:pt x="6300" y="6945"/>
                </a:cubicBezTo>
                <a:cubicBezTo>
                  <a:pt x="6244" y="6948"/>
                  <a:pt x="6124" y="6973"/>
                  <a:pt x="6102" y="6896"/>
                </a:cubicBezTo>
                <a:cubicBezTo>
                  <a:pt x="6102" y="6854"/>
                  <a:pt x="6102" y="6846"/>
                  <a:pt x="6102" y="6821"/>
                </a:cubicBezTo>
              </a:path>
              <a:path w="3349" h="1241">
                <a:moveTo>
                  <a:pt x="6896" y="6499"/>
                </a:moveTo>
                <a:cubicBezTo>
                  <a:pt x="6896" y="6596"/>
                  <a:pt x="6882" y="6682"/>
                  <a:pt x="6871" y="6772"/>
                </a:cubicBezTo>
                <a:cubicBezTo>
                  <a:pt x="6860" y="6858"/>
                  <a:pt x="6867" y="6942"/>
                  <a:pt x="6896" y="7020"/>
                </a:cubicBezTo>
                <a:cubicBezTo>
                  <a:pt x="6928" y="6956"/>
                  <a:pt x="6940" y="6925"/>
                  <a:pt x="6945" y="6871"/>
                </a:cubicBezTo>
              </a:path>
              <a:path w="3349" h="1241">
                <a:moveTo>
                  <a:pt x="6970" y="6201"/>
                </a:moveTo>
                <a:cubicBezTo>
                  <a:pt x="6987" y="6185"/>
                  <a:pt x="7003" y="6168"/>
                  <a:pt x="7020" y="6152"/>
                </a:cubicBezTo>
              </a:path>
              <a:path w="3349" h="1241">
                <a:moveTo>
                  <a:pt x="7169" y="6697"/>
                </a:moveTo>
                <a:cubicBezTo>
                  <a:pt x="7169" y="6763"/>
                  <a:pt x="7169" y="6830"/>
                  <a:pt x="7169" y="6896"/>
                </a:cubicBezTo>
                <a:cubicBezTo>
                  <a:pt x="7169" y="6815"/>
                  <a:pt x="7190" y="6769"/>
                  <a:pt x="7193" y="6697"/>
                </a:cubicBezTo>
                <a:cubicBezTo>
                  <a:pt x="7197" y="6612"/>
                  <a:pt x="7229" y="6577"/>
                  <a:pt x="7268" y="6499"/>
                </a:cubicBezTo>
                <a:cubicBezTo>
                  <a:pt x="7304" y="6427"/>
                  <a:pt x="7338" y="6345"/>
                  <a:pt x="7441" y="6375"/>
                </a:cubicBezTo>
                <a:cubicBezTo>
                  <a:pt x="7495" y="6391"/>
                  <a:pt x="7602" y="6487"/>
                  <a:pt x="7615" y="6548"/>
                </a:cubicBezTo>
                <a:cubicBezTo>
                  <a:pt x="7634" y="6638"/>
                  <a:pt x="7640" y="6726"/>
                  <a:pt x="7640" y="6821"/>
                </a:cubicBezTo>
                <a:cubicBezTo>
                  <a:pt x="7640" y="6904"/>
                  <a:pt x="7619" y="6948"/>
                  <a:pt x="7615" y="7020"/>
                </a:cubicBezTo>
                <a:cubicBezTo>
                  <a:pt x="7607" y="7157"/>
                  <a:pt x="7638" y="6951"/>
                  <a:pt x="7640" y="6945"/>
                </a:cubicBezTo>
              </a:path>
              <a:path w="3349" h="1241">
                <a:moveTo>
                  <a:pt x="7888" y="5978"/>
                </a:moveTo>
                <a:cubicBezTo>
                  <a:pt x="7952" y="5922"/>
                  <a:pt x="8017" y="5861"/>
                  <a:pt x="8111" y="5879"/>
                </a:cubicBezTo>
                <a:cubicBezTo>
                  <a:pt x="8206" y="5897"/>
                  <a:pt x="8192" y="5967"/>
                  <a:pt x="8161" y="6028"/>
                </a:cubicBezTo>
                <a:cubicBezTo>
                  <a:pt x="8127" y="6095"/>
                  <a:pt x="8067" y="6131"/>
                  <a:pt x="8012" y="6176"/>
                </a:cubicBezTo>
                <a:cubicBezTo>
                  <a:pt x="7987" y="6201"/>
                  <a:pt x="7979" y="6209"/>
                  <a:pt x="7962" y="6226"/>
                </a:cubicBezTo>
                <a:cubicBezTo>
                  <a:pt x="8033" y="6311"/>
                  <a:pt x="8119" y="6259"/>
                  <a:pt x="8235" y="6251"/>
                </a:cubicBezTo>
              </a:path>
              <a:path w="3349" h="1241">
                <a:moveTo>
                  <a:pt x="8458" y="6499"/>
                </a:moveTo>
                <a:cubicBezTo>
                  <a:pt x="8458" y="6612"/>
                  <a:pt x="8458" y="6673"/>
                  <a:pt x="8508" y="6772"/>
                </a:cubicBezTo>
                <a:cubicBezTo>
                  <a:pt x="8545" y="6845"/>
                  <a:pt x="8581" y="6935"/>
                  <a:pt x="8657" y="6970"/>
                </a:cubicBezTo>
                <a:cubicBezTo>
                  <a:pt x="8734" y="7005"/>
                  <a:pt x="8791" y="7083"/>
                  <a:pt x="8880" y="7069"/>
                </a:cubicBezTo>
                <a:cubicBezTo>
                  <a:pt x="8905" y="7061"/>
                  <a:pt x="8929" y="7053"/>
                  <a:pt x="8954" y="7045"/>
                </a:cubicBezTo>
              </a:path>
              <a:path w="3349" h="1241">
                <a:moveTo>
                  <a:pt x="8930" y="6573"/>
                </a:moveTo>
                <a:cubicBezTo>
                  <a:pt x="8741" y="6664"/>
                  <a:pt x="8568" y="6771"/>
                  <a:pt x="8384" y="6871"/>
                </a:cubicBezTo>
                <a:cubicBezTo>
                  <a:pt x="8283" y="6926"/>
                  <a:pt x="8207" y="6965"/>
                  <a:pt x="8136" y="7045"/>
                </a:cubicBezTo>
                <a:cubicBezTo>
                  <a:pt x="8090" y="7091"/>
                  <a:pt x="8077" y="7105"/>
                  <a:pt x="8037" y="7119"/>
                </a:cubicBezTo>
              </a:path>
              <a:path w="3349" h="1241">
                <a:moveTo>
                  <a:pt x="5631" y="6995"/>
                </a:moveTo>
                <a:cubicBezTo>
                  <a:pt x="5704" y="7048"/>
                  <a:pt x="5671" y="7054"/>
                  <a:pt x="5730" y="6995"/>
                </a:cubicBezTo>
                <a:cubicBezTo>
                  <a:pt x="5696" y="6978"/>
                  <a:pt x="5637" y="6991"/>
                  <a:pt x="5606" y="7045"/>
                </a:cubicBezTo>
                <a:cubicBezTo>
                  <a:pt x="5606" y="7053"/>
                  <a:pt x="5606" y="7061"/>
                  <a:pt x="5606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5"/>
          <p:cNvSpPr/>
          <p:nvPr/>
        </p:nvSpPr>
        <p:spPr>
          <a:xfrm>
            <a:off x="1000080" y="2241720"/>
            <a:ext cx="777960" cy="785520"/>
          </a:xfrm>
          <a:custGeom>
            <a:avLst/>
            <a:gdLst/>
            <a:ahLst/>
            <a:rect l="l" t="t" r="r" b="b"/>
            <a:pathLst>
              <a:path w="2159" h="2184">
                <a:moveTo>
                  <a:pt x="3721" y="6226"/>
                </a:moveTo>
                <a:cubicBezTo>
                  <a:pt x="3714" y="6324"/>
                  <a:pt x="3683" y="6406"/>
                  <a:pt x="3671" y="6499"/>
                </a:cubicBezTo>
                <a:cubicBezTo>
                  <a:pt x="3654" y="6630"/>
                  <a:pt x="3712" y="6811"/>
                  <a:pt x="3646" y="6921"/>
                </a:cubicBezTo>
              </a:path>
              <a:path w="2159" h="2184">
                <a:moveTo>
                  <a:pt x="2803" y="7045"/>
                </a:moveTo>
                <a:cubicBezTo>
                  <a:pt x="3295" y="7045"/>
                  <a:pt x="3807" y="7008"/>
                  <a:pt x="4291" y="7069"/>
                </a:cubicBezTo>
                <a:cubicBezTo>
                  <a:pt x="4333" y="7069"/>
                  <a:pt x="4358" y="7069"/>
                  <a:pt x="4316" y="7069"/>
                </a:cubicBezTo>
              </a:path>
              <a:path w="2159" h="2184">
                <a:moveTo>
                  <a:pt x="3175" y="7392"/>
                </a:moveTo>
                <a:cubicBezTo>
                  <a:pt x="3104" y="7364"/>
                  <a:pt x="3031" y="7426"/>
                  <a:pt x="2952" y="7466"/>
                </a:cubicBezTo>
                <a:cubicBezTo>
                  <a:pt x="2900" y="7492"/>
                  <a:pt x="2846" y="7526"/>
                  <a:pt x="2803" y="7565"/>
                </a:cubicBezTo>
                <a:cubicBezTo>
                  <a:pt x="2754" y="7609"/>
                  <a:pt x="2779" y="7657"/>
                  <a:pt x="2828" y="7689"/>
                </a:cubicBezTo>
                <a:cubicBezTo>
                  <a:pt x="2904" y="7738"/>
                  <a:pt x="2974" y="7790"/>
                  <a:pt x="3051" y="7838"/>
                </a:cubicBezTo>
                <a:cubicBezTo>
                  <a:pt x="3129" y="7886"/>
                  <a:pt x="3256" y="7984"/>
                  <a:pt x="3175" y="8086"/>
                </a:cubicBezTo>
                <a:cubicBezTo>
                  <a:pt x="3141" y="8129"/>
                  <a:pt x="3027" y="8176"/>
                  <a:pt x="2977" y="8186"/>
                </a:cubicBezTo>
                <a:cubicBezTo>
                  <a:pt x="2945" y="8192"/>
                  <a:pt x="2800" y="8201"/>
                  <a:pt x="2803" y="8136"/>
                </a:cubicBezTo>
                <a:cubicBezTo>
                  <a:pt x="2811" y="8111"/>
                  <a:pt x="2820" y="8087"/>
                  <a:pt x="2828" y="8062"/>
                </a:cubicBezTo>
              </a:path>
              <a:path w="2159" h="2184">
                <a:moveTo>
                  <a:pt x="3423" y="7689"/>
                </a:moveTo>
                <a:cubicBezTo>
                  <a:pt x="3417" y="7830"/>
                  <a:pt x="3386" y="7929"/>
                  <a:pt x="3373" y="8062"/>
                </a:cubicBezTo>
                <a:cubicBezTo>
                  <a:pt x="3370" y="8093"/>
                  <a:pt x="3398" y="8286"/>
                  <a:pt x="3423" y="8161"/>
                </a:cubicBezTo>
              </a:path>
              <a:path w="2159" h="2184">
                <a:moveTo>
                  <a:pt x="3473" y="7491"/>
                </a:moveTo>
                <a:lnTo>
                  <a:pt x="3473" y="7491"/>
                </a:lnTo>
              </a:path>
              <a:path w="2159" h="2184">
                <a:moveTo>
                  <a:pt x="3621" y="7938"/>
                </a:moveTo>
                <a:cubicBezTo>
                  <a:pt x="3640" y="8072"/>
                  <a:pt x="3631" y="8094"/>
                  <a:pt x="3671" y="8161"/>
                </a:cubicBezTo>
                <a:cubicBezTo>
                  <a:pt x="3671" y="8064"/>
                  <a:pt x="3687" y="7981"/>
                  <a:pt x="3696" y="7888"/>
                </a:cubicBezTo>
                <a:cubicBezTo>
                  <a:pt x="3703" y="7812"/>
                  <a:pt x="3696" y="7718"/>
                  <a:pt x="3770" y="7665"/>
                </a:cubicBezTo>
                <a:cubicBezTo>
                  <a:pt x="3810" y="7637"/>
                  <a:pt x="3835" y="7625"/>
                  <a:pt x="3870" y="7590"/>
                </a:cubicBezTo>
                <a:cubicBezTo>
                  <a:pt x="3931" y="7640"/>
                  <a:pt x="3958" y="7665"/>
                  <a:pt x="3994" y="7739"/>
                </a:cubicBezTo>
                <a:cubicBezTo>
                  <a:pt x="4041" y="7835"/>
                  <a:pt x="4018" y="7956"/>
                  <a:pt x="4018" y="8062"/>
                </a:cubicBezTo>
                <a:cubicBezTo>
                  <a:pt x="4018" y="8095"/>
                  <a:pt x="4018" y="8337"/>
                  <a:pt x="4018" y="8210"/>
                </a:cubicBezTo>
              </a:path>
              <a:path w="2159" h="2184">
                <a:moveTo>
                  <a:pt x="4118" y="7367"/>
                </a:moveTo>
                <a:cubicBezTo>
                  <a:pt x="4164" y="7329"/>
                  <a:pt x="4252" y="7234"/>
                  <a:pt x="4316" y="7317"/>
                </a:cubicBezTo>
                <a:cubicBezTo>
                  <a:pt x="4358" y="7371"/>
                  <a:pt x="4327" y="7470"/>
                  <a:pt x="4291" y="7516"/>
                </a:cubicBezTo>
                <a:cubicBezTo>
                  <a:pt x="4254" y="7562"/>
                  <a:pt x="4193" y="7609"/>
                  <a:pt x="4291" y="7640"/>
                </a:cubicBezTo>
                <a:cubicBezTo>
                  <a:pt x="4354" y="7660"/>
                  <a:pt x="4457" y="7628"/>
                  <a:pt x="4514" y="7615"/>
                </a:cubicBezTo>
              </a:path>
              <a:path w="2159" h="2184">
                <a:moveTo>
                  <a:pt x="4539" y="7813"/>
                </a:moveTo>
                <a:cubicBezTo>
                  <a:pt x="4558" y="7899"/>
                  <a:pt x="4563" y="8004"/>
                  <a:pt x="4589" y="8086"/>
                </a:cubicBezTo>
                <a:cubicBezTo>
                  <a:pt x="4612" y="8157"/>
                  <a:pt x="4662" y="8239"/>
                  <a:pt x="4738" y="8260"/>
                </a:cubicBezTo>
                <a:cubicBezTo>
                  <a:pt x="4797" y="8277"/>
                  <a:pt x="4844" y="8285"/>
                  <a:pt x="4911" y="8285"/>
                </a:cubicBezTo>
                <a:cubicBezTo>
                  <a:pt x="4919" y="8285"/>
                  <a:pt x="4928" y="8285"/>
                  <a:pt x="4936" y="8285"/>
                </a:cubicBezTo>
              </a:path>
              <a:path w="2159" h="2184">
                <a:moveTo>
                  <a:pt x="4887" y="7813"/>
                </a:moveTo>
                <a:cubicBezTo>
                  <a:pt x="4800" y="7925"/>
                  <a:pt x="4663" y="8043"/>
                  <a:pt x="4589" y="8161"/>
                </a:cubicBezTo>
                <a:cubicBezTo>
                  <a:pt x="4534" y="8248"/>
                  <a:pt x="4476" y="8280"/>
                  <a:pt x="4415" y="8359"/>
                </a:cubicBezTo>
                <a:cubicBezTo>
                  <a:pt x="4407" y="8376"/>
                  <a:pt x="4398" y="8392"/>
                  <a:pt x="4390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6"/>
          <p:cNvSpPr/>
          <p:nvPr/>
        </p:nvSpPr>
        <p:spPr>
          <a:xfrm>
            <a:off x="2000160" y="3562200"/>
            <a:ext cx="9720" cy="366840"/>
          </a:xfrm>
          <a:custGeom>
            <a:avLst/>
            <a:gdLst/>
            <a:ahLst/>
            <a:rect l="l" t="t" r="r" b="b"/>
            <a:pathLst>
              <a:path w="26" h="1018">
                <a:moveTo>
                  <a:pt x="5581" y="9897"/>
                </a:moveTo>
                <a:cubicBezTo>
                  <a:pt x="5581" y="9971"/>
                  <a:pt x="5559" y="10025"/>
                  <a:pt x="5556" y="10096"/>
                </a:cubicBezTo>
                <a:cubicBezTo>
                  <a:pt x="5545" y="10336"/>
                  <a:pt x="5515" y="10668"/>
                  <a:pt x="5581" y="10889"/>
                </a:cubicBezTo>
                <a:cubicBezTo>
                  <a:pt x="5581" y="10897"/>
                  <a:pt x="5581" y="10906"/>
                  <a:pt x="5581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Vide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3098880" y="1465200"/>
            <a:ext cx="2170080" cy="490680"/>
          </a:xfrm>
          <a:custGeom>
            <a:avLst/>
            <a:gdLst/>
            <a:ahLst/>
            <a:rect l="l" t="t" r="r" b="b"/>
            <a:pathLst>
              <a:path w="6029" h="1365">
                <a:moveTo>
                  <a:pt x="9054" y="4762"/>
                </a:moveTo>
                <a:cubicBezTo>
                  <a:pt x="9084" y="4822"/>
                  <a:pt x="9097" y="4885"/>
                  <a:pt x="9128" y="4936"/>
                </a:cubicBezTo>
                <a:cubicBezTo>
                  <a:pt x="9120" y="4873"/>
                  <a:pt x="9113" y="4794"/>
                  <a:pt x="9079" y="4738"/>
                </a:cubicBezTo>
                <a:cubicBezTo>
                  <a:pt x="9062" y="4710"/>
                  <a:pt x="8989" y="4636"/>
                  <a:pt x="8954" y="4638"/>
                </a:cubicBezTo>
                <a:cubicBezTo>
                  <a:pt x="8867" y="4642"/>
                  <a:pt x="8798" y="4693"/>
                  <a:pt x="8756" y="4762"/>
                </a:cubicBezTo>
                <a:cubicBezTo>
                  <a:pt x="8720" y="4821"/>
                  <a:pt x="8660" y="4875"/>
                  <a:pt x="8632" y="4936"/>
                </a:cubicBezTo>
                <a:cubicBezTo>
                  <a:pt x="8599" y="5010"/>
                  <a:pt x="8607" y="5081"/>
                  <a:pt x="8607" y="5159"/>
                </a:cubicBezTo>
                <a:cubicBezTo>
                  <a:pt x="8607" y="5245"/>
                  <a:pt x="8649" y="5275"/>
                  <a:pt x="8706" y="5333"/>
                </a:cubicBezTo>
                <a:cubicBezTo>
                  <a:pt x="8777" y="5405"/>
                  <a:pt x="8825" y="5428"/>
                  <a:pt x="8930" y="5432"/>
                </a:cubicBezTo>
                <a:cubicBezTo>
                  <a:pt x="9029" y="5435"/>
                  <a:pt x="9079" y="5417"/>
                  <a:pt x="9153" y="5358"/>
                </a:cubicBezTo>
              </a:path>
              <a:path w="6029" h="1365">
                <a:moveTo>
                  <a:pt x="9475" y="4812"/>
                </a:moveTo>
                <a:cubicBezTo>
                  <a:pt x="9454" y="4902"/>
                  <a:pt x="9416" y="4997"/>
                  <a:pt x="9401" y="5085"/>
                </a:cubicBezTo>
                <a:cubicBezTo>
                  <a:pt x="9386" y="5175"/>
                  <a:pt x="9422" y="5238"/>
                  <a:pt x="9475" y="5308"/>
                </a:cubicBezTo>
                <a:cubicBezTo>
                  <a:pt x="9513" y="5358"/>
                  <a:pt x="9556" y="5401"/>
                  <a:pt x="9624" y="5383"/>
                </a:cubicBezTo>
                <a:cubicBezTo>
                  <a:pt x="9687" y="5366"/>
                  <a:pt x="9750" y="5228"/>
                  <a:pt x="9773" y="5184"/>
                </a:cubicBezTo>
                <a:cubicBezTo>
                  <a:pt x="9811" y="5113"/>
                  <a:pt x="9805" y="5057"/>
                  <a:pt x="9773" y="4986"/>
                </a:cubicBezTo>
                <a:cubicBezTo>
                  <a:pt x="9756" y="4949"/>
                  <a:pt x="9711" y="4856"/>
                  <a:pt x="9674" y="4837"/>
                </a:cubicBezTo>
                <a:cubicBezTo>
                  <a:pt x="9613" y="4805"/>
                  <a:pt x="9527" y="4794"/>
                  <a:pt x="9475" y="4837"/>
                </a:cubicBezTo>
                <a:cubicBezTo>
                  <a:pt x="9448" y="4865"/>
                  <a:pt x="9440" y="4879"/>
                  <a:pt x="9451" y="4911"/>
                </a:cubicBezTo>
              </a:path>
              <a:path w="6029" h="1365">
                <a:moveTo>
                  <a:pt x="10368" y="4688"/>
                </a:moveTo>
                <a:cubicBezTo>
                  <a:pt x="10299" y="4688"/>
                  <a:pt x="10206" y="4685"/>
                  <a:pt x="10145" y="4713"/>
                </a:cubicBezTo>
                <a:cubicBezTo>
                  <a:pt x="10103" y="4733"/>
                  <a:pt x="10030" y="4815"/>
                  <a:pt x="10046" y="4862"/>
                </a:cubicBezTo>
                <a:cubicBezTo>
                  <a:pt x="10069" y="4930"/>
                  <a:pt x="10162" y="4978"/>
                  <a:pt x="10220" y="5011"/>
                </a:cubicBezTo>
                <a:cubicBezTo>
                  <a:pt x="10300" y="5056"/>
                  <a:pt x="10398" y="5133"/>
                  <a:pt x="10443" y="5209"/>
                </a:cubicBezTo>
                <a:cubicBezTo>
                  <a:pt x="10493" y="5293"/>
                  <a:pt x="10426" y="5342"/>
                  <a:pt x="10344" y="5358"/>
                </a:cubicBezTo>
                <a:cubicBezTo>
                  <a:pt x="10269" y="5373"/>
                  <a:pt x="10211" y="5342"/>
                  <a:pt x="10145" y="5333"/>
                </a:cubicBezTo>
              </a:path>
              <a:path w="6029" h="1365">
                <a:moveTo>
                  <a:pt x="10790" y="4787"/>
                </a:moveTo>
                <a:cubicBezTo>
                  <a:pt x="10822" y="4866"/>
                  <a:pt x="10848" y="4959"/>
                  <a:pt x="10889" y="5035"/>
                </a:cubicBezTo>
                <a:cubicBezTo>
                  <a:pt x="10925" y="5103"/>
                  <a:pt x="10993" y="5147"/>
                  <a:pt x="11038" y="5209"/>
                </a:cubicBezTo>
                <a:cubicBezTo>
                  <a:pt x="11082" y="5269"/>
                  <a:pt x="11147" y="5314"/>
                  <a:pt x="11212" y="5358"/>
                </a:cubicBezTo>
                <a:cubicBezTo>
                  <a:pt x="11268" y="5396"/>
                  <a:pt x="11287" y="5387"/>
                  <a:pt x="11336" y="5358"/>
                </a:cubicBezTo>
              </a:path>
              <a:path w="6029" h="1365">
                <a:moveTo>
                  <a:pt x="11311" y="4787"/>
                </a:moveTo>
                <a:cubicBezTo>
                  <a:pt x="11251" y="4822"/>
                  <a:pt x="11217" y="4869"/>
                  <a:pt x="11162" y="4911"/>
                </a:cubicBezTo>
                <a:cubicBezTo>
                  <a:pt x="11083" y="4971"/>
                  <a:pt x="11018" y="5052"/>
                  <a:pt x="10939" y="5110"/>
                </a:cubicBezTo>
                <a:cubicBezTo>
                  <a:pt x="10873" y="5158"/>
                  <a:pt x="10831" y="5220"/>
                  <a:pt x="10765" y="5259"/>
                </a:cubicBezTo>
                <a:cubicBezTo>
                  <a:pt x="10722" y="5284"/>
                  <a:pt x="10685" y="5322"/>
                  <a:pt x="10641" y="5333"/>
                </a:cubicBezTo>
              </a:path>
              <a:path w="6029" h="1365">
                <a:moveTo>
                  <a:pt x="12154" y="5159"/>
                </a:moveTo>
                <a:cubicBezTo>
                  <a:pt x="12096" y="5218"/>
                  <a:pt x="12055" y="5219"/>
                  <a:pt x="12129" y="5234"/>
                </a:cubicBezTo>
                <a:cubicBezTo>
                  <a:pt x="12101" y="5205"/>
                  <a:pt x="12088" y="5197"/>
                  <a:pt x="12055" y="5209"/>
                </a:cubicBezTo>
              </a:path>
              <a:path w="6029" h="1365">
                <a:moveTo>
                  <a:pt x="13841" y="4068"/>
                </a:moveTo>
                <a:cubicBezTo>
                  <a:pt x="13831" y="4203"/>
                  <a:pt x="13784" y="4332"/>
                  <a:pt x="13767" y="4465"/>
                </a:cubicBezTo>
                <a:cubicBezTo>
                  <a:pt x="13754" y="4563"/>
                  <a:pt x="13726" y="4669"/>
                  <a:pt x="13717" y="4762"/>
                </a:cubicBezTo>
                <a:cubicBezTo>
                  <a:pt x="13703" y="4896"/>
                  <a:pt x="13740" y="5033"/>
                  <a:pt x="13692" y="5159"/>
                </a:cubicBezTo>
              </a:path>
              <a:path w="6029" h="1365">
                <a:moveTo>
                  <a:pt x="12874" y="5234"/>
                </a:moveTo>
                <a:cubicBezTo>
                  <a:pt x="12969" y="5258"/>
                  <a:pt x="13071" y="5273"/>
                  <a:pt x="13171" y="5259"/>
                </a:cubicBezTo>
                <a:cubicBezTo>
                  <a:pt x="13332" y="5237"/>
                  <a:pt x="13480" y="5234"/>
                  <a:pt x="13643" y="5234"/>
                </a:cubicBezTo>
                <a:cubicBezTo>
                  <a:pt x="13977" y="5234"/>
                  <a:pt x="14922" y="5381"/>
                  <a:pt x="14635" y="5209"/>
                </a:cubicBezTo>
                <a:cubicBezTo>
                  <a:pt x="14618" y="5209"/>
                  <a:pt x="14602" y="5209"/>
                  <a:pt x="14585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6215040" y="1455840"/>
            <a:ext cx="642960" cy="536400"/>
          </a:xfrm>
          <a:custGeom>
            <a:avLst/>
            <a:gdLst/>
            <a:ahLst/>
            <a:rect l="l" t="t" r="r" b="b"/>
            <a:pathLst>
              <a:path w="1787" h="1489">
                <a:moveTo>
                  <a:pt x="17264" y="4688"/>
                </a:moveTo>
                <a:cubicBezTo>
                  <a:pt x="17449" y="4688"/>
                  <a:pt x="17633" y="4690"/>
                  <a:pt x="17810" y="4713"/>
                </a:cubicBezTo>
                <a:cubicBezTo>
                  <a:pt x="17905" y="4726"/>
                  <a:pt x="18011" y="4713"/>
                  <a:pt x="18107" y="4713"/>
                </a:cubicBezTo>
              </a:path>
              <a:path w="1787" h="1489">
                <a:moveTo>
                  <a:pt x="17289" y="5110"/>
                </a:moveTo>
                <a:cubicBezTo>
                  <a:pt x="17383" y="5099"/>
                  <a:pt x="17496" y="5105"/>
                  <a:pt x="17587" y="5085"/>
                </a:cubicBezTo>
                <a:cubicBezTo>
                  <a:pt x="17673" y="5066"/>
                  <a:pt x="17769" y="5045"/>
                  <a:pt x="17859" y="5035"/>
                </a:cubicBezTo>
                <a:cubicBezTo>
                  <a:pt x="17914" y="5029"/>
                  <a:pt x="18134" y="5035"/>
                  <a:pt x="18107" y="5035"/>
                </a:cubicBezTo>
              </a:path>
              <a:path w="1787" h="1489">
                <a:moveTo>
                  <a:pt x="19025" y="4068"/>
                </a:moveTo>
                <a:cubicBezTo>
                  <a:pt x="19064" y="4029"/>
                  <a:pt x="19025" y="4173"/>
                  <a:pt x="19025" y="4242"/>
                </a:cubicBezTo>
                <a:cubicBezTo>
                  <a:pt x="19025" y="4344"/>
                  <a:pt x="18986" y="4436"/>
                  <a:pt x="18976" y="4539"/>
                </a:cubicBezTo>
                <a:cubicBezTo>
                  <a:pt x="18965" y="4655"/>
                  <a:pt x="18955" y="4771"/>
                  <a:pt x="18951" y="4887"/>
                </a:cubicBezTo>
                <a:cubicBezTo>
                  <a:pt x="18946" y="5042"/>
                  <a:pt x="18953" y="5188"/>
                  <a:pt x="18976" y="5333"/>
                </a:cubicBezTo>
                <a:cubicBezTo>
                  <a:pt x="18986" y="5395"/>
                  <a:pt x="18987" y="5507"/>
                  <a:pt x="18951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3133800" y="1697040"/>
            <a:ext cx="876240" cy="268200"/>
          </a:xfrm>
          <a:custGeom>
            <a:avLst/>
            <a:gdLst/>
            <a:ahLst/>
            <a:rect l="l" t="t" r="r" b="b"/>
            <a:pathLst>
              <a:path w="2432" h="745">
                <a:moveTo>
                  <a:pt x="8706" y="5457"/>
                </a:moveTo>
                <a:cubicBezTo>
                  <a:pt x="8791" y="5426"/>
                  <a:pt x="8880" y="5382"/>
                  <a:pt x="8954" y="5358"/>
                </a:cubicBezTo>
                <a:cubicBezTo>
                  <a:pt x="9111" y="5308"/>
                  <a:pt x="9273" y="5276"/>
                  <a:pt x="9426" y="5209"/>
                </a:cubicBezTo>
                <a:cubicBezTo>
                  <a:pt x="9640" y="5115"/>
                  <a:pt x="9846" y="5073"/>
                  <a:pt x="10071" y="5011"/>
                </a:cubicBezTo>
                <a:cubicBezTo>
                  <a:pt x="10276" y="4955"/>
                  <a:pt x="10488" y="4919"/>
                  <a:pt x="10691" y="4862"/>
                </a:cubicBezTo>
                <a:cubicBezTo>
                  <a:pt x="10825" y="4824"/>
                  <a:pt x="10980" y="4779"/>
                  <a:pt x="11112" y="4738"/>
                </a:cubicBezTo>
                <a:cubicBezTo>
                  <a:pt x="11185" y="4715"/>
                  <a:pt x="11092" y="4738"/>
                  <a:pt x="11063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4483080" y="2089080"/>
            <a:ext cx="2224080" cy="1241640"/>
          </a:xfrm>
          <a:custGeom>
            <a:avLst/>
            <a:gdLst/>
            <a:ahLst/>
            <a:rect l="l" t="t" r="r" b="b"/>
            <a:pathLst>
              <a:path w="6177" h="3449">
                <a:moveTo>
                  <a:pt x="13246" y="5804"/>
                </a:moveTo>
                <a:cubicBezTo>
                  <a:pt x="13246" y="5870"/>
                  <a:pt x="13246" y="5937"/>
                  <a:pt x="13246" y="6003"/>
                </a:cubicBezTo>
                <a:cubicBezTo>
                  <a:pt x="13226" y="5949"/>
                  <a:pt x="13218" y="5870"/>
                  <a:pt x="13171" y="5829"/>
                </a:cubicBezTo>
                <a:cubicBezTo>
                  <a:pt x="13117" y="5782"/>
                  <a:pt x="13004" y="5804"/>
                  <a:pt x="12948" y="5829"/>
                </a:cubicBezTo>
                <a:cubicBezTo>
                  <a:pt x="12888" y="5856"/>
                  <a:pt x="12842" y="5956"/>
                  <a:pt x="12799" y="6003"/>
                </a:cubicBezTo>
                <a:cubicBezTo>
                  <a:pt x="12747" y="6060"/>
                  <a:pt x="12728" y="6125"/>
                  <a:pt x="12725" y="6201"/>
                </a:cubicBezTo>
                <a:cubicBezTo>
                  <a:pt x="12721" y="6286"/>
                  <a:pt x="12724" y="6352"/>
                  <a:pt x="12774" y="6424"/>
                </a:cubicBezTo>
                <a:cubicBezTo>
                  <a:pt x="12824" y="6497"/>
                  <a:pt x="12964" y="6523"/>
                  <a:pt x="13047" y="6499"/>
                </a:cubicBezTo>
                <a:cubicBezTo>
                  <a:pt x="13077" y="6469"/>
                  <a:pt x="13091" y="6458"/>
                  <a:pt x="13122" y="6449"/>
                </a:cubicBezTo>
              </a:path>
              <a:path w="6177" h="3449">
                <a:moveTo>
                  <a:pt x="13444" y="6003"/>
                </a:moveTo>
                <a:cubicBezTo>
                  <a:pt x="13404" y="6063"/>
                  <a:pt x="13379" y="6134"/>
                  <a:pt x="13345" y="6201"/>
                </a:cubicBezTo>
                <a:cubicBezTo>
                  <a:pt x="13303" y="6284"/>
                  <a:pt x="13307" y="6388"/>
                  <a:pt x="13345" y="6474"/>
                </a:cubicBezTo>
                <a:cubicBezTo>
                  <a:pt x="13387" y="6567"/>
                  <a:pt x="13488" y="6502"/>
                  <a:pt x="13543" y="6474"/>
                </a:cubicBezTo>
                <a:cubicBezTo>
                  <a:pt x="13634" y="6428"/>
                  <a:pt x="13653" y="6387"/>
                  <a:pt x="13692" y="6300"/>
                </a:cubicBezTo>
                <a:cubicBezTo>
                  <a:pt x="13719" y="6241"/>
                  <a:pt x="13782" y="6170"/>
                  <a:pt x="13767" y="6102"/>
                </a:cubicBezTo>
                <a:cubicBezTo>
                  <a:pt x="13753" y="6037"/>
                  <a:pt x="13687" y="5953"/>
                  <a:pt x="13643" y="5904"/>
                </a:cubicBezTo>
                <a:cubicBezTo>
                  <a:pt x="13572" y="5825"/>
                  <a:pt x="13471" y="5859"/>
                  <a:pt x="13395" y="5904"/>
                </a:cubicBezTo>
                <a:cubicBezTo>
                  <a:pt x="13317" y="5950"/>
                  <a:pt x="13344" y="5985"/>
                  <a:pt x="13395" y="6028"/>
                </a:cubicBezTo>
              </a:path>
              <a:path w="6177" h="3449">
                <a:moveTo>
                  <a:pt x="14188" y="5879"/>
                </a:moveTo>
                <a:cubicBezTo>
                  <a:pt x="14135" y="5886"/>
                  <a:pt x="14060" y="5906"/>
                  <a:pt x="14015" y="5928"/>
                </a:cubicBezTo>
                <a:cubicBezTo>
                  <a:pt x="13966" y="5953"/>
                  <a:pt x="13909" y="5993"/>
                  <a:pt x="13866" y="6028"/>
                </a:cubicBezTo>
                <a:cubicBezTo>
                  <a:pt x="13909" y="6114"/>
                  <a:pt x="13929" y="6133"/>
                  <a:pt x="14015" y="6176"/>
                </a:cubicBezTo>
                <a:cubicBezTo>
                  <a:pt x="14087" y="6212"/>
                  <a:pt x="14187" y="6301"/>
                  <a:pt x="14213" y="6375"/>
                </a:cubicBezTo>
                <a:cubicBezTo>
                  <a:pt x="14234" y="6434"/>
                  <a:pt x="14202" y="6514"/>
                  <a:pt x="14139" y="6524"/>
                </a:cubicBezTo>
                <a:cubicBezTo>
                  <a:pt x="14066" y="6536"/>
                  <a:pt x="13962" y="6554"/>
                  <a:pt x="13891" y="6524"/>
                </a:cubicBezTo>
                <a:cubicBezTo>
                  <a:pt x="13849" y="6506"/>
                  <a:pt x="13866" y="6459"/>
                  <a:pt x="13866" y="6424"/>
                </a:cubicBezTo>
              </a:path>
              <a:path w="6177" h="3449">
                <a:moveTo>
                  <a:pt x="14412" y="5978"/>
                </a:moveTo>
                <a:cubicBezTo>
                  <a:pt x="14433" y="6044"/>
                  <a:pt x="14429" y="6149"/>
                  <a:pt x="14486" y="6201"/>
                </a:cubicBezTo>
                <a:cubicBezTo>
                  <a:pt x="14554" y="6264"/>
                  <a:pt x="14625" y="6375"/>
                  <a:pt x="14709" y="6424"/>
                </a:cubicBezTo>
                <a:cubicBezTo>
                  <a:pt x="14781" y="6466"/>
                  <a:pt x="14820" y="6519"/>
                  <a:pt x="14908" y="6524"/>
                </a:cubicBezTo>
                <a:cubicBezTo>
                  <a:pt x="14972" y="6528"/>
                  <a:pt x="15016" y="6539"/>
                  <a:pt x="15032" y="6474"/>
                </a:cubicBezTo>
              </a:path>
              <a:path w="6177" h="3449">
                <a:moveTo>
                  <a:pt x="14858" y="5978"/>
                </a:moveTo>
                <a:cubicBezTo>
                  <a:pt x="14729" y="6093"/>
                  <a:pt x="14607" y="6204"/>
                  <a:pt x="14486" y="6325"/>
                </a:cubicBezTo>
                <a:cubicBezTo>
                  <a:pt x="14423" y="6388"/>
                  <a:pt x="14388" y="6452"/>
                  <a:pt x="14337" y="6524"/>
                </a:cubicBezTo>
              </a:path>
              <a:path w="6177" h="3449">
                <a:moveTo>
                  <a:pt x="17140" y="8285"/>
                </a:moveTo>
                <a:cubicBezTo>
                  <a:pt x="17228" y="8293"/>
                  <a:pt x="17300" y="8322"/>
                  <a:pt x="17388" y="8334"/>
                </a:cubicBezTo>
                <a:cubicBezTo>
                  <a:pt x="17449" y="8342"/>
                  <a:pt x="17528" y="8342"/>
                  <a:pt x="17587" y="8359"/>
                </a:cubicBezTo>
                <a:cubicBezTo>
                  <a:pt x="17627" y="8379"/>
                  <a:pt x="17633" y="8388"/>
                  <a:pt x="17661" y="8384"/>
                </a:cubicBezTo>
              </a:path>
              <a:path w="6177" h="3449">
                <a:moveTo>
                  <a:pt x="17066" y="8582"/>
                </a:moveTo>
                <a:cubicBezTo>
                  <a:pt x="17132" y="8650"/>
                  <a:pt x="17149" y="8611"/>
                  <a:pt x="17239" y="8632"/>
                </a:cubicBezTo>
                <a:cubicBezTo>
                  <a:pt x="17342" y="8657"/>
                  <a:pt x="17452" y="8693"/>
                  <a:pt x="17562" y="8706"/>
                </a:cubicBezTo>
                <a:cubicBezTo>
                  <a:pt x="17632" y="8714"/>
                  <a:pt x="17673" y="8705"/>
                  <a:pt x="17735" y="8682"/>
                </a:cubicBezTo>
              </a:path>
              <a:path w="6177" h="3449">
                <a:moveTo>
                  <a:pt x="18628" y="7838"/>
                </a:moveTo>
                <a:cubicBezTo>
                  <a:pt x="18602" y="7929"/>
                  <a:pt x="18600" y="8020"/>
                  <a:pt x="18579" y="8111"/>
                </a:cubicBezTo>
                <a:cubicBezTo>
                  <a:pt x="18555" y="8214"/>
                  <a:pt x="18537" y="8326"/>
                  <a:pt x="18554" y="8434"/>
                </a:cubicBezTo>
                <a:cubicBezTo>
                  <a:pt x="18573" y="8559"/>
                  <a:pt x="18564" y="8681"/>
                  <a:pt x="18579" y="8806"/>
                </a:cubicBezTo>
                <a:cubicBezTo>
                  <a:pt x="18586" y="8869"/>
                  <a:pt x="18581" y="9061"/>
                  <a:pt x="18604" y="9128"/>
                </a:cubicBezTo>
                <a:cubicBezTo>
                  <a:pt x="18612" y="9151"/>
                  <a:pt x="18628" y="9282"/>
                  <a:pt x="18628" y="9227"/>
                </a:cubicBezTo>
              </a:path>
              <a:path w="6177" h="3449">
                <a:moveTo>
                  <a:pt x="12452" y="6524"/>
                </a:moveTo>
                <a:cubicBezTo>
                  <a:pt x="12491" y="6506"/>
                  <a:pt x="12536" y="6462"/>
                  <a:pt x="12576" y="6449"/>
                </a:cubicBezTo>
                <a:cubicBezTo>
                  <a:pt x="12666" y="6419"/>
                  <a:pt x="12779" y="6398"/>
                  <a:pt x="12874" y="6375"/>
                </a:cubicBezTo>
                <a:cubicBezTo>
                  <a:pt x="13050" y="6332"/>
                  <a:pt x="13238" y="6329"/>
                  <a:pt x="13419" y="6300"/>
                </a:cubicBezTo>
                <a:cubicBezTo>
                  <a:pt x="13741" y="6248"/>
                  <a:pt x="14064" y="6210"/>
                  <a:pt x="14387" y="6176"/>
                </a:cubicBezTo>
                <a:cubicBezTo>
                  <a:pt x="14440" y="6170"/>
                  <a:pt x="14559" y="6166"/>
                  <a:pt x="14585" y="6102"/>
                </a:cubicBezTo>
                <a:cubicBezTo>
                  <a:pt x="14561" y="6054"/>
                  <a:pt x="14555" y="6037"/>
                  <a:pt x="14511" y="6052"/>
                </a:cubicBezTo>
              </a:path>
              <a:path w="6177" h="3449">
                <a:moveTo>
                  <a:pt x="15677" y="7665"/>
                </a:moveTo>
                <a:cubicBezTo>
                  <a:pt x="15634" y="7706"/>
                  <a:pt x="15610" y="7753"/>
                  <a:pt x="15602" y="7813"/>
                </a:cubicBezTo>
                <a:cubicBezTo>
                  <a:pt x="15584" y="7953"/>
                  <a:pt x="15594" y="8099"/>
                  <a:pt x="15602" y="8235"/>
                </a:cubicBezTo>
                <a:cubicBezTo>
                  <a:pt x="15609" y="8361"/>
                  <a:pt x="15615" y="8483"/>
                  <a:pt x="15627" y="8607"/>
                </a:cubicBezTo>
                <a:cubicBezTo>
                  <a:pt x="15636" y="8702"/>
                  <a:pt x="15662" y="8791"/>
                  <a:pt x="15677" y="8880"/>
                </a:cubicBezTo>
                <a:cubicBezTo>
                  <a:pt x="15677" y="8925"/>
                  <a:pt x="15673" y="8938"/>
                  <a:pt x="15701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9-11-18T15:41:01Z</dcterms:modified>
  <cp:revision>31</cp:revision>
  <dc:subject/>
  <dc:title>Lesson 5.2 part one</dc:title>
</cp:coreProperties>
</file>